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338-9B97-4B10-9F6C-F9C1873A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02C-36CB-477C-955B-374344D2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A6D-8DE6-4EC1-B39A-BD5786D1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546-211C-41B0-9648-F7E86345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7F25-FC06-4EE7-AE9F-7E90DD88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B4D9-90F6-4A0C-8A15-2184B0A0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1DEC-FD36-4AB8-B873-7BA8C432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3F2A-AF95-4A82-A5CB-A96232C6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3A60-E27E-40F8-8F59-CF38936A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7750-68B1-480B-903D-8100628E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2842-62F8-4D95-9411-EFDE0EFC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80F-45C5-4280-9C65-6F428071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D211-72B4-4E98-B530-53B30441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EE73-C440-4805-BAA8-FE3F5051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57B5-814D-46DD-88D5-76899437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4A40-7D8E-4F9C-9C18-D4FCCD9A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E01C-39D5-42D8-A63E-947623ED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CE653-0F5C-4498-A145-4931C4C4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65A0-2EE1-474B-A26A-D961AE1A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3B37-C62D-4D18-9272-F947092E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D09E5-F3A5-4B38-A717-5084411D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76D14-F50F-4FA5-99FC-691FAC27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2A47-58C8-4DDF-A91A-DB3063BE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05EE-EC19-4A64-994D-15D684B9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E51C-7637-436B-9369-8D7165BF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1F62-4D93-4D1B-A183-F6F3B20A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101F1-3BB2-41F6-BCF1-D8F77FA6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CB4F-2432-4FF0-8E1F-43A4813F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5ED03-ED7A-4B50-AD6E-96D5B9F8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9345-312C-4A4B-908A-F1638B4A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BDC0-F665-4D3C-8063-92454FCD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A029-A0B6-4AC4-839B-48DB47AF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A79C0-CB4E-4248-A65A-28FB474A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04D-D87E-4ED9-B2EA-70FD5263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215CB-5FFE-4425-AD8B-55772430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4FD11-2F55-4AF3-8D05-4DD090A2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E350-1A98-450D-972E-05DE633E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79B5D-5568-4D2D-9021-6A82EF62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46C7A-32AF-47F2-8193-3727A14C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37FDA-D4B4-4831-800D-A0500237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61C0-E3F4-4D12-8CDF-0127F084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EC8B3-1258-4891-AA6B-96D89F87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C4AD-6106-4A85-AB99-E28B75DE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874-E37A-427A-A039-D5D3D646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550-CEF9-46E7-AD17-75E2A2FB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EDA-2199-4866-8B54-A1C40FD0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52D-2E28-47EB-8C0A-AA7C9CD3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5DC-1BF3-4834-B3C6-85D375BB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55AF-A8D0-4952-A909-2FEB733AD761}" type="slidenum"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50F7-C8D1-4D3B-896B-D18CB7A3E12F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3522-AC14-4C46-9CCA-85DAF67ED509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D866-1A0B-469E-9870-35F7ADD0D911}" type="slidenum"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249120" y="493560"/>
            <a:ext cx="85471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76a55"/>
                </a:solidFill>
                <a:latin typeface="Calibri"/>
              </a:rPr>
              <a:t>Del trabajo con amor</a:t>
            </a:r>
            <a:br>
              <a:rPr sz="2400"/>
            </a:b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De “El Profeta” de Khalil Gibrán</a:t>
            </a:r>
            <a:endParaRPr b="0" lang="en-US" sz="2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Constantia"/>
              </a:rPr>
              <a:t>¿</a:t>
            </a: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que es trabajar con amor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tejer la tela con fibras de vuestro propio corazón, como si la fuera a vestir el ser amad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construir la casa con cariño, como si el ser amado fuera a vivir en ell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sembrar con ternura y cosechar con alegría, como si el ser amado esperase aquel fruto. Es dar vuestro sello a cada labor; y es recordar que vigilantes, os acompañan siempre los antepasado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l trabajo es la materialización del amo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si no podéis trabajar con amor y sólo lo hacéis a disgusto, es mejor que abandonéis toda labor y os sentéis a la puerta del templo a recibir limosna de aquellos que trabajan con alegrí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Pues si amasáis el pan con desgano, será el pan amargo que sólo a medias quite el hambr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si exprimís de mala gana los racimos, vuestra indiferencia destila su veneno en el vin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aunque cantéis como los mismos ángeles, si no amáis el canto, ensordeceréis los oídos del hombre a las voces del día y de la noch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676a55"/>
                </a:solidFill>
                <a:latin typeface="Calibri"/>
              </a:rPr>
              <a:t>Mensaje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97" name="3 Marcador de contenido" descr=""/>
          <p:cNvPicPr/>
          <p:nvPr/>
        </p:nvPicPr>
        <p:blipFill>
          <a:blip r:embed="rId1"/>
          <a:stretch/>
        </p:blipFill>
        <p:spPr>
          <a:xfrm>
            <a:off x="1143000" y="1785960"/>
            <a:ext cx="67579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1 CuadroTexto"/>
          <p:cNvSpPr/>
          <p:nvPr/>
        </p:nvSpPr>
        <p:spPr>
          <a:xfrm>
            <a:off x="0" y="0"/>
            <a:ext cx="88581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USTIN SQUEL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MIO NACIONAL DE HUMANIDADES Y CIENCI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 RECIBIR SU PREMIO MANIFEST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 POBRE DE PALABRAS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 POBRE DE PENS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PALABRAS PENS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PERCIB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NOMBR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RECORD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DISTUINGU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RELACION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NOS DIVERT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ACTU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PALABRAS PERMITEN INTERVENIR Y TRANSFORMAR 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DER LAS PALABRAS ES PERDER LAS COSAS QUE ELLAS DESIGNAN, DE MANERA QUE CUANDO NUESTRO LENGUAJE SE EMPOBRECE, LO QUE SE EMPROBECE ES LA PROPIA REALIDAD, Y LA COMPRENSIÓN QUE TENEMOS DE 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1 CuadroTexto"/>
          <p:cNvSpPr/>
          <p:nvPr/>
        </p:nvSpPr>
        <p:spPr>
          <a:xfrm>
            <a:off x="0" y="500040"/>
            <a:ext cx="9144000" cy="66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IEN DISPONE DE UNA MAYOR CANTIDAD DE PALABRAS PERCIBE MÁS DE LA REALIDAD Y ES TAMBIÉN CAPAZ DE DAR MEJOR CUENTA DE É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DUCADORA MABEL CONDEMARÍN EJEMPLIFICABA DE LA SIGUIENTES MANERA UNA SI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S PERSONAS PUESTAS FRENTE A UNA GRAN CANTIDAD Y DIVERSIDAD DE ÁRBOLES, UNA DE ELLAS EXCL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¡ QUE LINDO  BOS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OTRA DIJO ¡ QUE LINDO EL BOSQUE COMPUESTO DE QUILLAYES BOLDOS, PEUMOS Y PATAGU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 CUÁL DE ESAS DOS PERSONAS PERCIBE Y TRANSMITE MEJOR LA RE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70c0"/>
                </a:solidFill>
                <a:latin typeface="Arial"/>
              </a:rPr>
              <a:t>NO SEAN SUJETOS DE POCAS PALABRAS………………………… LEAN ….LEAN … 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70c0"/>
                </a:solidFill>
                <a:latin typeface="Arial"/>
              </a:rPr>
              <a:t>Y NO PIERDAN SUS PALABRAS Y  VOCABUL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676a55"/>
                </a:solidFill>
                <a:latin typeface="Calibri"/>
              </a:rPr>
              <a:t>Sistemas que permiten la producción de la voz</a:t>
            </a:r>
            <a:endParaRPr b="0" lang="en-US" sz="3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1" name="4 Marcador de contenido" descr=""/>
          <p:cNvPicPr/>
          <p:nvPr/>
        </p:nvPicPr>
        <p:blipFill>
          <a:blip r:embed="rId1"/>
          <a:stretch/>
        </p:blipFill>
        <p:spPr>
          <a:xfrm>
            <a:off x="438120" y="1925640"/>
            <a:ext cx="82677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76a55"/>
                </a:solidFill>
                <a:latin typeface="Calibri"/>
              </a:rPr>
              <a:t>Manejo de la técnica respiratoria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El éxito de la técnica respiratoria reside en la correcta utilización del aire y del sonido de un cuerpo libre de tensiones, para ello debem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tar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ecánica respirat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aliza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imnasia respiratori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a fortalecer la musculatura comprometida en el proce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acticar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l y desarrollo de la capacidad respirat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76a55"/>
                </a:solidFill>
                <a:latin typeface="Calibri"/>
              </a:rPr>
              <a:t>Ejercicios: Trabalenguas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5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242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676a55"/>
                </a:solidFill>
                <a:latin typeface="Calibri"/>
              </a:rPr>
              <a:t>Ejercicios: Refranes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7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847880"/>
            <a:ext cx="82425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676a55"/>
                </a:solidFill>
                <a:latin typeface="Calibri"/>
              </a:rPr>
              <a:t>Manejo Vocal</a:t>
            </a:r>
            <a:endParaRPr b="0" lang="en-US" sz="45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9" name="14 Diagrama" descr=""/>
          <p:cNvPicPr/>
          <p:nvPr/>
        </p:nvPicPr>
        <p:blipFill>
          <a:blip r:embed="rId1"/>
          <a:stretch/>
        </p:blipFill>
        <p:spPr>
          <a:xfrm>
            <a:off x="-6480" y="628560"/>
            <a:ext cx="9369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5:36:02Z</dcterms:created>
  <dc:creator>Jorge Barros</dc:creator>
  <dc:description/>
  <dc:language>en-US</dc:language>
  <cp:lastModifiedBy>mati</cp:lastModifiedBy>
  <dcterms:modified xsi:type="dcterms:W3CDTF">2010-03-25T15:17:20Z</dcterms:modified>
  <cp:revision>21</cp:revision>
  <dc:subject/>
  <dc:title>Técnicas de Oratoria como apoyo expresivo en la comunicación</dc:title>
</cp:coreProperties>
</file>