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8FB-0F9B-435A-B2AB-23A3E169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360-9EED-43A9-8604-DF69C7F1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A89-FFE1-4853-B216-D28DEC69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E0B-54B3-41AD-A916-CD56EC32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0BE0-FF60-49FD-ACE8-7EA9EBBC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8E75-6894-49D6-AD3B-7CD82A9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88D0-BE7B-4AD8-9C6D-7A478D05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5061-1928-4CD8-8E4D-EE1C854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8F20-FD92-41B8-AD51-902F4CB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CAE-6890-4291-80E1-720F4E6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4923-5B24-4264-A99E-4FA884C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1B3-9588-44B4-BABB-05C333E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BC4-BF52-436B-B548-F0A6DA48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ECF2-8B77-464A-9C7A-9EB312D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375B-58AB-4EE1-B76B-1F2D3EE2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4A93-1843-4681-B757-3E2F034A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C59E-F409-487A-B86D-655E59FF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30C5-DA4A-400D-A0B6-42B0D06A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AA00-54D2-4A21-B63B-27ED183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DB77-CA1B-47A2-BA6E-F34DACA8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132F-2313-41B4-8792-22124C68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9880-650D-4CB7-8A3F-8124992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D7F-41AC-4C47-AF31-39947980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A197-1443-43D5-84C5-D959F7D9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EE55-1DB7-453D-9B9B-D408F48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B895-6C10-487E-B730-7C5AD27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78E24-BE2A-48DD-BE27-F75F29A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FD14-DA2B-4D09-BF5A-2F735D15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470D-C0D6-4633-9CEC-CC1D1E54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89BE-8E6B-41BB-B8EA-89128FAC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4B61-5E11-4CDA-8E97-5FEEB4C4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8245-1A8C-4A46-97CD-E4088BA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2896-1010-41E6-B5DF-2F0B21D1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CE0-6953-4CC6-A3D4-256C1840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3A9F-4997-45D5-9E67-E6EF3DBA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F40C-D62F-4F6E-8119-3C28E4E0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ADBCE-61A9-4CDF-A482-828749C8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1BD3-8C2C-41E0-8077-3668C061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B01F-6F69-494B-9C87-4745DEC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A1A7-0284-4F51-898C-AE159DC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9815-D36A-4B74-8F3A-F85792B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CCC7D-0FAB-49E7-94BE-C90BF3B1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CE72-AA37-43A5-8EBB-9776521E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7AC-ADAF-4165-851D-3D08C84C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87F-C61C-4E3B-AD86-C3A4BFE8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C6F-1664-4C45-84BA-6BA83A4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E8F-9044-4B73-9123-31632A5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EC3-F106-4363-85A6-9AE57F2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60C1-9131-4C09-A7AF-8A541FC480DC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8E38-0B61-4C11-BE45-73BC1BAAC4E8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0BE-0005-4E9B-8C48-C3FFDB02CCB4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CDF-113C-4800-B9BF-F5CE8DA5869A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249120" y="493560"/>
            <a:ext cx="8547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76a55"/>
                </a:solidFill>
                <a:latin typeface="Calibri"/>
              </a:rPr>
              <a:t>Del trabajo con amor</a:t>
            </a:r>
            <a:br>
              <a:rPr sz="2400"/>
            </a:b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De “El Profeta” de Khalil Gibrán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Constantia"/>
              </a:rPr>
              <a:t>¿</a:t>
            </a: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que es trabajar con amo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tejer la tela con fibras de vuestro propio corazón, como si la fuera a vestir el ser amad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construir la casa con cariño, como si el ser amado fuera a vivir en ell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sembrar con ternura y cosechar con alegría, como si el ser amado esperase aquel fruto. Es dar vuestro sello a cada labor; y es recordar que vigilantes, os acompañan siempre los antepasado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l trabajo es la materialización del amo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no podéis trabajar con amor y sólo lo hacéis a disgusto, es mejor que abandonéis toda labor y os sentéis a la puerta del templo a recibir limosna de aquellos que trabajan con alegrí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Pues si amasáis el pan con desgano, será el pan amargo que sólo a medias quite el hamb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exprimís de mala gana los racimos, vuestra indiferencia destila su veneno en el vi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aunque cantéis como los mismos ángeles, si no amáis el canto, ensordeceréis los oídos del hombre a las voces del día y de la noch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Mensaj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7" name="3 Marcador de contenido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75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0" y="0"/>
            <a:ext cx="8858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USTIN S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MIO NACIONAL DE HUMANIDADES Y CIENCI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RECIBIR SU PREMIO MANIFES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ALABRA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PALABRAS PENS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PERCIB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MB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CORD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DISTUING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LACIO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S DIVERT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ACTU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ALABRAS PERMITEN INTERVENIR Y TRANSFORMAR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ER LAS PALABRAS ES PERDER LAS COSAS QUE ELLAS DESIGNAN, DE MANERA QUE CUANDO NUESTRO LENGUAJE SE EMPOBRECE, LO QUE SE EMPROBECE ES LA PROPIA REALIDAD, Y LA COMPRENSIÓN QUE TENEMOS DE 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1 CuadroTexto"/>
          <p:cNvSpPr/>
          <p:nvPr/>
        </p:nvSpPr>
        <p:spPr>
          <a:xfrm>
            <a:off x="0" y="50004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IEN DISPONE DE UNA MAYOR CANTIDAD DE PALABRAS PERCIBE MÁS DE LA REALIDAD Y ES TAMBIÉN CAPAZ DE DAR MEJOR CUENTA 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DUCADORA MABEL CONDEMARÍN EJEMPLIFICABA DE LA SIGUIENTES MANERA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S PERSONAS PUESTAS FRENTE A UNA GRAN CANTIDAD Y DIVERSIDAD DE ÁRBOLES, UNA DE ELLAS EX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 QUE LINDO  BOS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OTRA DIJO ¡ QUE LINDO EL BOSQUE COMPUESTO DE QUILLAYES BOLDOS, PEUMOS Y PATAGU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 CUÁL DE ESAS DOS PERSONAS PERCIBE Y TRANSMITE MEJOR LA RE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NO SEAN SUJETOS DE POCAS PALABRAS………………………… LEAN ….LEAN … 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Y NO PIERDAN SUS PALABRAS Y  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676a55"/>
                </a:solidFill>
                <a:latin typeface="Calibri"/>
              </a:rPr>
              <a:t>Sistemas que permiten la producción de la voz</a:t>
            </a:r>
            <a:endParaRPr b="0" lang="en-US" sz="3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38120" y="1925640"/>
            <a:ext cx="82677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76a55"/>
                </a:solidFill>
                <a:latin typeface="Calibri"/>
              </a:rPr>
              <a:t>Manejo de la técnica respiratoria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El éxito de la técnica respiratoria reside en la correcta utilización del aire y del sonido de un cuerpo libre de tensiones, para ello debe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tar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ecánica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aliza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imnasia respiratori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fortalecer la musculatura comprometida en el proce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acticar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l y desarrollo de la capacidad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76a55"/>
                </a:solidFill>
                <a:latin typeface="Calibri"/>
              </a:rPr>
              <a:t>Ejercicios: Trabalenguas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Ejercicios: Refranes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847880"/>
            <a:ext cx="8242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676a55"/>
                </a:solidFill>
                <a:latin typeface="Calibri"/>
              </a:rPr>
              <a:t>Manejo Vocal</a:t>
            </a:r>
            <a:endParaRPr b="0" lang="en-US" sz="45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9" name="14 Diagrama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36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36:02Z</dcterms:created>
  <dc:creator>Jorge Barros</dc:creator>
  <dc:description/>
  <dc:language>en-US</dc:language>
  <cp:lastModifiedBy>mati</cp:lastModifiedBy>
  <dcterms:modified xsi:type="dcterms:W3CDTF">2010-03-25T15:17:20Z</dcterms:modified>
  <cp:revision>21</cp:revision>
  <dc:subject/>
  <dc:title>Técnicas de Oratoria como apoyo expresivo en la comunicación</dc:title>
</cp:coreProperties>
</file>