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4C4-3919-40A8-A4F5-F099E488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506-410A-4226-B54D-C2FD7446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E9F6-7907-4C94-BA56-C39A0890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6F47-C411-4BC8-8605-411A37B1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90E4-F2AA-4884-8AA3-789C03A1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3145-5805-4A46-BB22-BB162C96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0362-C238-425F-9B66-50D17446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6978-8B24-435F-9FF7-7F3629A5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BB04-8C3C-46C1-B147-24A98BBC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A404-6055-4EB2-AC80-DC1BD130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C7C2-28ED-453D-9168-28CAF074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DED-3E3D-4DF9-A8A4-A0CB190B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A276-1022-4798-BD27-C600E68B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D560-8FC1-42E8-8459-A4627040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DF01-4EC4-443A-9D0C-2387AC3D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BC26-6AFD-43D9-8251-61AA7F3E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63F9-CA99-477B-8160-425F4483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70608-2EAB-4E6D-AB99-7FA9A1FE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33F59-5E21-48E5-985D-BC2E0561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47C26-AAA2-41A4-B267-B55CB658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8EAA7-F0CD-4F38-9A22-E1E0C369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1F7A6-EE3A-4D85-B731-3EF33D17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52E2-7F6F-4719-B790-189110A9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9738A-FF5B-47A7-A962-E3598223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0E471-468F-4C48-A819-7B722B3E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90040-452E-4377-889E-F00DCF33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A0C34-8A75-4D7E-8390-08828AF1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5ADDD-DE49-468D-98D7-8CBFC421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75E59-6CA8-414E-A447-14AD071E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F22B8-7725-4CAC-A7E9-E7798619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B8248-2594-48A1-9315-67A47353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FC0A7-F273-49E6-A1CC-8DC9477A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EDE28-266E-4C9D-9149-DD471F48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0A6-3463-489A-B06C-46D1BE33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24DE9-E7E3-46C5-BC2E-1AED7AA1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64E3D-96CD-4C84-8DE6-6EF526DF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CD25E-2972-44DF-835B-8169F5DF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5E8B2-899A-4BD9-8047-9BF7D3F7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94F01-F863-410A-BCF2-CEE203E4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FC75A-CC28-47A7-A351-1EDCB7F2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07EA3-1872-4276-B058-80952369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EA033-338C-4F1C-A87F-BE04EA56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57EFC-9D51-4D20-83AD-BAE5AF3C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A8A8-4957-4F61-B15E-B1CC142A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814-A8CC-413B-A6CF-BA2E3E4E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BC6-F140-4759-A6D7-5ECC87AD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872F-7639-4B8C-9686-A1C69BC2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788-6506-40C5-99FD-B5F729FF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7B89-839B-4B41-A80B-29B32EA2B930}" type="slidenum"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29A1-4814-471A-8521-5E91C1B84F73}" type="slidenum"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C986-4528-4917-B106-8616FBF1E915}" type="slidenum"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13EA-39AD-42A0-AC0B-2A254BC52F4F}" type="slidenum"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249120" y="493560"/>
            <a:ext cx="85471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76a55"/>
                </a:solidFill>
                <a:latin typeface="Calibri"/>
              </a:rPr>
              <a:t>Del trabajo con amor</a:t>
            </a:r>
            <a:br>
              <a:rPr sz="2400"/>
            </a:b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De “El Profeta” de Khalil Gibrán</a:t>
            </a:r>
            <a:endParaRPr b="0" lang="en-US" sz="2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7f7f7f"/>
                </a:solidFill>
                <a:latin typeface="Constantia"/>
              </a:rPr>
              <a:t>¿</a:t>
            </a: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que es trabajar con amor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s tejer la tela con fibras de vuestro propio corazón, como si la fuera a vestir el ser amado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s construir la casa con cariño, como si el ser amado fuera a vivir en ella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s sembrar con ternura y cosechar con alegría, como si el ser amado esperase aquel fruto. Es dar vuestro sello a cada labor; y es recordar que vigilantes, os acompañan siempre los antepasados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l trabajo es la materialización del amor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si no podéis trabajar con amor y sólo lo hacéis a disgusto, es mejor que abandonéis toda labor y os sentéis a la puerta del templo a recibir limosna de aquellos que trabajan con alegría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Pues si amasáis el pan con desgano, será el pan amargo que sólo a medias quite el hambr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si exprimís de mala gana los racimos, vuestra indiferencia destila su veneno en el vino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aunque cantéis como los mismos ángeles, si no amáis el canto, ensordeceréis los oídos del hombre a las voces del día y de la noch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676a55"/>
                </a:solidFill>
                <a:latin typeface="Calibri"/>
              </a:rPr>
              <a:t>Mensaje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197" name="3 Marcador de contenido" descr=""/>
          <p:cNvPicPr/>
          <p:nvPr/>
        </p:nvPicPr>
        <p:blipFill>
          <a:blip r:embed="rId1"/>
          <a:stretch/>
        </p:blipFill>
        <p:spPr>
          <a:xfrm>
            <a:off x="1143000" y="1785960"/>
            <a:ext cx="67579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1 CuadroTexto"/>
          <p:cNvSpPr/>
          <p:nvPr/>
        </p:nvSpPr>
        <p:spPr>
          <a:xfrm>
            <a:off x="0" y="0"/>
            <a:ext cx="88581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USTIN SQUEL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MIO NACIONAL DE HUMANIDADES Y CIENCIA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 RECIBIR SU PREMIO MANIFEST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R POBRE DE PALABRAS 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R POBRE DE PENS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PALABRAS PENS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PERCIB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NOMBR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RECORD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DISTUINGU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RELACION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NOS DIVERT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ACTU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S PALABRAS PERMITEN INTERVENIR Y TRANSFORMAR EL M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ERDER LAS PALABRAS ES PERDER LAS COSAS QUE ELLAS DESIGNAN, DE MANERA QUE CUANDO NUESTRO LENGUAJE SE EMPOBRECE, LO QUE SE EMPROBECE ES LA PROPIA REALIDAD, Y LA COMPRENSIÓN QUE TENEMOS DE 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1 CuadroTexto"/>
          <p:cNvSpPr/>
          <p:nvPr/>
        </p:nvSpPr>
        <p:spPr>
          <a:xfrm>
            <a:off x="0" y="500040"/>
            <a:ext cx="9144000" cy="66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QUIEN DISPONE DE UNA MAYOR CANTIDAD DE PALABRAS PERCIBE MÁS DE LA REALIDAD Y ES TAMBIÉN CAPAZ DE DAR MEJOR CUENTA DE É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EDUCADORA MABEL CONDEMARÍN EJEMPLIFICABA DE LA SIGUIENTES MANERA UNA SIT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OS PERSONAS PUESTAS FRENTE A UNA GRAN CANTIDAD Y DIVERSIDAD DE ÁRBOLES, UNA DE ELLAS EXCL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¡ QUE LINDO  BOSQ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OTRA DIJO ¡ QUE LINDO EL BOSQUE COMPUESTO DE QUILLAYES BOLDOS, PEUMOS Y PATAGU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 CUÁL DE ESAS DOS PERSONAS PERCIBE Y TRANSMITE MEJOR LA REA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70c0"/>
                </a:solidFill>
                <a:latin typeface="Arial"/>
              </a:rPr>
              <a:t>NO SEAN SUJETOS DE POCAS PALABRAS………………………… LEAN ….LEAN … L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70c0"/>
                </a:solidFill>
                <a:latin typeface="Arial"/>
              </a:rPr>
              <a:t>Y NO PIERDAN SUS PALABRAS Y  VOCABUL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676a55"/>
                </a:solidFill>
                <a:latin typeface="Calibri"/>
              </a:rPr>
              <a:t>Sistemas que permiten la producción de la voz</a:t>
            </a:r>
            <a:endParaRPr b="0" lang="en-US" sz="34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1" name="4 Marcador de contenido" descr=""/>
          <p:cNvPicPr/>
          <p:nvPr/>
        </p:nvPicPr>
        <p:blipFill>
          <a:blip r:embed="rId1"/>
          <a:stretch/>
        </p:blipFill>
        <p:spPr>
          <a:xfrm>
            <a:off x="438120" y="1925640"/>
            <a:ext cx="82677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76a55"/>
                </a:solidFill>
                <a:latin typeface="Calibri"/>
              </a:rPr>
              <a:t>Manejo de la técnica respiratoria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Constantia"/>
              </a:rPr>
              <a:t>El éxito de la técnica respiratoria reside en la correcta utilización del aire y del sonido de un cuerpo libre de tensiones, para ello debem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649"/>
              </a:spcBef>
              <a:buClr>
                <a:srgbClr val="a8cdd7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tar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ecánica respirato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649"/>
              </a:spcBef>
              <a:buClr>
                <a:srgbClr val="a8cdd7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aliza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imnasia respiratoria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ara fortalecer la musculatura comprometida en el proce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649"/>
              </a:spcBef>
              <a:buClr>
                <a:srgbClr val="a8cdd7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acticar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l y desarrollo de la capacidad respirato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76a55"/>
                </a:solidFill>
                <a:latin typeface="Calibri"/>
              </a:rPr>
              <a:t>Ejercicios: Trabalenguas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5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920960"/>
            <a:ext cx="82425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676a55"/>
                </a:solidFill>
                <a:latin typeface="Calibri"/>
              </a:rPr>
              <a:t>Ejercicios: Refranes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7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847880"/>
            <a:ext cx="82425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676a55"/>
                </a:solidFill>
                <a:latin typeface="Calibri"/>
              </a:rPr>
              <a:t>Manejo Vocal</a:t>
            </a:r>
            <a:endParaRPr b="0" lang="en-US" sz="45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9" name="14 Diagrama" descr=""/>
          <p:cNvPicPr/>
          <p:nvPr/>
        </p:nvPicPr>
        <p:blipFill>
          <a:blip r:embed="rId1"/>
          <a:stretch/>
        </p:blipFill>
        <p:spPr>
          <a:xfrm>
            <a:off x="-6480" y="628560"/>
            <a:ext cx="9369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5:36:02Z</dcterms:created>
  <dc:creator>Jorge Barros</dc:creator>
  <dc:description/>
  <dc:language>en-US</dc:language>
  <cp:lastModifiedBy>mati</cp:lastModifiedBy>
  <dcterms:modified xsi:type="dcterms:W3CDTF">2010-03-25T15:17:20Z</dcterms:modified>
  <cp:revision>21</cp:revision>
  <dc:subject/>
  <dc:title>Técnicas de Oratoria como apoyo expresivo en la comunicación</dc:title>
</cp:coreProperties>
</file>