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B059-7746-4328-8748-B6C5B47C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BB48-D0C3-413C-99EF-E4D01D86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6940-2C33-4B02-A007-617F86E49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420F-8497-4AED-AF52-034B881B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B5D6-0C26-488D-94B4-B12E9F10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F74B-2AB0-41A4-8E83-A939F710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6419-D9E9-4EBB-8B89-BCC5DC45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CB82-F236-462D-8E10-2B4AD3AE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3ADE-29A0-4D47-989C-13286E74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173F-11AB-46EC-A3C0-673A25D8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E4C6-7528-4C15-9E1B-2E9D4F96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E090-6135-4B3D-984A-6E7A4498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574D-E751-4641-9D0F-610EA925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6DC3-46E9-4E69-8C99-D5D5ED09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0F42-1F3A-47A5-832E-C2D14C0A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A776-46CC-430F-8BCE-64509483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E233-9CF6-48BC-B12D-91AB26A6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06296-1205-4C2F-B634-9CC80FF0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EF007-CC27-452C-871C-41FE0437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63600-4105-4D59-8C9B-04E6004F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BD10A-81CA-4AF2-9661-136CD2BD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77016-D3C9-410D-BAC6-19DB84A0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4B2D-43CB-4541-B24B-E64230AE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550FE-73EF-412F-B9E6-A60BC1BF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C0EC6-388E-4768-AB75-3707CA9C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84BD4-9864-4FB1-87D2-F06CB969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D5B1A-2A54-4435-9DC4-71258A50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CDB04-E835-476F-B6F6-34789B78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A2277-F2F0-4C11-BC94-6DD1B847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A76FB-C089-46AD-93B2-18EE1E23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698DF-30C1-4742-91A0-BC49ACE3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0C7D3-1BF2-414E-8C20-B8219F3A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C0727-8473-4A02-80D2-E5AA0FB7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F00A-97BC-4130-A3C9-19452544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CDD8C-0642-4860-9977-84826E72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3CEEA-D435-4844-81A3-E2194AC5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4E698-8F08-4B95-B794-7DB35A3D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EB57E-EC7B-448F-8A32-44165146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73344-A1C9-460E-99F4-7E435FAB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6173D-DEA7-4FA2-9FD5-914B1944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706C4-EB91-4EC4-A7B1-C0F95D0D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781C0-A387-4931-B56D-16C5096B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CCCB1-EDF7-4628-B79F-AEC71ECA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177F-FCE9-405B-90F0-EB314B7D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BCA2-D65E-43CE-9742-5931D448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51F2-8032-40AD-A327-AAB6C31D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862D-3428-41D9-BEAA-6087E0E5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0601-50C2-4075-9142-11CE9ED4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960D-E310-4F62-897B-27F299F28018}" type="slidenum">
              <a:rPr b="0" lang="es-ES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fe0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F34A-FE9E-4591-AD04-D5E3FE803B5E}" type="slidenum">
              <a:rPr b="0" lang="es-ES" sz="1200" spc="-1" strike="noStrike">
                <a:solidFill>
                  <a:srgbClr val="dfe0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fe0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FF03-6834-4D84-B31B-5BCA3173A9CD}" type="slidenum">
              <a:rPr b="0" lang="es-ES" sz="1200" spc="-1" strike="noStrike">
                <a:solidFill>
                  <a:srgbClr val="dfe0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B1E3-E0E6-4D14-A84B-9D020687BE8B}" type="slidenum">
              <a:rPr b="0" lang="es-ES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249120" y="493560"/>
            <a:ext cx="85471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76a55"/>
                </a:solidFill>
                <a:latin typeface="Calibri"/>
              </a:rPr>
              <a:t>Del trabajo con amor</a:t>
            </a:r>
            <a:br>
              <a:rPr sz="2400"/>
            </a:br>
            <a:r>
              <a:rPr b="0" lang="es-ES" sz="2400" spc="-1" strike="noStrike">
                <a:solidFill>
                  <a:srgbClr val="676a55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676a55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676a55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676a55"/>
                </a:solidFill>
                <a:latin typeface="Calibri"/>
              </a:rPr>
              <a:t>De “El Profeta” de Khalil Gibrán</a:t>
            </a:r>
            <a:endParaRPr b="0" lang="en-US" sz="2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7f7f7f"/>
                </a:solidFill>
                <a:latin typeface="Constantia"/>
              </a:rPr>
              <a:t>¿</a:t>
            </a: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Y que es trabajar con amor?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Es tejer la tela con fibras de vuestro propio corazón, como si la fuera a vestir el ser amado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Es construir la casa con cariño, como si el ser amado fuera a vivir en ella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Es sembrar con ternura y cosechar con alegría, como si el ser amado esperase aquel fruto. Es dar vuestro sello a cada labor; y es recordar que vigilantes, os acompañan siempre los antepasados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El trabajo es la materialización del amor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Y si no podéis trabajar con amor y sólo lo hacéis a disgusto, es mejor que abandonéis toda labor y os sentéis a la puerta del templo a recibir limosna de aquellos que trabajan con alegría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Pues si amasáis el pan con desgano, será el pan amargo que sólo a medias quite el hambr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Y si exprimís de mala gana los racimos, vuestra indiferencia destila su veneno en el vino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Y aunque cantéis como los mismos ángeles, si no amáis el canto, ensordeceréis los oídos del hombre a las voces del día y de la noch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676a55"/>
                </a:solidFill>
                <a:latin typeface="Calibri"/>
              </a:rPr>
              <a:t>Mensaje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197" name="3 Marcador de contenido" descr=""/>
          <p:cNvPicPr/>
          <p:nvPr/>
        </p:nvPicPr>
        <p:blipFill>
          <a:blip r:embed="rId1"/>
          <a:stretch/>
        </p:blipFill>
        <p:spPr>
          <a:xfrm>
            <a:off x="1143000" y="1785960"/>
            <a:ext cx="67579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1 CuadroTexto"/>
          <p:cNvSpPr/>
          <p:nvPr/>
        </p:nvSpPr>
        <p:spPr>
          <a:xfrm>
            <a:off x="0" y="0"/>
            <a:ext cx="88581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GUSTIN SQUEL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MIO NACIONAL DE HUMANIDADES Y CIENCIA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 RECIBIR SU PREMIO MANIFEST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R POBRE DE PALABRAS 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R POBRE DE PENS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PALABRAS PENS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PERCIB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NOMBR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RECORD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DISTUINGU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RELACION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NOS DIVERT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ACTU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S PALABRAS PERMITEN INTERVENIR Y TRANSFORMAR EL MU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ERDER LAS PALABRAS ES PERDER LAS COSAS QUE ELLAS DESIGNAN, DE MANERA QUE CUANDO NUESTRO LENGUAJE SE EMPOBRECE, LO QUE SE EMPROBECE ES LA PROPIA REALIDAD, Y LA COMPRENSIÓN QUE TENEMOS DE 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1 CuadroTexto"/>
          <p:cNvSpPr/>
          <p:nvPr/>
        </p:nvSpPr>
        <p:spPr>
          <a:xfrm>
            <a:off x="0" y="500040"/>
            <a:ext cx="9144000" cy="66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QUIEN DISPONE DE UNA MAYOR CANTIDAD DE PALABRAS PERCIBE MÁS DE LA REALIDAD Y ES TAMBIÉN CAPAZ DE DAR MEJOR CUENTA DE É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EDUCADORA MABEL CONDEMARÍN EJEMPLIFICABA DE LA SIGUIENTES MANERA UNA SIT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OS PERSONAS PUESTAS FRENTE A UNA GRAN CANTIDAD Y DIVERSIDAD DE ÁRBOLES, UNA DE ELLAS EXCLA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¡ QUE LINDO  BOSQ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OTRA DIJO ¡ QUE LINDO EL BOSQUE COMPUESTO DE QUILLAYES BOLDOS, PEUMOS Y PATAGUA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 CUÁL DE ESAS DOS PERSONAS PERCIBE Y TRANSMITE MEJOR LA REAL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70c0"/>
                </a:solidFill>
                <a:latin typeface="Arial"/>
              </a:rPr>
              <a:t>NO SEAN SUJETOS DE POCAS PALABRAS………………………… LEAN ….LEAN … LE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70c0"/>
                </a:solidFill>
                <a:latin typeface="Arial"/>
              </a:rPr>
              <a:t>Y NO PIERDAN SUS PALABRAS Y  VOCABUL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676a55"/>
                </a:solidFill>
                <a:latin typeface="Calibri"/>
              </a:rPr>
              <a:t>Sistemas que permiten la producción de la voz</a:t>
            </a:r>
            <a:endParaRPr b="0" lang="en-US" sz="34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201" name="4 Marcador de contenido" descr=""/>
          <p:cNvPicPr/>
          <p:nvPr/>
        </p:nvPicPr>
        <p:blipFill>
          <a:blip r:embed="rId1"/>
          <a:stretch/>
        </p:blipFill>
        <p:spPr>
          <a:xfrm>
            <a:off x="438120" y="1925640"/>
            <a:ext cx="82677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76a55"/>
                </a:solidFill>
                <a:latin typeface="Calibri"/>
              </a:rPr>
              <a:t>Manejo de la técnica respiratoria</a:t>
            </a: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Constantia"/>
              </a:rPr>
              <a:t>El éxito de la técnica respiratoria reside en la correcta utilización del aire y del sonido de un cuerpo libre de tensiones, para ello debem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spcBef>
                <a:spcPts val="649"/>
              </a:spcBef>
              <a:buClr>
                <a:srgbClr val="a8cdd7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ercitar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mecánica respirator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spcBef>
                <a:spcPts val="649"/>
              </a:spcBef>
              <a:buClr>
                <a:srgbClr val="a8cdd7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aliza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imnasia respiratoria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ara fortalecer la musculatura comprometida en el proces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spcBef>
                <a:spcPts val="649"/>
              </a:spcBef>
              <a:buClr>
                <a:srgbClr val="a8cdd7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acticar 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trol y desarrollo de la capacidad respirator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76a55"/>
                </a:solidFill>
                <a:latin typeface="Calibri"/>
              </a:rPr>
              <a:t>Ejercicios: Trabalenguas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205" name="3 Marcador de contenido" descr=""/>
          <p:cNvPicPr/>
          <p:nvPr/>
        </p:nvPicPr>
        <p:blipFill>
          <a:blip r:embed="rId1"/>
          <a:stretch/>
        </p:blipFill>
        <p:spPr>
          <a:xfrm>
            <a:off x="450720" y="1920960"/>
            <a:ext cx="82425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676a55"/>
                </a:solidFill>
                <a:latin typeface="Calibri"/>
              </a:rPr>
              <a:t>Ejercicios: Refranes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207" name="3 Marcador de contenido" descr=""/>
          <p:cNvPicPr/>
          <p:nvPr/>
        </p:nvPicPr>
        <p:blipFill>
          <a:blip r:embed="rId1"/>
          <a:stretch/>
        </p:blipFill>
        <p:spPr>
          <a:xfrm>
            <a:off x="450720" y="1847880"/>
            <a:ext cx="824256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676a55"/>
                </a:solidFill>
                <a:latin typeface="Calibri"/>
              </a:rPr>
              <a:t>Manejo Vocal</a:t>
            </a:r>
            <a:endParaRPr b="0" lang="en-US" sz="45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209" name="14 Diagrama" descr=""/>
          <p:cNvPicPr/>
          <p:nvPr/>
        </p:nvPicPr>
        <p:blipFill>
          <a:blip r:embed="rId1"/>
          <a:stretch/>
        </p:blipFill>
        <p:spPr>
          <a:xfrm>
            <a:off x="-6480" y="628560"/>
            <a:ext cx="9369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5:36:02Z</dcterms:created>
  <dc:creator>Jorge Barros</dc:creator>
  <dc:description/>
  <dc:language>en-US</dc:language>
  <cp:lastModifiedBy>mati</cp:lastModifiedBy>
  <dcterms:modified xsi:type="dcterms:W3CDTF">2010-03-25T15:17:20Z</dcterms:modified>
  <cp:revision>21</cp:revision>
  <dc:subject/>
  <dc:title>Técnicas de Oratoria como apoyo expresivo en la comunicación</dc:title>
</cp:coreProperties>
</file>