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469F-3CF9-4D23-A362-A5777A74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E56-717F-4CB9-9B43-F0CF0441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3EE3-B3E1-4E14-82C3-48388DA8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BB90-1AB7-4E1E-AC6D-607FF282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D2A5-CE63-46DB-A6F4-B149A5F6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D363-5F60-43C4-8085-27EB7620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22B2-3FFC-4D3B-B0A0-79BF18DF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AE78-8A86-450A-9005-E5109C12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27D1-B9B3-4BCD-9984-13333EB9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4006-DA83-4E1E-857F-2A41F449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25A9-ABEF-4E9E-B417-E9B8312C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8D3-7BC4-4BB4-A558-C6FB9D2F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03F4-66F7-4197-B30E-B4BC58F3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44AB-3BB1-4E96-AFD3-C3DEF40A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5AF9-B9D0-4DF0-8C3A-A7F9B882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BCFC-9C82-4229-831C-B1D39CC0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B976-E504-47E9-B86A-E215D668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A08F6-AFD7-4F03-A1E3-47A7AF01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3B578-CD81-48FC-8866-69F62C73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57317-7CB6-4EA4-B391-0F8FB5EE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C4741-14EA-4441-875F-3F4F8A6C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E5ACD-EE66-4F87-B6FD-EE3C82C3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C48-377E-4861-B4C7-0C9A4C2D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5CDE5-E9C1-4DC6-8E7B-D3B7C1EC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101CD-7109-43E6-99E9-6104A897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2F550-C786-4FB6-B1B5-C9BCA659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5C003-2911-4A73-A94E-9FB9A469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9FA76-67DF-4EFB-B28C-B6AFD128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17B7D-3499-46A0-89CD-A1C4D869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84062-14E9-4EA7-B5C0-4EA5B92C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85CA3-F965-47CD-BF23-E38CC752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B8332-C899-46CB-8081-F4212D63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C92A0-0691-4D60-B9F6-9689C783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FEA6-AAAF-4CE6-ADF9-3024BB19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26B2C-B79D-4780-820B-D02A8272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0E241-DFBC-4EED-AC09-0C0DB683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82563-0418-4A5A-BBCC-F064AE40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0A387-9B3A-4424-9325-4FC0034D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5F303-A62A-4175-828F-9B430F1E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8E6CB-D738-45DD-A70F-B87DF929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F63DB-ED62-40F6-84E5-7140CFBF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D12CE-B579-41F1-B38B-5F281EA9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48555-F08D-4398-95FB-0F1644F8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F5C-36E3-4B98-9C3A-A511BF18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949E-87B0-487E-ACB2-1B8E6D4F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666-E201-4F2D-A70B-156032EF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A88-EC70-445F-A3F3-BD51DAE9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FB0-A8E4-48EE-81A6-908A05B6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50E6-8015-40E5-94B8-A469799F8B36}" type="slidenum"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E435-9BB6-4DA4-85B6-F87921E786F7}" type="slidenum"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F400-845D-4173-B222-1936C7C96D5E}" type="slidenum"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5A46-CD84-4999-ACDA-018C19C4D4E8}" type="slidenum">
              <a:rPr b="0" lang="es-ES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249120" y="493560"/>
            <a:ext cx="85471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676a55"/>
                </a:solidFill>
                <a:latin typeface="Calibri"/>
              </a:rPr>
              <a:t>Del trabajo con amor</a:t>
            </a:r>
            <a:br>
              <a:rPr sz="2400"/>
            </a:b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676a55"/>
                </a:solidFill>
                <a:latin typeface="Calibri"/>
              </a:rPr>
              <a:t>De “El Profeta” de Khalil Gibrán</a:t>
            </a:r>
            <a:endParaRPr b="0" lang="en-US" sz="2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7f7f7f"/>
                </a:solidFill>
                <a:latin typeface="Constantia"/>
              </a:rPr>
              <a:t>¿</a:t>
            </a: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que es trabajar con amor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s tejer la tela con fibras de vuestro propio corazón, como si la fuera a vestir el ser amado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s construir la casa con cariño, como si el ser amado fuera a vivir en ella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s sembrar con ternura y cosechar con alegría, como si el ser amado esperase aquel fruto. Es dar vuestro sello a cada labor; y es recordar que vigilantes, os acompañan siempre los antepasados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El trabajo es la materialización del amor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si no podéis trabajar con amor y sólo lo hacéis a disgusto, es mejor que abandonéis toda labor y os sentéis a la puerta del templo a recibir limosna de aquellos que trabajan con alegría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Pues si amasáis el pan con desgano, será el pan amargo que sólo a medias quite el hambr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si exprimís de mala gana los racimos, vuestra indiferencia destila su veneno en el vino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7f7f7f"/>
                </a:solidFill>
                <a:latin typeface="Constantia"/>
              </a:rPr>
              <a:t>Y aunque cantéis como los mismos ángeles, si no amáis el canto, ensordeceréis los oídos del hombre a las voces del día y de la noch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676a55"/>
                </a:solidFill>
                <a:latin typeface="Calibri"/>
              </a:rPr>
              <a:t>Mensaje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197" name="3 Marcador de contenido" descr=""/>
          <p:cNvPicPr/>
          <p:nvPr/>
        </p:nvPicPr>
        <p:blipFill>
          <a:blip r:embed="rId1"/>
          <a:stretch/>
        </p:blipFill>
        <p:spPr>
          <a:xfrm>
            <a:off x="1143000" y="1785960"/>
            <a:ext cx="67579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1 CuadroTexto"/>
          <p:cNvSpPr/>
          <p:nvPr/>
        </p:nvSpPr>
        <p:spPr>
          <a:xfrm>
            <a:off x="0" y="0"/>
            <a:ext cx="88581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USTIN SQUEL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MIO NACIONAL DE HUMANIDADES Y CIENCIA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 RECIBIR SU PREMIO MANIFEST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R POBRE DE PALABRAS 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R POBRE DE PENS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PALABRAS PENS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PERCIB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NOMBR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RECORD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DISTUINGU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RELACION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NOS DIVERT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LAS PALABRAS ACTU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S PALABRAS PERMITEN INTERVENIR Y TRANSFORMAR EL M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ERDER LAS PALABRAS ES PERDER LAS COSAS QUE ELLAS DESIGNAN, DE MANERA QUE CUANDO NUESTRO LENGUAJE SE EMPOBRECE, LO QUE SE EMPROBECE ES LA PROPIA REALIDAD, Y LA COMPRENSIÓN QUE TENEMOS DE 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1 CuadroTexto"/>
          <p:cNvSpPr/>
          <p:nvPr/>
        </p:nvSpPr>
        <p:spPr>
          <a:xfrm>
            <a:off x="0" y="500040"/>
            <a:ext cx="9144000" cy="66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QUIEN DISPONE DE UNA MAYOR CANTIDAD DE PALABRAS PERCIBE MÁS DE LA REALIDAD Y ES TAMBIÉN CAPAZ DE DAR MEJOR CUENTA DE É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EDUCADORA MABEL CONDEMARÍN EJEMPLIFICABA DE LA SIGUIENTES MANERA UNA SIT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OS PERSONAS PUESTAS FRENTE A UNA GRAN CANTIDAD Y DIVERSIDAD DE ÁRBOLES, UNA DE ELLAS EXCL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¡ QUE LINDO  BOSQ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OTRA DIJO ¡ QUE LINDO EL BOSQUE COMPUESTO DE QUILLAYES BOLDOS, PEUMOS Y PATAGU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 CUÁL DE ESAS DOS PERSONAS PERCIBE Y TRANSMITE MEJOR LA REA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70c0"/>
                </a:solidFill>
                <a:latin typeface="Arial"/>
              </a:rPr>
              <a:t>NO SEAN SUJETOS DE POCAS PALABRAS………………………… LEAN ….LEAN … LE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70c0"/>
                </a:solidFill>
                <a:latin typeface="Arial"/>
              </a:rPr>
              <a:t>Y NO PIERDAN SUS PALABRAS Y  VOCABUL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676a55"/>
                </a:solidFill>
                <a:latin typeface="Calibri"/>
              </a:rPr>
              <a:t>Sistemas que permiten la producción de la voz</a:t>
            </a:r>
            <a:endParaRPr b="0" lang="en-US" sz="34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1" name="4 Marcador de contenido" descr=""/>
          <p:cNvPicPr/>
          <p:nvPr/>
        </p:nvPicPr>
        <p:blipFill>
          <a:blip r:embed="rId1"/>
          <a:stretch/>
        </p:blipFill>
        <p:spPr>
          <a:xfrm>
            <a:off x="438120" y="1925640"/>
            <a:ext cx="82677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76a55"/>
                </a:solidFill>
                <a:latin typeface="Calibri"/>
              </a:rPr>
              <a:t>Manejo de la técnica respiratoria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Constantia"/>
              </a:rPr>
              <a:t>El éxito de la técnica respiratoria reside en la correcta utilización del aire y del sonido de un cuerpo libre de tensiones, para ello debem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649"/>
              </a:spcBef>
              <a:buClr>
                <a:srgbClr val="a8cdd7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tar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ecánica respirato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649"/>
              </a:spcBef>
              <a:buClr>
                <a:srgbClr val="a8cdd7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aliza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imnasia respiratoria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ara fortalecer la musculatura comprometida en el proce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40000"/>
              </a:lnSpc>
              <a:spcBef>
                <a:spcPts val="649"/>
              </a:spcBef>
              <a:buClr>
                <a:srgbClr val="a8cdd7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acticar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l y desarrollo de la capacidad respirato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76a55"/>
                </a:solidFill>
                <a:latin typeface="Calibri"/>
              </a:rPr>
              <a:t>Ejercicios: Trabalenguas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5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920960"/>
            <a:ext cx="82425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676a55"/>
                </a:solidFill>
                <a:latin typeface="Calibri"/>
              </a:rPr>
              <a:t>Ejercicios: Refranes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7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847880"/>
            <a:ext cx="82425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676a55"/>
                </a:solidFill>
                <a:latin typeface="Calibri"/>
              </a:rPr>
              <a:t>Manejo Vocal</a:t>
            </a:r>
            <a:endParaRPr b="0" lang="en-US" sz="45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09" name="14 Diagrama" descr=""/>
          <p:cNvPicPr/>
          <p:nvPr/>
        </p:nvPicPr>
        <p:blipFill>
          <a:blip r:embed="rId1"/>
          <a:stretch/>
        </p:blipFill>
        <p:spPr>
          <a:xfrm>
            <a:off x="-6480" y="628560"/>
            <a:ext cx="9369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5:36:02Z</dcterms:created>
  <dc:creator>Jorge Barros</dc:creator>
  <dc:description/>
  <dc:language>en-US</dc:language>
  <cp:lastModifiedBy>mati</cp:lastModifiedBy>
  <dcterms:modified xsi:type="dcterms:W3CDTF">2010-03-25T15:17:20Z</dcterms:modified>
  <cp:revision>21</cp:revision>
  <dc:subject/>
  <dc:title>Técnicas de Oratoria como apoyo expresivo en la comunicación</dc:title>
</cp:coreProperties>
</file>