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9.wmf" ContentType="image/x-wmf"/>
  <Override PartName="/ppt/media/image13.wmf" ContentType="image/x-wmf"/>
  <Override PartName="/ppt/media/image8.wmf" ContentType="image/x-wmf"/>
  <Override PartName="/ppt/media/image16.png" ContentType="image/png"/>
  <Override PartName="/ppt/media/image15.png" ContentType="image/png"/>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B1C4B88-9D07-48D9-A2FB-73B6A1EB92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5C3C74-333C-4AD2-B297-8D20573017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D4C6BB-0B1C-48E0-A313-86DAA6A758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62AE41-839E-44DB-85C1-0486C535D92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959948-4459-4550-9040-1282C2D7E7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10350-8DD6-4FEB-B639-581681DA73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25654A-BDD9-4E27-A58E-E0741B15FF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64869F-1A8D-43D7-8E46-58122760F6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B9B62-396E-41D7-8C32-40B0E91BD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6DD8F-D4C2-4C6E-8D30-E804497973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7E5BA-1BDA-4D33-922E-48DDBC381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E0EDA10-914F-430F-8902-2D6A65623C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2324CE-AA52-4384-81F0-2E0EDDE60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9C27BC-514E-402E-BA89-0533FCF52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FA0E9-CDAA-48AB-B267-28CA995E57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EDC033-FE15-4088-847B-4407C06E52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0C94A9-6CA0-4EDA-93D2-AD943CDE50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9711DAE-0A5B-4924-BC0A-7D91515F6E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B0C5658-3127-4B73-A612-97FE272A7D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496C80-4CCE-44C6-8D34-2F31044805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3EECF9-DCDA-4E5D-8AF7-78D0AE557E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6AAA27F-A506-4F4E-8F87-4418BF5A9D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453751-FE63-4AB8-BBC8-88F826209F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31ECDC-33CF-4F34-9A83-EEE445982D56}"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F2BE3-7C34-49C9-B625-407807B70EFE}"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7A259-3E92-4678-9D3B-F2D6D358E028}"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691920"/>
            <a:ext cx="7772400" cy="287964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SUPERFICIES DE BOSQUES </a:t>
            </a:r>
            <a:br>
              <a:rPr sz="4000"/>
            </a:br>
            <a:r>
              <a:rPr b="1" lang="es-ES" sz="4000" spc="-1" strike="noStrike">
                <a:solidFill>
                  <a:srgbClr val="000000"/>
                </a:solidFill>
                <a:latin typeface="Arial"/>
              </a:rPr>
              <a:t>EN CHILE </a:t>
            </a:r>
            <a:br>
              <a:rPr sz="4000"/>
            </a:br>
            <a:r>
              <a:rPr b="1" lang="es-ES" sz="4000" spc="-1" strike="noStrike">
                <a:solidFill>
                  <a:srgbClr val="000000"/>
                </a:solidFill>
                <a:latin typeface="Arial"/>
              </a:rPr>
              <a:t> OFERTA  Y CONSUMO DE LA INDUSTRIA PRIMARIA </a:t>
            </a:r>
            <a:endParaRPr b="0" lang="en-US" sz="4000" spc="-1" strike="noStrike">
              <a:solidFill>
                <a:srgbClr val="000000"/>
              </a:solidFill>
              <a:latin typeface="Arial"/>
            </a:endParaRPr>
          </a:p>
        </p:txBody>
      </p:sp>
      <p:graphicFrame>
        <p:nvGraphicFramePr>
          <p:cNvPr id="106" name=""/>
          <p:cNvGraphicFramePr/>
          <p:nvPr/>
        </p:nvGraphicFramePr>
        <p:xfrm>
          <a:off x="6876720" y="3860640"/>
          <a:ext cx="1700280" cy="2421000"/>
        </p:xfrm>
        <a:graphic>
          <a:graphicData uri="http://schemas.openxmlformats.org/presentationml/2006/ole">
            <p:oleObj r:id="rId1" spid="">
              <p:embed/>
              <p:pic>
                <p:nvPicPr>
                  <p:cNvPr id="107" name="" descr=""/>
                  <p:cNvPicPr/>
                  <p:nvPr/>
                </p:nvPicPr>
                <p:blipFill>
                  <a:blip r:embed="rId2"/>
                  <a:stretch/>
                </p:blipFill>
                <p:spPr>
                  <a:xfrm>
                    <a:off x="6876720" y="3860640"/>
                    <a:ext cx="1700280" cy="242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25" name=""/>
          <p:cNvSpPr/>
          <p:nvPr/>
        </p:nvSpPr>
        <p:spPr>
          <a:xfrm>
            <a:off x="380880" y="457200"/>
            <a:ext cx="8382240" cy="603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  LAS CIFRAS ANTERIORES SE PUEDEN DESTACAR TRES PUN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DA LA SUPERFICIE DE PLANTACIONES Y SU PRODUCCIÓN  HA DISMINUIDO LA PRESIÓN DE COSECHA SOBRE EL BOSQUE NATIVO</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PLANTACIONES DE PINO,  EUCALIPTO Y DE OTRAS ESPECIES PLANTADAS, HAN PODIDO SOSTENER Y ELEVAR LA PRODUCCIÓN  INDUSTRIAL Y QUE ÉSTA SEA COMPETITIVA A NIVEL MUNDIAL</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E  SE  HA  PRESENTADO  EN  EL MERCADO INTERNACIONAL CON PRODUCTOS DE BAJO COSTO , HOMOGÉNEOS PRIVELEGIANDO LA CANTIDAD Y AHORA ÚLTIMO LA CA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26" name=""/>
          <p:cNvSpPr/>
          <p:nvPr/>
        </p:nvSpPr>
        <p:spPr>
          <a:xfrm>
            <a:off x="1143000" y="6858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04920" y="304920"/>
            <a:ext cx="8534160" cy="632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RACTERÍSTICAS DE LA INDUSTRIA DE PULPA Y PAPEL:</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 DUDA LA INDUSTRIA DE PULPA Y PAPEL ES LA QUE EXPLICA EL DESARROLLO ACTUAL DE LAS PLANTACIONES, POR LOS ALTOS VOLUMENES DE MADERA REQUERIDOS, LO QUE OBLIGO A FORESTAR GRANDES SUPERFICIES. POSTERIORMENTE AL EXISTIR PRECIOS CRECIENTES DE LA MADERA EN TROZO LA GRAN INDUSTRIA SE HA ORIENTADO A LA PRODUCCIÓN DE MADERA ASERRADA Y  CAMBIOS EN LOS ESQUEMAS DE MANEJOS DE LAS PLANTACION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DO LO ANTERIOR, LO LÓGICO ES ABASTECER A ESTA INDUSTRIA A PARTIR DE LAS PUNTAS DE LOS ÁRBOLES, A LA MADERA RESIDUAL DEL BOSQUE  Y DE LAS ASTILLAS COMO RESULTADO DE LOS PROCESOS DE ASERRÍ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0" y="1905120"/>
          <a:ext cx="8839080" cy="2965320"/>
        </p:xfrm>
        <a:graphic>
          <a:graphicData uri="http://schemas.openxmlformats.org/presentationml/2006/ole">
            <p:oleObj progId="Excel.Sheet.12" r:id="rId1" spid="">
              <p:embed/>
              <p:pic>
                <p:nvPicPr>
                  <p:cNvPr id="129" name="" descr=""/>
                  <p:cNvPicPr/>
                  <p:nvPr/>
                </p:nvPicPr>
                <p:blipFill>
                  <a:blip r:embed="rId2"/>
                  <a:stretch/>
                </p:blipFill>
                <p:spPr>
                  <a:xfrm>
                    <a:off x="0" y="1905120"/>
                    <a:ext cx="8839080" cy="2965320"/>
                  </a:xfrm>
                  <a:prstGeom prst="rect">
                    <a:avLst/>
                  </a:prstGeom>
                  <a:ln w="0">
                    <a:noFill/>
                  </a:ln>
                </p:spPr>
              </p:pic>
            </p:oleObj>
          </a:graphicData>
        </a:graphic>
      </p:graphicFrame>
      <p:pic>
        <p:nvPicPr>
          <p:cNvPr id="130" name="" descr=""/>
          <p:cNvPicPr/>
          <p:nvPr/>
        </p:nvPicPr>
        <p:blipFill>
          <a:blip r:embed="rId3"/>
          <a:stretch/>
        </p:blipFill>
        <p:spPr>
          <a:xfrm>
            <a:off x="2163600" y="457200"/>
            <a:ext cx="1189080" cy="762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31" name=""/>
          <p:cNvSpPr/>
          <p:nvPr/>
        </p:nvSpPr>
        <p:spPr>
          <a:xfrm>
            <a:off x="1143000" y="6858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04920" y="304920"/>
            <a:ext cx="8534160" cy="578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RACTERÍSTICAS DE LA INDUSTRIA DEL ASERRI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 INDUSTRIA SE HA CARACTERIZADO POR EL SIGUIENTE DESARROLL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MERO EXISTIÓ UNA FUERTE ATOMIZACIÓN  DE LOS ASERRADERO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N SU NÚMER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  PROPIETARIO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 SUS  TAMAÑOS,  TIPOS Y CALIDAD DE PRODUCTO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NOLOGÍAS EMPLEADAS.</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UALMENTE EL NUMERO DE ASERRADEROS HA BAJADO CONSIDERABLEMENTE, AUMENTANDO SU TAMAÑO, EFICIENCIA Y PRODUCCIÓ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26920" y="1197000"/>
            <a:ext cx="7620120" cy="59122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DERA EN TROZOS COSTOS Y VALORES RELATIVOS</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STOS PROMEDIOS DE COSECHA </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PONIBILIDAD DE MADERA</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4" name=""/>
          <p:cNvGraphicFramePr/>
          <p:nvPr/>
        </p:nvGraphicFramePr>
        <p:xfrm>
          <a:off x="0" y="533520"/>
          <a:ext cx="9144000" cy="5410080"/>
        </p:xfrm>
        <a:graphic>
          <a:graphicData uri="http://schemas.openxmlformats.org/presentationml/2006/ole">
            <p:oleObj progId="Excel.Sheet.12" r:id="rId1" spid="">
              <p:embed/>
              <p:pic>
                <p:nvPicPr>
                  <p:cNvPr id="135" name="" descr=""/>
                  <p:cNvPicPr/>
                  <p:nvPr/>
                </p:nvPicPr>
                <p:blipFill>
                  <a:blip r:embed="rId2"/>
                  <a:stretch/>
                </p:blipFill>
                <p:spPr>
                  <a:xfrm>
                    <a:off x="0" y="533520"/>
                    <a:ext cx="914400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6" name=""/>
          <p:cNvGraphicFramePr/>
          <p:nvPr/>
        </p:nvGraphicFramePr>
        <p:xfrm>
          <a:off x="0" y="1371600"/>
          <a:ext cx="9144000" cy="4643280"/>
        </p:xfrm>
        <a:graphic>
          <a:graphicData uri="http://schemas.openxmlformats.org/presentationml/2006/ole">
            <p:oleObj progId="Excel.Sheet.12" r:id="rId1" spid="">
              <p:embed/>
              <p:pic>
                <p:nvPicPr>
                  <p:cNvPr id="137" name="" descr=""/>
                  <p:cNvPicPr/>
                  <p:nvPr/>
                </p:nvPicPr>
                <p:blipFill>
                  <a:blip r:embed="rId2"/>
                  <a:stretch/>
                </p:blipFill>
                <p:spPr>
                  <a:xfrm>
                    <a:off x="0" y="1371600"/>
                    <a:ext cx="9144000" cy="464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1440" y="1112760"/>
          <a:ext cx="9144000" cy="4633920"/>
        </p:xfrm>
        <a:graphic>
          <a:graphicData uri="http://schemas.openxmlformats.org/presentationml/2006/ole">
            <p:oleObj progId="Excel.Sheet.12" r:id="rId1" spid="">
              <p:embed/>
              <p:pic>
                <p:nvPicPr>
                  <p:cNvPr id="139" name="" descr=""/>
                  <p:cNvPicPr/>
                  <p:nvPr/>
                </p:nvPicPr>
                <p:blipFill>
                  <a:blip r:embed="rId2"/>
                  <a:stretch/>
                </p:blipFill>
                <p:spPr>
                  <a:xfrm>
                    <a:off x="1440" y="1112760"/>
                    <a:ext cx="9144000" cy="463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09480" y="1052640"/>
            <a:ext cx="8001000" cy="5112720"/>
          </a:xfrm>
          <a:prstGeom prst="rect">
            <a:avLst/>
          </a:prstGeom>
          <a:noFill/>
          <a:ln w="572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ÓN DE LO EXPUEST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MATERIAS TRADAS EN ESTA CÁTEDRA</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ÓLO INFLUYEN ENTRE EL 6 -9% DEL VALOR DE LA MATERIA PRIMA PUESTA EN EL MERCADO EXTERNO</a:t>
            </a:r>
            <a:r>
              <a:rPr b="0" lang="en-US" sz="2800" spc="-1" strike="noStrike">
                <a:solidFill>
                  <a:srgbClr val="9999cc"/>
                </a:solidFill>
                <a:latin typeface="Times New Roman"/>
              </a:rPr>
              <a:t>.</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228600"/>
            <a:ext cx="8893080" cy="6483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MODO DE EJEMPLO LOS COSTOS PROMEDIOS DE ALGUNAS FAENAS DE COSECHA  SON:</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LA RASA CON TORRE DE MADEREO : 7.23 - 8.13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LA RASA TRADICIONAL ( BUEYES ) : 6.26 - 7.57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LA RASA CON SKIDDERS: 4,23 - 6.25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LEO COMERCIAL CON TRINEUMÁTICO: 6.61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LEO COMERCIAL CON SKIDDERS : 7.91 -8.28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LEO COMERCIAL TRADICIONAL: 6.26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ENAS DE RECUPERACIÓN: 6.13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ETES: 4,57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RGUÍO : 1.08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TRUCCIÓN CAMINOS DE TIERRA TALA RASA. 5.300 US/K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CAMINOS  DE ADMINISTRACIÓN PREDIAL: 2.350 US/K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MINO RIPIO TALA RASA: 14.000 US$/K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ENTES PEQUEÑOS: 337 US $/METRO     ALCANTARILLAS 38 US$/METR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971640" y="620640"/>
          <a:ext cx="7632720" cy="5929560"/>
        </p:xfrm>
        <a:graphic>
          <a:graphicData uri="http://schemas.openxmlformats.org/presentationml/2006/ole">
            <p:oleObj progId="Excel.Sheet.12" r:id="rId1" spid="">
              <p:embed/>
              <p:pic>
                <p:nvPicPr>
                  <p:cNvPr id="109" name="" descr=""/>
                  <p:cNvPicPr/>
                  <p:nvPr/>
                </p:nvPicPr>
                <p:blipFill>
                  <a:blip r:embed="rId2"/>
                  <a:stretch/>
                </p:blipFill>
                <p:spPr>
                  <a:xfrm>
                    <a:off x="971640" y="620640"/>
                    <a:ext cx="7632720" cy="592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0" y="609480"/>
          <a:ext cx="9144000" cy="5083200"/>
        </p:xfrm>
        <a:graphic>
          <a:graphicData uri="http://schemas.openxmlformats.org/presentationml/2006/ole">
            <p:oleObj progId="Excel.Sheet.12" r:id="rId1" spid="">
              <p:embed/>
              <p:pic>
                <p:nvPicPr>
                  <p:cNvPr id="143" name="" descr=""/>
                  <p:cNvPicPr/>
                  <p:nvPr/>
                </p:nvPicPr>
                <p:blipFill>
                  <a:blip r:embed="rId2"/>
                  <a:stretch/>
                </p:blipFill>
                <p:spPr>
                  <a:xfrm>
                    <a:off x="0" y="609480"/>
                    <a:ext cx="9144000" cy="50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4" name=""/>
          <p:cNvGraphicFramePr/>
          <p:nvPr/>
        </p:nvGraphicFramePr>
        <p:xfrm>
          <a:off x="304920" y="762120"/>
          <a:ext cx="8610480" cy="5562360"/>
        </p:xfrm>
        <a:graphic>
          <a:graphicData uri="http://schemas.openxmlformats.org/presentationml/2006/ole">
            <p:oleObj progId="Excel.Sheet.12" r:id="rId1" spid="">
              <p:embed/>
              <p:pic>
                <p:nvPicPr>
                  <p:cNvPr id="145" name="" descr=""/>
                  <p:cNvPicPr/>
                  <p:nvPr/>
                </p:nvPicPr>
                <p:blipFill>
                  <a:blip r:embed="rId2"/>
                  <a:stretch/>
                </p:blipFill>
                <p:spPr>
                  <a:xfrm>
                    <a:off x="304920" y="762120"/>
                    <a:ext cx="861048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0" y="128520"/>
          <a:ext cx="9144000" cy="6729480"/>
        </p:xfrm>
        <a:graphic>
          <a:graphicData uri="http://schemas.openxmlformats.org/presentationml/2006/ole">
            <p:oleObj r:id="rId1" spid="">
              <p:embed/>
              <p:pic>
                <p:nvPicPr>
                  <p:cNvPr id="147" name="" descr=""/>
                  <p:cNvPicPr/>
                  <p:nvPr/>
                </p:nvPicPr>
                <p:blipFill>
                  <a:blip r:embed="rId2"/>
                  <a:stretch/>
                </p:blipFill>
                <p:spPr>
                  <a:xfrm>
                    <a:off x="0" y="128520"/>
                    <a:ext cx="9144000" cy="672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0" y="42840"/>
          <a:ext cx="9144000" cy="6843600"/>
        </p:xfrm>
        <a:graphic>
          <a:graphicData uri="http://schemas.openxmlformats.org/presentationml/2006/ole">
            <p:oleObj r:id="rId1" spid="">
              <p:embed/>
              <p:pic>
                <p:nvPicPr>
                  <p:cNvPr id="149" name="" descr=""/>
                  <p:cNvPicPr/>
                  <p:nvPr/>
                </p:nvPicPr>
                <p:blipFill>
                  <a:blip r:embed="rId2"/>
                  <a:stretch/>
                </p:blipFill>
                <p:spPr>
                  <a:xfrm>
                    <a:off x="0" y="42840"/>
                    <a:ext cx="9144000" cy="68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94920" y="1052640"/>
            <a:ext cx="8218440" cy="540072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_tradnl" sz="2400" spc="-1" strike="noStrike">
                <a:solidFill>
                  <a:srgbClr val="00007d"/>
                </a:solidFill>
                <a:latin typeface="Arial Unicode MS"/>
              </a:rPr>
              <a:t>EPECÍFICACIONES Y DIMENSIONES DE LOS PRODUCTIOS FORESTALES</a:t>
            </a:r>
            <a:br>
              <a:rPr sz="2000"/>
            </a:br>
            <a:r>
              <a:rPr b="1" lang="es-ES_tradnl" sz="2400" spc="-1" strike="noStrike">
                <a:solidFill>
                  <a:srgbClr val="000000"/>
                </a:solidFill>
                <a:latin typeface="Arial Unicode MS"/>
              </a:rPr>
              <a:t>Rollizo o trozo aserrable libre de nudos:</a:t>
            </a:r>
            <a:br>
              <a:rPr sz="2400"/>
            </a:br>
            <a:r>
              <a:rPr b="1" lang="es-ES_tradnl" sz="2400" spc="-1" strike="noStrike">
                <a:solidFill>
                  <a:srgbClr val="000000"/>
                </a:solidFill>
                <a:latin typeface="Arial Unicode MS"/>
              </a:rPr>
              <a:t>Árboles con internudos largos, Libre de ramas y o pedúnculo</a:t>
            </a:r>
            <a:br>
              <a:rPr sz="2400"/>
            </a:br>
            <a:r>
              <a:rPr b="1" lang="es-ES_tradnl" sz="2400" spc="-1" strike="noStrike">
                <a:solidFill>
                  <a:srgbClr val="000000"/>
                </a:solidFill>
                <a:latin typeface="Arial Unicode MS"/>
              </a:rPr>
              <a:t>Libre de clavos y/o alambres,  Libres de mancha azul</a:t>
            </a:r>
            <a:br>
              <a:rPr sz="2400"/>
            </a:br>
            <a:r>
              <a:rPr b="1" lang="es-ES_tradnl" sz="2400" spc="-1" strike="noStrike">
                <a:solidFill>
                  <a:srgbClr val="000000"/>
                </a:solidFill>
                <a:latin typeface="Arial Unicode MS"/>
              </a:rPr>
              <a:t>Cilindro nudoso no mayor a 18 cm de diámetro, Densidad mínima de la madera 402 Kg/m3.</a:t>
            </a:r>
            <a:br>
              <a:rPr sz="2400"/>
            </a:br>
            <a:r>
              <a:rPr b="1" lang="es-ES_tradnl" sz="2400" spc="-1" strike="noStrike">
                <a:solidFill>
                  <a:srgbClr val="000000"/>
                </a:solidFill>
                <a:latin typeface="Arial Unicode MS"/>
              </a:rPr>
              <a:t>Largos 14m, 12m, 8m.</a:t>
            </a:r>
            <a:br>
              <a:rPr sz="2400"/>
            </a:br>
            <a:r>
              <a:rPr b="1" lang="es-ES_tradnl" sz="2400" spc="-1" strike="noStrike">
                <a:solidFill>
                  <a:srgbClr val="000000"/>
                </a:solidFill>
                <a:latin typeface="Arial Unicode MS"/>
              </a:rPr>
              <a:t>Diámetro Mínimo: 18 cm</a:t>
            </a:r>
            <a:br>
              <a:rPr sz="2400"/>
            </a:br>
            <a:r>
              <a:rPr b="1" lang="es-ES_tradnl" sz="2400" spc="-1" strike="noStrike">
                <a:solidFill>
                  <a:srgbClr val="000000"/>
                </a:solidFill>
                <a:latin typeface="Arial Unicode MS"/>
              </a:rPr>
              <a:t>Diámetro Máximo: 45cm</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ESPECÍFICACIONES Y DIMENSIONES DE LOS PRODUCTIOS FORESTALES</a:t>
            </a:r>
            <a:endParaRPr b="0" lang="en-US" sz="2000" spc="-1" strike="noStrike">
              <a:solidFill>
                <a:srgbClr val="000000"/>
              </a:solidFill>
              <a:latin typeface="Arial"/>
            </a:endParaRPr>
          </a:p>
        </p:txBody>
      </p:sp>
      <p:sp>
        <p:nvSpPr>
          <p:cNvPr id="152" name=""/>
          <p:cNvSpPr/>
          <p:nvPr/>
        </p:nvSpPr>
        <p:spPr>
          <a:xfrm>
            <a:off x="228600" y="1676520"/>
            <a:ext cx="861048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zo o trozo aserrable con nu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rramados,Sin daños mecánicos o deformaciones,Libres de clavos y o alambres. Nudos cortados a ras del fuste.Libres de mancha azul.Trozos con diámetro menor a 30cm deben de tener nudos con un máximo de 7,5 cm. Trozos con diámetro mayor a 30cm deben tener nudos con un máximo de 12,5 cm., Densidad mínima de la madera 402 Kg/m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rgos: 12 m,8 m, 4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ámetro Mínimo: 16 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ámetro Máximo: 45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ESPECÍFICACIONES Y DIMENSIONES DE LOS PRODUCTOS FORESTALES</a:t>
            </a:r>
            <a:endParaRPr b="0" lang="en-US" sz="2000" spc="-1" strike="noStrike">
              <a:solidFill>
                <a:srgbClr val="000000"/>
              </a:solidFill>
              <a:latin typeface="Arial"/>
            </a:endParaRPr>
          </a:p>
        </p:txBody>
      </p:sp>
      <p:sp>
        <p:nvSpPr>
          <p:cNvPr id="154" name=""/>
          <p:cNvSpPr/>
          <p:nvPr/>
        </p:nvSpPr>
        <p:spPr>
          <a:xfrm>
            <a:off x="228600" y="1676520"/>
            <a:ext cx="861048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zo pulp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rramados,Sin daños mecánicos o deformaciones,Libres de clavos y/ o alambres. Nudos cortados a ras del fuste. Rectos y sanos. No pueden estar quemados. Densidad mínima de la madera 402 Kg/m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rgos: 2.44 m 1.22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ámetro Mínimo: 8 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ámetro Máximo:  35 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1752480"/>
            <a:ext cx="9144000" cy="4977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grandes empresa ejecutan sus actividades de cosecha a través de contratistas o empresa de servicios forestales EMSEFORES, las cuales les fijan a las EMSEFORES tarifas de cosecha según un polinomio de costos. También es usado un  sistemas de licitación y propuesta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e polinomio integra factores tales como maquinaria a utilizar, rendimientos, sueldos, alimentación del personal, depreciación de la maquinaria, entre otros múltiples factores de los componentes del costo, entre ellos condiciones del rodal. Este sistema es el más usado por la gran inversión que significan las máquina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secuencias de la estructura y sistemas de operación de las empresas en la actividades de cosech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secuencias de la estructura y sistemas de operación de las empresas en la actividades de cosecha:</a:t>
            </a:r>
            <a:endParaRPr b="0" lang="en-US" sz="2800" spc="-1" strike="noStrike">
              <a:solidFill>
                <a:srgbClr val="000000"/>
              </a:solidFill>
              <a:latin typeface="Arial"/>
            </a:endParaRPr>
          </a:p>
        </p:txBody>
      </p:sp>
      <p:sp>
        <p:nvSpPr>
          <p:cNvPr id="158" name=""/>
          <p:cNvSpPr/>
          <p:nvPr/>
        </p:nvSpPr>
        <p:spPr>
          <a:xfrm>
            <a:off x="0" y="1752480"/>
            <a:ext cx="9144000" cy="4933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sistemas de licitación consisten en que las EMSEFORES ofertan un valor o costo de extracción de madera según normas y reglamento o bases de la licitación de la gran empresa. </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ambos casos las EMSEFORES deben otorgar boletas de garantía sobre el trabajo ejecutado y el valor de ella es variable según el cliente. Por lo general es entre un 10% a 30% del valor de los costos de extracc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secuencias de la estructura y sistemas de operación de las empresas en la actividades de cosecha:</a:t>
            </a:r>
            <a:endParaRPr b="0" lang="en-US" sz="2800" spc="-1" strike="noStrike">
              <a:solidFill>
                <a:srgbClr val="000000"/>
              </a:solidFill>
              <a:latin typeface="Arial"/>
            </a:endParaRPr>
          </a:p>
        </p:txBody>
      </p:sp>
      <p:sp>
        <p:nvSpPr>
          <p:cNvPr id="160" name=""/>
          <p:cNvSpPr/>
          <p:nvPr/>
        </p:nvSpPr>
        <p:spPr>
          <a:xfrm>
            <a:off x="0" y="1752480"/>
            <a:ext cx="9144000" cy="4599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bos sistemas tienen sus ventajas y debilidad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ando las tarifas son fijadas por la gran empresa, por lo general las EMSEFORES son cautivas y las maquinarias que utilizan están en prenda con las instituciones financieras, o por la gran industri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o permite utilizar maquinaria más nueva con mayores rendimient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mbién permite  mayores consideraciones de tipo silvícola y ambiental en la cosech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0" y="1052640"/>
          <a:ext cx="9144000" cy="5040360"/>
        </p:xfrm>
        <a:graphic>
          <a:graphicData uri="http://schemas.openxmlformats.org/presentationml/2006/ole">
            <p:oleObj progId="Excel.Sheet.12" r:id="rId1" spid="">
              <p:embed/>
              <p:pic>
                <p:nvPicPr>
                  <p:cNvPr id="111" name="" descr=""/>
                  <p:cNvPicPr/>
                  <p:nvPr/>
                </p:nvPicPr>
                <p:blipFill>
                  <a:blip r:embed="rId2"/>
                  <a:stretch/>
                </p:blipFill>
                <p:spPr>
                  <a:xfrm>
                    <a:off x="0" y="1052640"/>
                    <a:ext cx="9144000" cy="504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secuencias de la estructura y sistemas de operación de las empresas en la actividades de cosecha:</a:t>
            </a:r>
            <a:endParaRPr b="0" lang="en-US" sz="2800" spc="-1" strike="noStrike">
              <a:solidFill>
                <a:srgbClr val="000000"/>
              </a:solidFill>
              <a:latin typeface="Arial"/>
            </a:endParaRPr>
          </a:p>
        </p:txBody>
      </p:sp>
      <p:sp>
        <p:nvSpPr>
          <p:cNvPr id="162" name=""/>
          <p:cNvSpPr/>
          <p:nvPr/>
        </p:nvSpPr>
        <p:spPr>
          <a:xfrm>
            <a:off x="0" y="1752480"/>
            <a:ext cx="9144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0" y="1905120"/>
            <a:ext cx="8839080" cy="6101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mente en el caso de las licitaciones las EMSEFORES son dueñas de la maquinaria, que por lo general ya ha cumplido su vida útil.</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 es maquinaria de punta o son empresas de servicios más chicas que utilizan sistemas de cosecha con animal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personal por lo general es poco adiestrado,  se contrata en forma eventual y normalmente a trato. Lo anterior se traduce en bajos rendimientos, escasa seguridad en las faenas, mala alimentación y baja calidad de vida de los trabajadores foresta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324000" y="898560"/>
          <a:ext cx="8135640" cy="5794200"/>
        </p:xfrm>
        <a:graphic>
          <a:graphicData uri="http://schemas.openxmlformats.org/presentationml/2006/ole">
            <p:oleObj progId="Excel.Sheet.12" r:id="rId1" spid="">
              <p:embed/>
              <p:pic>
                <p:nvPicPr>
                  <p:cNvPr id="113" name="" descr=""/>
                  <p:cNvPicPr/>
                  <p:nvPr/>
                </p:nvPicPr>
                <p:blipFill>
                  <a:blip r:embed="rId2"/>
                  <a:stretch/>
                </p:blipFill>
                <p:spPr>
                  <a:xfrm>
                    <a:off x="324000" y="898560"/>
                    <a:ext cx="8135640" cy="579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grpSp>
        <p:nvGrpSpPr>
          <p:cNvPr id="114" name=""/>
          <p:cNvGrpSpPr/>
          <p:nvPr/>
        </p:nvGrpSpPr>
        <p:grpSpPr>
          <a:xfrm>
            <a:off x="1143000" y="685800"/>
            <a:ext cx="6934320" cy="6172200"/>
            <a:chOff x="1143000" y="685800"/>
            <a:chExt cx="6934320" cy="6172200"/>
          </a:xfrm>
        </p:grpSpPr>
        <p:sp>
          <p:nvSpPr>
            <p:cNvPr id="115" name=""/>
            <p:cNvSpPr/>
            <p:nvPr/>
          </p:nvSpPr>
          <p:spPr>
            <a:xfrm>
              <a:off x="1143000" y="6858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600200" y="1219320"/>
              <a:ext cx="6477120" cy="3039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GUNAS CARACTERÍSTICAS DE LA INDUSTRIA FORESTAL PRIMARIA</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7" name="" descr=""/>
            <p:cNvPicPr/>
            <p:nvPr/>
          </p:nvPicPr>
          <p:blipFill>
            <a:blip r:embed="rId1"/>
            <a:stretch/>
          </p:blipFill>
          <p:spPr>
            <a:xfrm>
              <a:off x="2712960" y="4495680"/>
              <a:ext cx="3718080" cy="23623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18" name=""/>
          <p:cNvSpPr/>
          <p:nvPr/>
        </p:nvSpPr>
        <p:spPr>
          <a:xfrm>
            <a:off x="1143000" y="6858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304920" y="476280"/>
            <a:ext cx="8458200" cy="6288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INDUSTRIA FORESTAL PRIMARIA, ES DECIR AQUELLA QUE UTILIZA COMO MATERIA PRIMA TROZAS Y OTROS PRODUCTOS DEL BOSQUE,   GENERA ALREDEDOR DE U$  5.000 MILLONES DE DOLARES ANUALES LO QUE EQUIVALE AL 3,3 % DEL PIB NACIONAL  Y CON FUERTE PROYECCIÓN FUTURA.</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MAYOR APORTACIÓN DE ESTAS CIFRAS LAS GENERA LA EXPORTACIÓN DE PRODUCTOS  TALES COMO PULPA Y PAPEL,   MADERA ASERRADA,   TABLEROS Y CHAPAS, TROZAS DE EXPORTACIÓN Y OTROS PRODU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20" name=""/>
          <p:cNvSpPr/>
          <p:nvPr/>
        </p:nvSpPr>
        <p:spPr>
          <a:xfrm>
            <a:off x="457200" y="620640"/>
            <a:ext cx="8381880" cy="6084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N TÉRMINOS HISTORICOS EN LA ÉPOCA DE LOS AÑOS 60 SE EMPIEZA A CONSUMIR EN FORMA MASIVA MADERA DE PINO RADIATA Y BAJA EL CONSUMO DE ESPECIES DEL BOSQUE NATIV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DO LO ANTERIOR Y DEBIDO AL DECRETO LEY 701 Y MODIFICACIONES, LA OFERTA DE RADIATA Y  EL CONSUMO DE PINO CRECE CERCA DEL 90%.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 EMBARGO, ACTUALMENTE EL CONSUMO RELATIVO  HA BAJADO EN SU PARTICIPACIÓN DEBIDO A LA PRODUCCIÓN DE EUCALYPTUS, ÁLAMOS  Y ALGUNAS NATIV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50920" y="836640"/>
          <a:ext cx="8642160" cy="5548320"/>
        </p:xfrm>
        <a:graphic>
          <a:graphicData uri="http://schemas.openxmlformats.org/presentationml/2006/ole">
            <p:oleObj progId="Excel.Sheet.12" r:id="rId1" spid="">
              <p:embed/>
              <p:pic>
                <p:nvPicPr>
                  <p:cNvPr id="122" name="" descr=""/>
                  <p:cNvPicPr/>
                  <p:nvPr/>
                </p:nvPicPr>
                <p:blipFill>
                  <a:blip r:embed="rId2"/>
                  <a:stretch/>
                </p:blipFill>
                <p:spPr>
                  <a:xfrm>
                    <a:off x="250920" y="836640"/>
                    <a:ext cx="8642160" cy="55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3" name=""/>
          <p:cNvGraphicFramePr/>
          <p:nvPr/>
        </p:nvGraphicFramePr>
        <p:xfrm>
          <a:off x="250920" y="1084320"/>
          <a:ext cx="8893080" cy="5052960"/>
        </p:xfrm>
        <a:graphic>
          <a:graphicData uri="http://schemas.openxmlformats.org/presentationml/2006/ole">
            <p:oleObj progId="Excel.Sheet.12" r:id="rId1" spid="">
              <p:embed/>
              <p:pic>
                <p:nvPicPr>
                  <p:cNvPr id="124" name="" descr=""/>
                  <p:cNvPicPr/>
                  <p:nvPr/>
                </p:nvPicPr>
                <p:blipFill>
                  <a:blip r:embed="rId2"/>
                  <a:stretch/>
                </p:blipFill>
                <p:spPr>
                  <a:xfrm>
                    <a:off x="250920" y="1084320"/>
                    <a:ext cx="8893080" cy="505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9T17:22:05Z</dcterms:created>
  <dc:creator>MANUEL TORALl</dc:creator>
  <dc:description/>
  <dc:language>en-US</dc:language>
  <cp:lastModifiedBy>.</cp:lastModifiedBy>
  <cp:lastPrinted>2001-08-01T02:30:25Z</cp:lastPrinted>
  <dcterms:modified xsi:type="dcterms:W3CDTF">2008-08-28T21:47:55Z</dcterms:modified>
  <cp:revision>62</cp:revision>
  <dc:subject>COSECHA FORESTAL</dc:subject>
  <dc:title>EL MERCADO DE LA COSECHA FORESTAL CHILENA</dc:title>
</cp:coreProperties>
</file>