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6E637C-2A63-48B6-9155-A68DB13BD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652CC1-D167-496A-82BF-851BD1491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3700A0-0BC7-4C9C-A913-094F53974E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ED1E48-16D2-43CC-B442-9201A90582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99C1F-3C90-453A-86D8-038CD7D7B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25E89-0C6D-4AA2-897F-0F1960F19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EE6EE-F8E9-476E-92DF-025E837E7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E09BE-54C0-4ED2-8116-AA5C0743B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42864-39BA-448B-82CB-0DEA8F632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A456F-407D-4695-87CB-0B76EFB87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40D7A-6814-45CE-8642-CE94DF537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04F0F-6755-4488-B9C3-9E009F25B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4F7E8-21B2-432D-B20E-69A6E9AA9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A30BA-153E-4763-B4D7-A817A0AE9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6E931-BE0F-4FD9-B550-F5F12554C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75BCE-5A0C-42D9-BC14-DD5567DA4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65545-330C-452C-8798-E83F489A0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3A9709-E8AC-4D2D-8DB0-7C11E6AA3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B85CF7-CC7D-4432-955C-BA8E5BD75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C8F684-BBF8-41E1-B723-B657E1EDC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A45838-812E-472C-A350-BB761FE36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34B54-AFDC-4631-901F-53BF46479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AAA580-4C81-443D-8E09-C36D5E9C9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F70D15-7179-4A3D-8FD2-4AA680F563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4CB9-D910-4CCC-962E-3362E40D213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E07B-DE96-4DB6-ABA1-0021F0C32A1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91920"/>
            <a:ext cx="7772400" cy="287964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PERFICIES DE BOSQUES </a:t>
            </a:r>
            <a:br>
              <a:rPr sz="4000"/>
            </a:br>
            <a:r>
              <a:rPr b="1" lang="es-ES" sz="4000" spc="-1" strike="noStrike">
                <a:solidFill>
                  <a:srgbClr val="000000"/>
                </a:solidFill>
                <a:latin typeface="Arial"/>
              </a:rPr>
              <a:t>EN CHILE </a:t>
            </a:r>
            <a:br>
              <a:rPr sz="4000"/>
            </a:br>
            <a:r>
              <a:rPr b="1" lang="es-ES" sz="4000" spc="-1" strike="noStrike">
                <a:solidFill>
                  <a:srgbClr val="000000"/>
                </a:solidFill>
                <a:latin typeface="Arial"/>
              </a:rPr>
              <a:t> OFERTA  Y CONSUMO DE LA INDUSTRIA PRIMARIA </a:t>
            </a:r>
            <a:endParaRPr b="0" lang="en-US" sz="4000" spc="-1" strike="noStrike">
              <a:solidFill>
                <a:srgbClr val="000000"/>
              </a:solidFill>
              <a:latin typeface="Arial"/>
            </a:endParaRPr>
          </a:p>
        </p:txBody>
      </p:sp>
      <p:graphicFrame>
        <p:nvGraphicFramePr>
          <p:cNvPr id="106" name=""/>
          <p:cNvGraphicFramePr/>
          <p:nvPr/>
        </p:nvGraphicFramePr>
        <p:xfrm>
          <a:off x="6876720" y="3860640"/>
          <a:ext cx="1700280" cy="2421000"/>
        </p:xfrm>
        <a:graphic>
          <a:graphicData uri="http://schemas.openxmlformats.org/presentationml/2006/ole">
            <p:oleObj r:id="rId1" spid="">
              <p:embed/>
              <p:pic>
                <p:nvPicPr>
                  <p:cNvPr id="107" name="" descr=""/>
                  <p:cNvPicPr/>
                  <p:nvPr/>
                </p:nvPicPr>
                <p:blipFill>
                  <a:blip r:embed="rId2"/>
                  <a:stretch/>
                </p:blipFill>
                <p:spPr>
                  <a:xfrm>
                    <a:off x="6876720" y="3860640"/>
                    <a:ext cx="170028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5" name=""/>
          <p:cNvSpPr/>
          <p:nvPr/>
        </p:nvSpPr>
        <p:spPr>
          <a:xfrm>
            <a:off x="380880" y="457200"/>
            <a:ext cx="8382240" cy="603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AS CIFRAS ANTERIORES SE PUEDEN DESTACAR TRES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A LA SUPERFICIE DE PLANTACIONES Y SU PRODUCCIÓN  HA DISMINUIDO LA PRESIÓN DE COSECHA SOBRE EL BOSQUE NATIVO</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PLANTACIONES DE PINO,  EUCALIPTO Y DE OTRAS ESPECIES PLANTADAS, HAN PODIDO SOSTENER Y ELEVAR LA PRODUCCIÓN  INDUSTRIAL Y QUE ÉSTA SEA COMPETITIVA A NIVEL MUND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E  SE  HA  PRESENTADO  EN  EL MERCADO INTERNACIONAL CON PRODUCTOS DE BAJO COSTO , HOMOGÉNEOS PRIVELEGIANDO LA CANTIDAD Y AHORA ÚLTIMO LA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6"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4920" y="304920"/>
            <a:ext cx="853416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 PULPA Y PAP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DUDA LA INDUSTRIA DE PULPA Y PAPEL ES LA QUE EXPLICA EL DESARROLLO ACTUAL DE LAS PLANTACIONES, POR LOS ALTOS VOLUMENES DE MADERA REQUERIDOS, LO QUE OBLIGO A FORESTAR GRANDES SUPERFICIES. POSTERIORMENTE AL EXISTIR PRECIOS CRECIENTES DE LA MADERA EN TROZO LA GRAN INDUSTRIA SE HA ORIENTADO A LA PRODUCCIÓN DE MADERA ASERRADA Y  CAMBIOS EN LOS ESQUEMAS DE MANEJOS DE LAS PLANTACI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O LO ANTERIOR, LO LÓGICO ES ABASTECER A ESTA INDUSTRIA A PARTIR DE LAS PUNTAS DE LOS ÁRBOLES, A LA MADERA RESIDUAL DEL BOSQUE  Y DE LAS ASTILLAS COMO RESULTADO DE LOS PROCESOS DE ASERRÍ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1905120"/>
          <a:ext cx="8839080" cy="2965320"/>
        </p:xfrm>
        <a:graphic>
          <a:graphicData uri="http://schemas.openxmlformats.org/presentationml/2006/ole">
            <p:oleObj progId="Excel.Sheet.12" r:id="rId1" spid="">
              <p:embed/>
              <p:pic>
                <p:nvPicPr>
                  <p:cNvPr id="129" name="" descr=""/>
                  <p:cNvPicPr/>
                  <p:nvPr/>
                </p:nvPicPr>
                <p:blipFill>
                  <a:blip r:embed="rId2"/>
                  <a:stretch/>
                </p:blipFill>
                <p:spPr>
                  <a:xfrm>
                    <a:off x="0" y="1905120"/>
                    <a:ext cx="8839080" cy="2965320"/>
                  </a:xfrm>
                  <a:prstGeom prst="rect">
                    <a:avLst/>
                  </a:prstGeom>
                  <a:ln w="0">
                    <a:noFill/>
                  </a:ln>
                </p:spPr>
              </p:pic>
            </p:oleObj>
          </a:graphicData>
        </a:graphic>
      </p:graphicFrame>
      <p:pic>
        <p:nvPicPr>
          <p:cNvPr id="130" name="" descr=""/>
          <p:cNvPicPr/>
          <p:nvPr/>
        </p:nvPicPr>
        <p:blipFill>
          <a:blip r:embed="rId3"/>
          <a:stretch/>
        </p:blipFill>
        <p:spPr>
          <a:xfrm>
            <a:off x="2163600" y="457200"/>
            <a:ext cx="118908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4920" y="304920"/>
            <a:ext cx="8534160" cy="578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L ASERRI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 INDUSTRIA SE HA CARACTERIZADO POR EL SIGUIENTE DESARROLL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ERO EXISTIÓ UNA FUERTE ATOMIZACIÓN  DE LOS ASERRADER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 SU NÚMER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PROPIETARIO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SUS  TAMAÑOS,  TIPOS Y CALIDAD DE PRODUCT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NOLOGÍAS EMPLEADA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UALMENTE EL NUMERO DE ASERRADEROS HA BAJADO CONSIDERABLEMENTE, AUMENTANDO SU TAMAÑO, EFICIENCIA Y PRODUCCIÓ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26920" y="1197000"/>
            <a:ext cx="762012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DERA EN TROZOS COSTOS Y VALORES RELATIV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OS PROMEDIOS DE COSECHA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PONIBILIDAD DE MADERA</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0" y="533520"/>
          <a:ext cx="9144000" cy="5410080"/>
        </p:xfrm>
        <a:graphic>
          <a:graphicData uri="http://schemas.openxmlformats.org/presentationml/2006/ole">
            <p:oleObj progId="Excel.Sheet.12" r:id="rId1" spid="">
              <p:embed/>
              <p:pic>
                <p:nvPicPr>
                  <p:cNvPr id="135" name="" descr=""/>
                  <p:cNvPicPr/>
                  <p:nvPr/>
                </p:nvPicPr>
                <p:blipFill>
                  <a:blip r:embed="rId2"/>
                  <a:stretch/>
                </p:blipFill>
                <p:spPr>
                  <a:xfrm>
                    <a:off x="0" y="533520"/>
                    <a:ext cx="91440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0" y="1371600"/>
          <a:ext cx="9144000" cy="4643280"/>
        </p:xfrm>
        <a:graphic>
          <a:graphicData uri="http://schemas.openxmlformats.org/presentationml/2006/ole">
            <p:oleObj progId="Excel.Sheet.12" r:id="rId1" spid="">
              <p:embed/>
              <p:pic>
                <p:nvPicPr>
                  <p:cNvPr id="137" name="" descr=""/>
                  <p:cNvPicPr/>
                  <p:nvPr/>
                </p:nvPicPr>
                <p:blipFill>
                  <a:blip r:embed="rId2"/>
                  <a:stretch/>
                </p:blipFill>
                <p:spPr>
                  <a:xfrm>
                    <a:off x="0" y="1371600"/>
                    <a:ext cx="91440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440" y="1112760"/>
          <a:ext cx="9144000" cy="4633920"/>
        </p:xfrm>
        <a:graphic>
          <a:graphicData uri="http://schemas.openxmlformats.org/presentationml/2006/ole">
            <p:oleObj progId="Excel.Sheet.12" r:id="rId1" spid="">
              <p:embed/>
              <p:pic>
                <p:nvPicPr>
                  <p:cNvPr id="139" name="" descr=""/>
                  <p:cNvPicPr/>
                  <p:nvPr/>
                </p:nvPicPr>
                <p:blipFill>
                  <a:blip r:embed="rId2"/>
                  <a:stretch/>
                </p:blipFill>
                <p:spPr>
                  <a:xfrm>
                    <a:off x="1440" y="1112760"/>
                    <a:ext cx="914400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052640"/>
            <a:ext cx="8001000" cy="51127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ÓN DE LO EXPUES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MATERIAS TRADAS EN ESTA CÁTED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ÓLO INFLUYEN ENTRE EL 6 -9% DEL VALOR DE LA MATERIA PRIMA PUESTA EN EL MERCADO EXTERNO</a:t>
            </a:r>
            <a:r>
              <a:rPr b="0" lang="en-US" sz="2800" spc="-1" strike="noStrike">
                <a:solidFill>
                  <a:srgbClr val="9999cc"/>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228600"/>
            <a:ext cx="8893080" cy="6483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ODO DE EJEMPLO LOS COSTOS PROMEDIOS DE ALGUNAS FAENAS DE COSECHA  S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TORRE DE MADEREO : 7.23 - 8.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TRADICIONAL ( BUEYES ) : 6.26 - 7.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SKIDDERS: 4,23 - 6.25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TRINEUMÁTICO: 6.61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SKIDDERS : 7.91 -8.2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TRADICIONAL: 6.26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ENAS DE RECUPERACIÓN: 6.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ETES: 4,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GUÍO : 1.0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RUCCIÓN CAMINOS DE TIERRA TALA RASA. 5.3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CAMINOS  DE ADMINISTRACIÓN PREDIAL: 2.35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INO RIPIO TALA RASA: 14.0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ENTES PEQUEÑOS: 337 US $/METRO     ALCANTARILLAS 38 US$/ME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971640" y="620640"/>
          <a:ext cx="7632720" cy="5929560"/>
        </p:xfrm>
        <a:graphic>
          <a:graphicData uri="http://schemas.openxmlformats.org/presentationml/2006/ole">
            <p:oleObj progId="Excel.Sheet.12" r:id="rId1" spid="">
              <p:embed/>
              <p:pic>
                <p:nvPicPr>
                  <p:cNvPr id="109" name="" descr=""/>
                  <p:cNvPicPr/>
                  <p:nvPr/>
                </p:nvPicPr>
                <p:blipFill>
                  <a:blip r:embed="rId2"/>
                  <a:stretch/>
                </p:blipFill>
                <p:spPr>
                  <a:xfrm>
                    <a:off x="971640" y="620640"/>
                    <a:ext cx="7632720" cy="592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0" y="609480"/>
          <a:ext cx="9144000" cy="5083200"/>
        </p:xfrm>
        <a:graphic>
          <a:graphicData uri="http://schemas.openxmlformats.org/presentationml/2006/ole">
            <p:oleObj progId="Excel.Sheet.12" r:id="rId1" spid="">
              <p:embed/>
              <p:pic>
                <p:nvPicPr>
                  <p:cNvPr id="143" name="" descr=""/>
                  <p:cNvPicPr/>
                  <p:nvPr/>
                </p:nvPicPr>
                <p:blipFill>
                  <a:blip r:embed="rId2"/>
                  <a:stretch/>
                </p:blipFill>
                <p:spPr>
                  <a:xfrm>
                    <a:off x="0" y="609480"/>
                    <a:ext cx="91440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04920" y="762120"/>
          <a:ext cx="8610480" cy="5562360"/>
        </p:xfrm>
        <a:graphic>
          <a:graphicData uri="http://schemas.openxmlformats.org/presentationml/2006/ole">
            <p:oleObj progId="Excel.Sheet.12" r:id="rId1" spid="">
              <p:embed/>
              <p:pic>
                <p:nvPicPr>
                  <p:cNvPr id="145" name="" descr=""/>
                  <p:cNvPicPr/>
                  <p:nvPr/>
                </p:nvPicPr>
                <p:blipFill>
                  <a:blip r:embed="rId2"/>
                  <a:stretch/>
                </p:blipFill>
                <p:spPr>
                  <a:xfrm>
                    <a:off x="304920" y="762120"/>
                    <a:ext cx="86104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128520"/>
          <a:ext cx="9144000" cy="6729480"/>
        </p:xfrm>
        <a:graphic>
          <a:graphicData uri="http://schemas.openxmlformats.org/presentationml/2006/ole">
            <p:oleObj r:id="rId1" spid="">
              <p:embed/>
              <p:pic>
                <p:nvPicPr>
                  <p:cNvPr id="147" name="" descr=""/>
                  <p:cNvPicPr/>
                  <p:nvPr/>
                </p:nvPicPr>
                <p:blipFill>
                  <a:blip r:embed="rId2"/>
                  <a:stretch/>
                </p:blipFill>
                <p:spPr>
                  <a:xfrm>
                    <a:off x="0" y="128520"/>
                    <a:ext cx="9144000" cy="67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42840"/>
          <a:ext cx="9144000" cy="6843600"/>
        </p:xfrm>
        <a:graphic>
          <a:graphicData uri="http://schemas.openxmlformats.org/presentationml/2006/ole">
            <p:oleObj r:id="rId1" spid="">
              <p:embed/>
              <p:pic>
                <p:nvPicPr>
                  <p:cNvPr id="149" name="" descr=""/>
                  <p:cNvPicPr/>
                  <p:nvPr/>
                </p:nvPicPr>
                <p:blipFill>
                  <a:blip r:embed="rId2"/>
                  <a:stretch/>
                </p:blipFill>
                <p:spPr>
                  <a:xfrm>
                    <a:off x="0" y="42840"/>
                    <a:ext cx="9144000" cy="68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052640"/>
            <a:ext cx="8218440" cy="5400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400" spc="-1" strike="noStrike">
                <a:solidFill>
                  <a:srgbClr val="00007d"/>
                </a:solidFill>
                <a:latin typeface="Arial Unicode MS"/>
              </a:rPr>
              <a:t>EPECÍFICACIONES Y DIMENSIONES DE LOS PRODUCTIOS FORESTALES</a:t>
            </a:r>
            <a:br>
              <a:rPr sz="2000"/>
            </a:br>
            <a:r>
              <a:rPr b="1" lang="es-ES_tradnl" sz="2400" spc="-1" strike="noStrike">
                <a:solidFill>
                  <a:srgbClr val="000000"/>
                </a:solidFill>
                <a:latin typeface="Arial Unicode MS"/>
              </a:rPr>
              <a:t>Rollizo o trozo aserrable libre de nudos:</a:t>
            </a:r>
            <a:br>
              <a:rPr sz="2400"/>
            </a:br>
            <a:r>
              <a:rPr b="1" lang="es-ES_tradnl" sz="2400" spc="-1" strike="noStrike">
                <a:solidFill>
                  <a:srgbClr val="000000"/>
                </a:solidFill>
                <a:latin typeface="Arial Unicode MS"/>
              </a:rPr>
              <a:t>Árboles con internudos largos, Libre de ramas y o pedúnculo</a:t>
            </a:r>
            <a:br>
              <a:rPr sz="2400"/>
            </a:br>
            <a:r>
              <a:rPr b="1" lang="es-ES_tradnl" sz="2400" spc="-1" strike="noStrike">
                <a:solidFill>
                  <a:srgbClr val="000000"/>
                </a:solidFill>
                <a:latin typeface="Arial Unicode MS"/>
              </a:rPr>
              <a:t>Libre de clavos y/o alambres,  Libres de mancha azul</a:t>
            </a:r>
            <a:br>
              <a:rPr sz="2400"/>
            </a:br>
            <a:r>
              <a:rPr b="1" lang="es-ES_tradnl" sz="2400" spc="-1" strike="noStrike">
                <a:solidFill>
                  <a:srgbClr val="000000"/>
                </a:solidFill>
                <a:latin typeface="Arial Unicode MS"/>
              </a:rPr>
              <a:t>Cilindro nudoso no mayor a 18 cm de diámetro, Densidad mínima de la madera 402 Kg/m3.</a:t>
            </a:r>
            <a:br>
              <a:rPr sz="2400"/>
            </a:br>
            <a:r>
              <a:rPr b="1" lang="es-ES_tradnl" sz="2400" spc="-1" strike="noStrike">
                <a:solidFill>
                  <a:srgbClr val="000000"/>
                </a:solidFill>
                <a:latin typeface="Arial Unicode MS"/>
              </a:rPr>
              <a:t>Largos 14m, 12m, 8m.</a:t>
            </a:r>
            <a:br>
              <a:rPr sz="2400"/>
            </a:br>
            <a:r>
              <a:rPr b="1" lang="es-ES_tradnl" sz="2400" spc="-1" strike="noStrike">
                <a:solidFill>
                  <a:srgbClr val="000000"/>
                </a:solidFill>
                <a:latin typeface="Arial Unicode MS"/>
              </a:rPr>
              <a:t>Diámetro Mínimo: 18 cm</a:t>
            </a:r>
            <a:br>
              <a:rPr sz="2400"/>
            </a:br>
            <a:r>
              <a:rPr b="1" lang="es-ES_tradnl" sz="2400" spc="-1" strike="noStrike">
                <a:solidFill>
                  <a:srgbClr val="000000"/>
                </a:solidFill>
                <a:latin typeface="Arial Unicode MS"/>
              </a:rPr>
              <a:t>Diámetro Máximo: 45c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IOS FORESTALES</a:t>
            </a:r>
            <a:endParaRPr b="0" lang="en-US" sz="2000" spc="-1" strike="noStrike">
              <a:solidFill>
                <a:srgbClr val="000000"/>
              </a:solidFill>
              <a:latin typeface="Arial"/>
            </a:endParaRPr>
          </a:p>
        </p:txBody>
      </p:sp>
      <p:sp>
        <p:nvSpPr>
          <p:cNvPr id="152" name=""/>
          <p:cNvSpPr/>
          <p:nvPr/>
        </p:nvSpPr>
        <p:spPr>
          <a:xfrm>
            <a:off x="228600" y="1676520"/>
            <a:ext cx="86104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o trozo aserrable con nu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Libres de mancha azul.Trozos con diámetro menor a 30cm deben de tener nudos con un máximo de 7,5 cm. Trozos con diámetro mayor a 30cm deben tener nudos con un máximo de 12,5 cm.,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12 m,8 m, 4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16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45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OS FORESTALES</a:t>
            </a:r>
            <a:endParaRPr b="0" lang="en-US" sz="2000" spc="-1" strike="noStrike">
              <a:solidFill>
                <a:srgbClr val="000000"/>
              </a:solidFill>
              <a:latin typeface="Arial"/>
            </a:endParaRPr>
          </a:p>
        </p:txBody>
      </p:sp>
      <p:sp>
        <p:nvSpPr>
          <p:cNvPr id="154" name=""/>
          <p:cNvSpPr/>
          <p:nvPr/>
        </p:nvSpPr>
        <p:spPr>
          <a:xfrm>
            <a:off x="228600" y="1676520"/>
            <a:ext cx="8610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pulp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 Rectos y sanos. No pueden estar quemados.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2.44 m 1.22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8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35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752480"/>
            <a:ext cx="9144000" cy="49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grandes empresa ejecutan sus actividades de cosecha a través de contratistas o empresa de servicios forestales EMSEFORES, las cuales les fijan a las EMSEFORES tarifas de cosecha según un polinomio de costos. También es usado un  sistemas de licitación y propuesta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olinomio integra factores tales como maquinaria a utilizar, rendimientos, sueldos, alimentación del personal, depreciación de la maquinaria, entre otros múltiples factores de los componentes del costo, entre ellos condiciones del rodal. Este sistema es el más usado por la gran inversión que significan las máquina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58" name=""/>
          <p:cNvSpPr/>
          <p:nvPr/>
        </p:nvSpPr>
        <p:spPr>
          <a:xfrm>
            <a:off x="0" y="1752480"/>
            <a:ext cx="9144000" cy="493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sistemas de licitación consisten en que las EMSEFORES ofertan un valor o costo de extracción de madera según normas y reglamento o bases de la licitación de la gran empresa.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ambos casos las EMSEFORES deben otorgar boletas de garantía sobre el trabajo ejecutado y el valor de ella es variable según el cliente. Por lo general es entre un 10% a 30% del valor de los costos de extr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0" name=""/>
          <p:cNvSpPr/>
          <p:nvPr/>
        </p:nvSpPr>
        <p:spPr>
          <a:xfrm>
            <a:off x="0" y="1752480"/>
            <a:ext cx="91440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os sistemas tienen sus ventajas y de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as tarifas son fijadas por la gran empresa, por lo general las EMSEFORES son cautivas y las maquinarias que utilizan están en prenda con las instituciones financieras, o por la gran industr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permite utilizar maquinaria más nueva con mayores rendimien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ermite  mayores consideraciones de tipo silvícola y ambiental en la cosech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1052640"/>
          <a:ext cx="9144000" cy="5040360"/>
        </p:xfrm>
        <a:graphic>
          <a:graphicData uri="http://schemas.openxmlformats.org/presentationml/2006/ole">
            <p:oleObj progId="Excel.Sheet.12" r:id="rId1" spid="">
              <p:embed/>
              <p:pic>
                <p:nvPicPr>
                  <p:cNvPr id="111" name="" descr=""/>
                  <p:cNvPicPr/>
                  <p:nvPr/>
                </p:nvPicPr>
                <p:blipFill>
                  <a:blip r:embed="rId2"/>
                  <a:stretch/>
                </p:blipFill>
                <p:spPr>
                  <a:xfrm>
                    <a:off x="0" y="1052640"/>
                    <a:ext cx="914400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2" name=""/>
          <p:cNvSpPr/>
          <p:nvPr/>
        </p:nvSpPr>
        <p:spPr>
          <a:xfrm>
            <a:off x="0" y="17524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0" y="1905120"/>
            <a:ext cx="8839080" cy="610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n el caso de las licitaciones las EMSEFORES son dueñas de la maquinaria, que por lo general ya ha cumplido su vida úti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maquinaria de punta o son empresas de servicios más chicas que utilizan sistemas de cosecha con animal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ersonal por lo general es poco adiestrado,  se contrata en forma eventual y normalmente a trato. Lo anterior se traduce en bajos rendimientos, escasa seguridad en las faenas, mala alimentación y baja calidad de vida de los trabajadores fores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24000" y="898560"/>
          <a:ext cx="8135640" cy="5794200"/>
        </p:xfrm>
        <a:graphic>
          <a:graphicData uri="http://schemas.openxmlformats.org/presentationml/2006/ole">
            <p:oleObj progId="Excel.Sheet.12" r:id="rId1" spid="">
              <p:embed/>
              <p:pic>
                <p:nvPicPr>
                  <p:cNvPr id="113" name="" descr=""/>
                  <p:cNvPicPr/>
                  <p:nvPr/>
                </p:nvPicPr>
                <p:blipFill>
                  <a:blip r:embed="rId2"/>
                  <a:stretch/>
                </p:blipFill>
                <p:spPr>
                  <a:xfrm>
                    <a:off x="324000" y="898560"/>
                    <a:ext cx="8135640" cy="57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grpSp>
        <p:nvGrpSpPr>
          <p:cNvPr id="114" name=""/>
          <p:cNvGrpSpPr/>
          <p:nvPr/>
        </p:nvGrpSpPr>
        <p:grpSpPr>
          <a:xfrm>
            <a:off x="1143000" y="685800"/>
            <a:ext cx="6934320" cy="6172200"/>
            <a:chOff x="1143000" y="685800"/>
            <a:chExt cx="6934320" cy="6172200"/>
          </a:xfrm>
        </p:grpSpPr>
        <p:sp>
          <p:nvSpPr>
            <p:cNvPr id="115"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00200" y="1219320"/>
              <a:ext cx="6477120" cy="303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UNAS CARACTERÍSTICAS DE LA INDUSTRIA FORESTAL PRIMARIA</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712960" y="4495680"/>
              <a:ext cx="3718080" cy="23623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18"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476280"/>
            <a:ext cx="8458200" cy="628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INDUSTRIA FORESTAL PRIMARIA, ES DECIR AQUELLA QUE UTILIZA COMO MATERIA PRIMA TROZAS Y OTROS PRODUCTOS DEL BOSQUE,   GENERA ALREDEDOR DE U$  5.000 MILLONES DE DOLARES ANUALES LO QUE EQUIVALE AL 3,3 % DEL PIB NACIONAL  Y CON FUERTE PROYECCIÓN FUTU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AYOR APORTACIÓN DE ESTAS CIFRAS LAS GENERA LA EXPORTACIÓN DE PRODUCTOS  TALES COMO PULPA Y PAPEL,   MADERA ASERRADA,   TABLEROS Y CHAPAS, TROZAS DE EXPORTACIÓN Y OTROS PRODU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0" name=""/>
          <p:cNvSpPr/>
          <p:nvPr/>
        </p:nvSpPr>
        <p:spPr>
          <a:xfrm>
            <a:off x="457200" y="620640"/>
            <a:ext cx="8381880" cy="608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TÉRMINOS HISTORICOS EN LA ÉPOCA DE LOS AÑOS 60 SE EMPIEZA A CONSUMIR EN FORMA MASIVA MADERA DE PINO RADIATA Y BAJA EL CONSUMO DE ESPECIES DEL BOSQUE NATIV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O LO ANTERIOR Y DEBIDO AL DECRETO LEY 701 Y MODIFICACIONES, LA OFERTA DE RADIATA Y  EL CONSUMO DE PINO CRECE CERCA DEL 90%.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ACTUALMENTE EL CONSUMO RELATIVO  HA BAJADO EN SU PARTICIPACIÓN DEBIDO A LA PRODUCCIÓN DE EUCALYPTUS, ÁLAMOS  Y ALGUNAS NATI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0920" y="836640"/>
          <a:ext cx="8642160" cy="5548320"/>
        </p:xfrm>
        <a:graphic>
          <a:graphicData uri="http://schemas.openxmlformats.org/presentationml/2006/ole">
            <p:oleObj progId="Excel.Sheet.12" r:id="rId1" spid="">
              <p:embed/>
              <p:pic>
                <p:nvPicPr>
                  <p:cNvPr id="122" name="" descr=""/>
                  <p:cNvPicPr/>
                  <p:nvPr/>
                </p:nvPicPr>
                <p:blipFill>
                  <a:blip r:embed="rId2"/>
                  <a:stretch/>
                </p:blipFill>
                <p:spPr>
                  <a:xfrm>
                    <a:off x="250920" y="836640"/>
                    <a:ext cx="8642160" cy="55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250920" y="1084320"/>
          <a:ext cx="8893080" cy="5052960"/>
        </p:xfrm>
        <a:graphic>
          <a:graphicData uri="http://schemas.openxmlformats.org/presentationml/2006/ole">
            <p:oleObj progId="Excel.Sheet.12" r:id="rId1" spid="">
              <p:embed/>
              <p:pic>
                <p:nvPicPr>
                  <p:cNvPr id="124" name="" descr=""/>
                  <p:cNvPicPr/>
                  <p:nvPr/>
                </p:nvPicPr>
                <p:blipFill>
                  <a:blip r:embed="rId2"/>
                  <a:stretch/>
                </p:blipFill>
                <p:spPr>
                  <a:xfrm>
                    <a:off x="250920" y="1084320"/>
                    <a:ext cx="8893080" cy="50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7:22:05Z</dcterms:created>
  <dc:creator>MANUEL TORALl</dc:creator>
  <dc:description/>
  <dc:language>en-US</dc:language>
  <cp:lastModifiedBy>.</cp:lastModifiedBy>
  <cp:lastPrinted>2001-08-01T02:30:25Z</cp:lastPrinted>
  <dcterms:modified xsi:type="dcterms:W3CDTF">2008-08-28T21:47:55Z</dcterms:modified>
  <cp:revision>62</cp:revision>
  <dc:subject>COSECHA FORESTAL</dc:subject>
  <dc:title>EL MERCADO DE LA COSECHA FORESTAL CHILENA</dc:title>
</cp:coreProperties>
</file>