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621C12-73B6-4638-ABDB-D7F45628ED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CE0DB-F396-4552-8448-873550052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9423C8-05D1-4E4C-8CF5-34291D4E63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5611D4-B8A9-4978-AD76-C35F396ED2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7BE16-DB18-481C-8A8B-BB29F82FF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40A22-4B9C-4789-9D37-EECE1A40D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3F721-9B1C-4AC4-A659-ACAB9D987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E6970-2887-4DCE-AFA6-5CEC1E649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2AB2E-59DF-4723-8181-32F1D62F0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A7F7C-B079-46B7-99D2-43DF264E3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4B2CD-B89B-4AAC-94F5-C9A7C4C75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E91A0-4A16-483C-BEDC-AE0B8EEA96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30491-F41B-43A8-988D-B3228E9ED4A9}"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04920" y="304920"/>
            <a:ext cx="8534160" cy="612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Administración: ¿ciencia o art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	</a:t>
            </a:r>
            <a:r>
              <a:rPr b="1" lang="es-ES_tradnl" sz="2600" spc="-1" strike="noStrike">
                <a:solidFill>
                  <a:srgbClr val="000000"/>
                </a:solidFill>
                <a:latin typeface="Arial"/>
                <a:ea typeface="Arial"/>
              </a:rPr>
              <a:t>Como todas las demás prácticas profesionales (medicina, composición musical, ingeniería, contabilidad e incluso fútbol), la administración es un arte.  Es saber cómo hacer algo.  Hacer cosas en vista de las realidades de una situación.  Aun así, los administradores trabajarán mejor si hacen uso de los conocimientos organizados acerca de la administración.  Estos conocimientos constituyen una ciencia. Por lo tanto, en la práctica la administración es un arte; los conocimientos organizados en los que se basa la práctica son una ciencia.  En este contexto, ciencia y arte no son mutuamente excluyentes, sino complementario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04920" y="650880"/>
            <a:ext cx="853416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Tras clasificar y analizar estos hechos, los científicos buscan relaciones causales.  Una vez probada la precisión de estas generalizaciones o hipótesis y confirmada su apariencia de verdad (es decir, su capacidad para reflejar o explicar la realidad), se les denomina "principios".  El valor de éstos radica en que permiten prever lo que ocurrirá en circunstancias similares.  Los principios no siempre son incuestionables o invariablemente ciertos, pero se les considera suficientemente válidos para efectos de predic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04920" y="650880"/>
            <a:ext cx="853416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Una </a:t>
            </a:r>
            <a:r>
              <a:rPr b="1" lang="es-ES_tradnl" sz="2800" spc="-1" strike="noStrike">
                <a:solidFill>
                  <a:srgbClr val="000000"/>
                </a:solidFill>
                <a:latin typeface="Arial"/>
                <a:ea typeface="Arial"/>
              </a:rPr>
              <a:t>teoría </a:t>
            </a:r>
            <a:r>
              <a:rPr b="0" lang="es-ES_tradnl" sz="2800" spc="-1" strike="noStrike">
                <a:solidFill>
                  <a:srgbClr val="000000"/>
                </a:solidFill>
                <a:latin typeface="Arial"/>
                <a:ea typeface="Arial"/>
              </a:rPr>
              <a:t>es una agrupación sistemática de conceptos y principios interdependientes que sirve como marco de referencia o enlace de una importante área de conocimientos.  Los datos dispersos, como las anotaciones realizadas en un pizarrón durante la discusión de un problema por un grupo de ingenieros, no son información a menos que el observador posea conocimientos sobre la teoría que explica las relaciones.  La teoría es, como lo dijo Homans, "apenas una clasificación, una serie de casillas, un mueble vacío en el que pueden acumularse hechos objetivos.  Un hecho impreciso equivale a nad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04920" y="152280"/>
            <a:ext cx="8534160" cy="64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Cuando la ciencia mejora, también mejora el arte, como ha ocurrido en las ciencias físicas y biológicas.  Es indudable que la ciencia en la que se basa la administración es aún sumamente imperfecta e inexacta.  Esto se debe a que las muchas variables que manejan los administradores son extremadamente complejas.  No obstante, los conocimientos administrativos pueden mejorar la práctica de la administración.  Sin las ventajas de la ciencia, los médicos serían poco más que brujos.  Los ejecutivos que pretenden administrar sin recurrir a la ciencia administrativa deben atenerse únicamente a la suerte, la intuición o lo que hicieron en el pasado.</a:t>
            </a:r>
            <a:r>
              <a:rPr b="1" lang="es-CL" sz="2800" spc="-1" strike="noStrike">
                <a:solidFill>
                  <a:srgbClr val="000000"/>
                </a:solidFill>
                <a:latin typeface="Arial Unicode MS"/>
                <a:ea typeface="Arial Unicode MS"/>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04920" y="152280"/>
            <a:ext cx="853416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A menos que los practicantes de la administración como de cualquier otro campo, aprendan a fuerza de prueba y error (y se ha dicho que los errores de los administradores son las pruebas de sus subordinados), no encontrarán una orientación significativa en otra parte que no sea el conocimiento acumulado subyacente en su práct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04920" y="152280"/>
            <a:ext cx="853416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Elementos de la ciencia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La ciencia es conocimiento organizado.  La característica esencial de toda ciencia es la aplicación del método científico al desarrollo del conocimiento.  Así, una ciencia comprende conceptos claros, teorías y otros conocimientos acumulados desarrollados a partir de hipótesis (supuestos de que algo es cierto), experimentación y análisi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04920" y="152280"/>
            <a:ext cx="853416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Enfoque científico</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Arial"/>
              </a:rPr>
              <a:t>El enfoque científico, requiere primeramente de conceptos claros, imágenes mentales de algo formadas mediante la generalización a partir de particularidades.  Estas palabras y términos deben ser exactos, pertinentes para las cosas sometidas a análisis e informativas para científico y practicante por igual.  Sobre esta base, el método científico supone la determinación de hechos objetivos por medio de la observació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142560" y="188640"/>
            <a:ext cx="9001080" cy="6264360"/>
          </a:xfrm>
          <a:prstGeom prst="rect">
            <a:avLst/>
          </a:prstGeom>
          <a:noFill/>
          <a:ln w="0">
            <a:noFill/>
          </a:ln>
        </p:spPr>
        <p:txBody>
          <a:bodyPr lIns="90000" rIns="90000" tIns="46800" bIns="46800"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Principales características de la ciencia: </a:t>
            </a:r>
            <a:endParaRPr b="0" lang="en-US" sz="3200" spc="-1" strike="noStrike">
              <a:solidFill>
                <a:srgbClr val="000000"/>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fáctica</a:t>
            </a:r>
            <a:r>
              <a:rPr b="0" i="1" lang="es-ES" sz="2400" spc="-1" strike="noStrike">
                <a:solidFill>
                  <a:srgbClr val="000000"/>
                </a:solidFill>
                <a:latin typeface="Arial"/>
              </a:rPr>
              <a:t> </a:t>
            </a:r>
            <a:r>
              <a:rPr b="0" lang="es-ES" sz="2400" spc="-1" strike="noStrike">
                <a:solidFill>
                  <a:srgbClr val="000000"/>
                </a:solidFill>
                <a:latin typeface="Arial"/>
              </a:rPr>
              <a:t>: parte de los hechos, los respeta, hasta cierto punto y siempre vuelve a ellos. </a:t>
            </a:r>
            <a:endParaRPr b="0" lang="en-US" sz="2400" spc="-1" strike="noStrike">
              <a:solidFill>
                <a:srgbClr val="000000"/>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Trasciende a los hechos</a:t>
            </a:r>
            <a:r>
              <a:rPr b="0" i="1" lang="es-ES" sz="2400" spc="-1" strike="noStrike">
                <a:solidFill>
                  <a:srgbClr val="000000"/>
                </a:solidFill>
                <a:latin typeface="Arial"/>
              </a:rPr>
              <a:t> </a:t>
            </a:r>
            <a:r>
              <a:rPr b="0" lang="es-ES" sz="2400" spc="-1" strike="noStrike">
                <a:solidFill>
                  <a:srgbClr val="000000"/>
                </a:solidFill>
                <a:latin typeface="Arial"/>
              </a:rPr>
              <a:t>: descarta hechos, produce nuevos hechos y los explica. </a:t>
            </a:r>
            <a:endParaRPr b="0" lang="en-US" sz="2400" spc="-1" strike="noStrike">
              <a:solidFill>
                <a:srgbClr val="000000"/>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analítica</a:t>
            </a:r>
            <a:r>
              <a:rPr b="0" i="1" lang="es-ES" sz="2400" spc="-1" strike="noStrike">
                <a:solidFill>
                  <a:srgbClr val="000000"/>
                </a:solidFill>
                <a:latin typeface="Arial"/>
              </a:rPr>
              <a:t> </a:t>
            </a:r>
            <a:r>
              <a:rPr b="0" lang="es-ES" sz="2400" spc="-1" strike="noStrike">
                <a:solidFill>
                  <a:srgbClr val="000000"/>
                </a:solidFill>
                <a:latin typeface="Arial"/>
              </a:rPr>
              <a:t>: aborda problemas circunscriptos, uno a uno, y trata de descomponerlos, de entender sus componentes; intenta descubrir los elementos que componen cada totalidad, y las interconexiones que explican su integración. </a:t>
            </a:r>
            <a:endParaRPr b="0" lang="en-US" sz="2400" spc="-1" strike="noStrike">
              <a:solidFill>
                <a:srgbClr val="000000"/>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especializada</a:t>
            </a:r>
            <a:r>
              <a:rPr b="0" i="1" lang="es-ES" sz="2400" spc="-1" strike="noStrike">
                <a:solidFill>
                  <a:srgbClr val="000000"/>
                </a:solidFill>
                <a:latin typeface="Arial"/>
              </a:rPr>
              <a:t> </a:t>
            </a:r>
            <a:r>
              <a:rPr b="0" lang="es-ES" sz="2400" spc="-1" strike="noStrike">
                <a:solidFill>
                  <a:srgbClr val="000000"/>
                </a:solidFill>
                <a:latin typeface="Arial"/>
              </a:rPr>
              <a:t>: trata problemas específicos, ya sea de las ciencias naturales, sociales o formales. Estos géneros difieren en cuanto al asunto, a las técnicas y al grado de desarrollo, no así en lo que respecta al objetivo, método y alcance. </a:t>
            </a:r>
            <a:endParaRPr b="0" lang="en-US" sz="2400" spc="-1" strike="noStrike">
              <a:solidFill>
                <a:srgbClr val="000000"/>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clara y precisa</a:t>
            </a:r>
            <a:r>
              <a:rPr b="0" i="1" lang="es-ES" sz="2400" spc="-1" strike="noStrike">
                <a:solidFill>
                  <a:srgbClr val="000000"/>
                </a:solidFill>
                <a:latin typeface="Arial"/>
              </a:rPr>
              <a:t> </a:t>
            </a:r>
            <a:r>
              <a:rPr b="0" lang="es-ES" sz="2400" spc="-1" strike="noStrike">
                <a:solidFill>
                  <a:srgbClr val="000000"/>
                </a:solidFill>
                <a:latin typeface="Arial"/>
              </a:rPr>
              <a:t>: sus problemas son distintos, sus resultados son cla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23640" y="333360"/>
            <a:ext cx="8569080" cy="612000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comunicable</a:t>
            </a:r>
            <a:r>
              <a:rPr b="0" i="1" lang="es-ES" sz="2400" spc="-1" strike="noStrike">
                <a:solidFill>
                  <a:srgbClr val="000000"/>
                </a:solidFill>
                <a:latin typeface="Arial"/>
              </a:rPr>
              <a:t> </a:t>
            </a:r>
            <a:r>
              <a:rPr b="0" lang="es-ES" sz="2400" spc="-1" strike="noStrike">
                <a:solidFill>
                  <a:srgbClr val="000000"/>
                </a:solidFill>
                <a:latin typeface="Arial"/>
              </a:rPr>
              <a:t>: expresa información a quien haya sido adiestrado para entenderla.</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verificable</a:t>
            </a:r>
            <a:r>
              <a:rPr b="0" i="1" lang="es-ES" sz="2400" spc="-1" strike="noStrike">
                <a:solidFill>
                  <a:srgbClr val="000000"/>
                </a:solidFill>
                <a:latin typeface="Arial"/>
              </a:rPr>
              <a:t> </a:t>
            </a:r>
            <a:r>
              <a:rPr b="0" lang="es-ES" sz="2400" spc="-1" strike="noStrike">
                <a:solidFill>
                  <a:srgbClr val="000000"/>
                </a:solidFill>
                <a:latin typeface="Arial"/>
              </a:rPr>
              <a:t>: debe superar el examen de la experiencia. Para realizar esto se pueden utilizar diferentes técnicas: la experimentación, observación, etc. Esto depende del tipo de objeto, de las hipótesis en cuestión y de los medios disponibles. </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metódica</a:t>
            </a:r>
            <a:r>
              <a:rPr b="0" i="1" lang="es-ES" sz="2400" spc="-1" strike="noStrike">
                <a:solidFill>
                  <a:srgbClr val="000000"/>
                </a:solidFill>
                <a:latin typeface="Arial"/>
              </a:rPr>
              <a:t> </a:t>
            </a:r>
            <a:r>
              <a:rPr b="0" lang="es-ES" sz="2400" spc="-1" strike="noStrike">
                <a:solidFill>
                  <a:srgbClr val="000000"/>
                </a:solidFill>
                <a:latin typeface="Arial"/>
              </a:rPr>
              <a:t>: no es errática, sino planeada. Los investigadores no prueban en la oscuridad: saben lo que buscan y cómo encontrarlo. </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sistemática</a:t>
            </a:r>
            <a:r>
              <a:rPr b="0" i="1" lang="es-ES" sz="2400" spc="-1" strike="noStrike">
                <a:solidFill>
                  <a:srgbClr val="000000"/>
                </a:solidFill>
                <a:latin typeface="Arial"/>
              </a:rPr>
              <a:t> </a:t>
            </a:r>
            <a:r>
              <a:rPr b="0" lang="es-ES" sz="2400" spc="-1" strike="noStrike">
                <a:solidFill>
                  <a:srgbClr val="000000"/>
                </a:solidFill>
                <a:latin typeface="Arial"/>
              </a:rPr>
              <a:t>: una ciencia no es un agregado de información inconexa, sino un sistema de ideas conectadas lógicamente entre sí. </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general</a:t>
            </a:r>
            <a:r>
              <a:rPr b="0" i="1" lang="es-ES" sz="2400" spc="-1" strike="noStrike">
                <a:solidFill>
                  <a:srgbClr val="000000"/>
                </a:solidFill>
                <a:latin typeface="Arial"/>
              </a:rPr>
              <a:t> </a:t>
            </a:r>
            <a:r>
              <a:rPr b="0" lang="es-ES" sz="2400" spc="-1" strike="noStrike">
                <a:solidFill>
                  <a:srgbClr val="000000"/>
                </a:solidFill>
                <a:latin typeface="Arial"/>
              </a:rPr>
              <a:t>: ubica los hechos singulares en pautas generales, los enunciados particulares en esquemas ampli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23640" y="333360"/>
            <a:ext cx="8569080" cy="612000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legal</a:t>
            </a:r>
            <a:r>
              <a:rPr b="0" i="1" lang="es-ES" sz="2400" spc="-1" strike="noStrike">
                <a:solidFill>
                  <a:srgbClr val="000000"/>
                </a:solidFill>
                <a:latin typeface="Arial"/>
              </a:rPr>
              <a:t> </a:t>
            </a:r>
            <a:r>
              <a:rPr b="0" lang="es-ES" sz="2400" spc="-1" strike="noStrike">
                <a:solidFill>
                  <a:srgbClr val="000000"/>
                </a:solidFill>
                <a:latin typeface="Arial"/>
              </a:rPr>
              <a:t>: busca leyes de la naturaleza y de la cultura y las aplica. En la medida en que la ciencia es legal, es esencialista: intenta llegar a la raíz de las cosas.</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explicativa</a:t>
            </a:r>
            <a:r>
              <a:rPr b="0" i="1" lang="es-ES" sz="2400" spc="-1" strike="noStrike">
                <a:solidFill>
                  <a:srgbClr val="000000"/>
                </a:solidFill>
                <a:latin typeface="Arial"/>
              </a:rPr>
              <a:t> </a:t>
            </a:r>
            <a:r>
              <a:rPr b="0" lang="es-ES" sz="2400" spc="-1" strike="noStrike">
                <a:solidFill>
                  <a:srgbClr val="000000"/>
                </a:solidFill>
                <a:latin typeface="Arial"/>
              </a:rPr>
              <a:t>: intenta explicar los hechos en términos de leyes, y las leyes en términos de principios. Procura responder al porqué ocurren los hechos, cómo ocurren y por qué no ocurren de otra manera. </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predictiva</a:t>
            </a:r>
            <a:r>
              <a:rPr b="0" i="1" lang="es-ES" sz="2400" spc="-1" strike="noStrike">
                <a:solidFill>
                  <a:srgbClr val="000000"/>
                </a:solidFill>
                <a:latin typeface="Arial"/>
              </a:rPr>
              <a:t> </a:t>
            </a:r>
            <a:r>
              <a:rPr b="0" lang="es-ES" sz="2400" spc="-1" strike="noStrike">
                <a:solidFill>
                  <a:srgbClr val="000000"/>
                </a:solidFill>
                <a:latin typeface="Arial"/>
              </a:rPr>
              <a:t>: trasciende la masa de los hechos de la experiencia, imaginando cómo puede haber sido el pasado y cómo podrá ser el futuro. </a:t>
            </a:r>
            <a:endParaRPr b="0" lang="en-US" sz="2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abierta</a:t>
            </a:r>
            <a:r>
              <a:rPr b="0" i="1" lang="es-ES" sz="2400" spc="-1" strike="noStrike">
                <a:solidFill>
                  <a:srgbClr val="000000"/>
                </a:solidFill>
                <a:latin typeface="Arial"/>
              </a:rPr>
              <a:t> </a:t>
            </a:r>
            <a:r>
              <a:rPr b="0" lang="es-ES" sz="2400" spc="-1" strike="noStrike">
                <a:solidFill>
                  <a:srgbClr val="000000"/>
                </a:solidFill>
                <a:latin typeface="Arial"/>
              </a:rPr>
              <a:t>: las nociones acerca de nuestro medio natural o social, o acerca del yo, no son finales, están todas en movimiento, todas son falibles. Siempre es concebible que pueda surgir una nueva situación en que nuestras ideas, por firmemente establecidas que parezcan, resulten inadecuadas en algún senti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144000" y="476280"/>
            <a:ext cx="8820360" cy="51832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i="1" lang="es-ES" sz="2400" spc="-1" strike="noStrike">
                <a:solidFill>
                  <a:srgbClr val="000000"/>
                </a:solidFill>
                <a:latin typeface="Arial"/>
              </a:rPr>
              <a:t>Es útil</a:t>
            </a:r>
            <a:r>
              <a:rPr b="0" i="1" lang="es-ES" sz="2400" spc="-1" strike="noStrike">
                <a:solidFill>
                  <a:srgbClr val="000000"/>
                </a:solidFill>
                <a:latin typeface="Arial"/>
              </a:rPr>
              <a:t> </a:t>
            </a:r>
            <a:r>
              <a:rPr b="0" lang="es-ES" sz="2400" spc="-1" strike="noStrike">
                <a:solidFill>
                  <a:srgbClr val="000000"/>
                </a:solidFill>
                <a:latin typeface="Arial"/>
              </a:rPr>
              <a:t>: porque busca a la verdad. La ciencia es eficaz en la provisión de herramientas para el bien y el mal. La sociedad moderna paga la investigación porque ha aprendido que rinde. Es cosa de los técnicos emplear el conocimiento científico con fines prácticos, y los científicos pueden, a lo sumo, aconsejar acerca del cómo puede hacerse uso racional, eficaz y bueno de la ciencia.</a:t>
            </a:r>
            <a:endParaRPr b="0" lang="en-US" sz="2400" spc="-1" strike="noStrike">
              <a:solidFill>
                <a:srgbClr val="000000"/>
              </a:solidFill>
              <a:latin typeface="Times New Roman"/>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En síntesis, </a:t>
            </a:r>
            <a:r>
              <a:rPr b="0" lang="es-ES" sz="3200" spc="-1" strike="noStrike">
                <a:solidFill>
                  <a:srgbClr val="000000"/>
                </a:solidFill>
                <a:latin typeface="Arial"/>
              </a:rPr>
              <a:t>la ciencia es valiosa como herramienta para dominar la naturaleza y remodelar la sociedad. Es valiosa en sí misma, como clave para la inteligencia del mundo y del yo. Y es eficaz, en el enriquecimiento de la disciplina y la liberación de nuestra men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4T05:02:37Z</dcterms:created>
  <dc:creator>Fdelrio</dc:creator>
  <dc:description/>
  <dc:language>en-US</dc:language>
  <cp:lastModifiedBy>Fernando Del Rio</cp:lastModifiedBy>
  <dcterms:modified xsi:type="dcterms:W3CDTF">2006-07-26T05:06:47Z</dcterms:modified>
  <cp:revision>4</cp:revision>
  <dc:subject/>
  <dc:title>Presentación de PowerPoint</dc:title>
</cp:coreProperties>
</file>