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wmf" ContentType="image/x-wmf"/>
  <Override PartName="/ppt/media/image8.wmf" ContentType="image/x-wmf"/>
  <Override PartName="/ppt/media/image17.png" ContentType="image/png"/>
  <Override PartName="/ppt/media/image16.jpeg" ContentType="image/jpeg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jpeg" ContentType="image/jpeg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4.jpeg" ContentType="image/jpeg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6973-4CF3-46A0-BB7F-CA9AC505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7988-345E-4239-8F84-1B9E1C0ED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28A7-CAA1-47E1-A73D-496068EC8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5F2A-F905-4A1B-8C46-43043BCF8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B1EA-26F7-442E-A43F-1B263E260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7A9-BBD9-4E1D-8C14-C462C9A9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D313-09A2-4627-912C-A4E3CDFF4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F1E3-D37D-4BC8-933B-B5BBD6776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0901-AA77-45BB-8BD8-15EDECC2C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3F50-643A-466E-A8F9-5686A01D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AD64-FAF4-4C72-BAFE-CCAB9925E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FCD-7096-4957-90C9-B8599A722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5C985-2210-4E7F-9E8C-66CF53882D2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espanol.weather.com/weather/climatology/USIL0225?dayofyear=32" TargetMode="Externa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ADIACIÓN SOL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itución del Sol : 70 %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8 % 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% átomos Pes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temperatura del sol disminuye del núcleo a        la superfici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 la superficie: 6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mperatura del centro: 15.000.00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a radiación solar se transmite como ondas electromagné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3818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ción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ía despejado co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bes disper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cha nubo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Hor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rox en e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cu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ia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nti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div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3352680"/>
            <a:ext cx="5181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295280" y="38098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6400800"/>
            <a:ext cx="487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7621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81080" y="2895480"/>
            <a:ext cx="3810240" cy="457200"/>
          </a:xfrm>
          <a:custGeom>
            <a:avLst/>
            <a:gdLst/>
            <a:ahLst/>
            <a:rect l="l" t="t" r="r" b="b"/>
            <a:pathLst>
              <a:path w="2016" h="288">
                <a:moveTo>
                  <a:pt x="0" y="288"/>
                </a:moveTo>
                <a:cubicBezTo>
                  <a:pt x="312" y="144"/>
                  <a:pt x="624" y="0"/>
                  <a:pt x="960" y="0"/>
                </a:cubicBezTo>
                <a:cubicBezTo>
                  <a:pt x="1296" y="0"/>
                  <a:pt x="1840" y="248"/>
                  <a:pt x="2016" y="288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81080" y="1066680"/>
            <a:ext cx="3810240" cy="2286000"/>
          </a:xfrm>
          <a:custGeom>
            <a:avLst/>
            <a:gdLst/>
            <a:ahLst/>
            <a:rect l="l" t="t" r="r" b="b"/>
            <a:pathLst>
              <a:path w="2400" h="1440">
                <a:moveTo>
                  <a:pt x="0" y="1440"/>
                </a:moveTo>
                <a:cubicBezTo>
                  <a:pt x="472" y="720"/>
                  <a:pt x="944" y="0"/>
                  <a:pt x="1344" y="0"/>
                </a:cubicBezTo>
                <a:cubicBezTo>
                  <a:pt x="1744" y="0"/>
                  <a:pt x="2232" y="1200"/>
                  <a:pt x="2400" y="1440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81080" y="1676520"/>
            <a:ext cx="3772080" cy="1676160"/>
          </a:xfrm>
          <a:custGeom>
            <a:avLst/>
            <a:gdLst/>
            <a:ahLst/>
            <a:rect l="l" t="t" r="r" b="b"/>
            <a:pathLst>
              <a:path w="2376" h="1056">
                <a:moveTo>
                  <a:pt x="0" y="1056"/>
                </a:moveTo>
                <a:lnTo>
                  <a:pt x="816" y="336"/>
                </a:lnTo>
                <a:lnTo>
                  <a:pt x="1056" y="0"/>
                </a:lnTo>
                <a:lnTo>
                  <a:pt x="1200" y="288"/>
                </a:lnTo>
                <a:lnTo>
                  <a:pt x="1344" y="192"/>
                </a:lnTo>
                <a:cubicBezTo>
                  <a:pt x="1426" y="219"/>
                  <a:pt x="1444" y="207"/>
                  <a:pt x="1488" y="264"/>
                </a:cubicBezTo>
                <a:cubicBezTo>
                  <a:pt x="1506" y="287"/>
                  <a:pt x="1520" y="312"/>
                  <a:pt x="1536" y="336"/>
                </a:cubicBezTo>
                <a:cubicBezTo>
                  <a:pt x="1544" y="348"/>
                  <a:pt x="1560" y="372"/>
                  <a:pt x="1560" y="372"/>
                </a:cubicBezTo>
                <a:cubicBezTo>
                  <a:pt x="1581" y="455"/>
                  <a:pt x="1576" y="533"/>
                  <a:pt x="1668" y="564"/>
                </a:cubicBezTo>
                <a:cubicBezTo>
                  <a:pt x="1783" y="679"/>
                  <a:pt x="1636" y="543"/>
                  <a:pt x="1740" y="612"/>
                </a:cubicBezTo>
                <a:cubicBezTo>
                  <a:pt x="1778" y="637"/>
                  <a:pt x="1813" y="679"/>
                  <a:pt x="1848" y="708"/>
                </a:cubicBezTo>
                <a:cubicBezTo>
                  <a:pt x="1900" y="751"/>
                  <a:pt x="1866" y="717"/>
                  <a:pt x="1920" y="744"/>
                </a:cubicBezTo>
                <a:cubicBezTo>
                  <a:pt x="1978" y="773"/>
                  <a:pt x="2025" y="791"/>
                  <a:pt x="2088" y="804"/>
                </a:cubicBezTo>
                <a:cubicBezTo>
                  <a:pt x="2124" y="828"/>
                  <a:pt x="2160" y="852"/>
                  <a:pt x="2196" y="876"/>
                </a:cubicBezTo>
                <a:cubicBezTo>
                  <a:pt x="2208" y="884"/>
                  <a:pt x="2232" y="900"/>
                  <a:pt x="2232" y="900"/>
                </a:cubicBezTo>
                <a:cubicBezTo>
                  <a:pt x="2248" y="924"/>
                  <a:pt x="2264" y="948"/>
                  <a:pt x="2280" y="972"/>
                </a:cubicBezTo>
                <a:cubicBezTo>
                  <a:pt x="2288" y="984"/>
                  <a:pt x="2292" y="1000"/>
                  <a:pt x="2304" y="1008"/>
                </a:cubicBezTo>
                <a:cubicBezTo>
                  <a:pt x="2328" y="1024"/>
                  <a:pt x="2376" y="1056"/>
                  <a:pt x="2376" y="1056"/>
                </a:cubicBezTo>
              </a:path>
            </a:pathLst>
          </a:custGeom>
          <a:noFill/>
          <a:ln w="38160">
            <a:solidFill>
              <a:srgbClr val="0715c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800600" y="1066680"/>
            <a:ext cx="99072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4495680" y="1828800"/>
            <a:ext cx="12956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4876920" y="2666880"/>
            <a:ext cx="99036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172200" y="36576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371600" y="41148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371600" y="3733920"/>
            <a:ext cx="4800600" cy="927000"/>
          </a:xfrm>
          <a:custGeom>
            <a:avLst/>
            <a:gdLst/>
            <a:ahLst/>
            <a:rect l="l" t="t" r="r" b="b"/>
            <a:pathLst>
              <a:path w="3024" h="584">
                <a:moveTo>
                  <a:pt x="0" y="576"/>
                </a:moveTo>
                <a:cubicBezTo>
                  <a:pt x="208" y="288"/>
                  <a:pt x="416" y="0"/>
                  <a:pt x="672" y="0"/>
                </a:cubicBezTo>
                <a:cubicBezTo>
                  <a:pt x="928" y="0"/>
                  <a:pt x="1216" y="568"/>
                  <a:pt x="1536" y="576"/>
                </a:cubicBezTo>
                <a:cubicBezTo>
                  <a:pt x="1856" y="584"/>
                  <a:pt x="2344" y="80"/>
                  <a:pt x="2592" y="48"/>
                </a:cubicBezTo>
                <a:cubicBezTo>
                  <a:pt x="2840" y="16"/>
                  <a:pt x="2944" y="328"/>
                  <a:pt x="3024" y="384"/>
                </a:cubicBezTo>
              </a:path>
            </a:pathLst>
          </a:custGeom>
          <a:noFill/>
          <a:ln w="38160">
            <a:solidFill>
              <a:srgbClr val="eb221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371600" y="4800600"/>
            <a:ext cx="4800600" cy="115560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02020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95280" y="3809880"/>
            <a:ext cx="4724640" cy="851040"/>
          </a:xfrm>
          <a:custGeom>
            <a:avLst/>
            <a:gdLst/>
            <a:ahLst/>
            <a:rect l="l" t="t" r="r" b="b"/>
            <a:pathLst>
              <a:path w="3024" h="728">
                <a:moveTo>
                  <a:pt x="0" y="728"/>
                </a:moveTo>
                <a:cubicBezTo>
                  <a:pt x="468" y="372"/>
                  <a:pt x="936" y="16"/>
                  <a:pt x="1440" y="8"/>
                </a:cubicBezTo>
                <a:cubicBezTo>
                  <a:pt x="1944" y="0"/>
                  <a:pt x="2760" y="568"/>
                  <a:pt x="3024" y="680"/>
                </a:cubicBezTo>
              </a:path>
            </a:pathLst>
          </a:custGeom>
          <a:noFill/>
          <a:ln w="38160">
            <a:solidFill>
              <a:srgbClr val="1824c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4267080"/>
            <a:ext cx="6094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95880" y="4572000"/>
            <a:ext cx="60984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72200" y="525780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172200" y="5867280"/>
            <a:ext cx="6094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 ubicación geográfica en la Rg diaria (Cal/cm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a), de algunas localidades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uda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Diciembr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 Jun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quiq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9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6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c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3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Ser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7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9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all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6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2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6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epció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8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illa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2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1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5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s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67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to Palen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3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8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9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8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Radiación solar (de onda corta) puede ser de 2 formas:  -</a:t>
            </a: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Radiación Direct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-Radiación Difusa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a despejado = 90% R. Directa + 1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ía nublado = 100% R. Difu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 algn="ctr">
              <a:spcBef>
                <a:spcPts val="1276"/>
              </a:spcBef>
              <a:spcAft>
                <a:spcPts val="8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Times New Roman"/>
              </a:rPr>
              <a:t>Radiación Global (Rg) = R. Directa + R. Difusa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11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Rg diaria : Radiación solar que llega en un día a la superficie terrest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Depende de :La RE          Latitu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rgo del d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ción del año                            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ado atmósfe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4038120" y="5257800"/>
            <a:ext cx="762120" cy="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4038120" y="5791320"/>
            <a:ext cx="685800" cy="0"/>
          </a:xfrm>
          <a:prstGeom prst="line">
            <a:avLst/>
          </a:prstGeom>
          <a:ln w="57240">
            <a:solidFill>
              <a:srgbClr val="e50b0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4038120" y="632448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ierra emite una radiación llamada RADIACIÓN TERRESTRE (Rt), ya que tiene una temperatura mayor al cero absoluto (la Rt es de onda larg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absorbida por : -Ozo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Vapor de ag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o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ntana Atmosférica: La atmósfera no posee nada para detener la Rt, produciendo mayor enfriami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Invernadero: Trabas para que escape la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8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8" dur="5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3" dur="5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8" dur="5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30492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Rt es constante solo varía su intens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° máximas y mínimas ocurren con la máxima y mínima emisión de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el sistema esta ganando energía se produce calentamiento del aire y la T° sube (Día) si el sistema pierde energía el aire se enfría y la T° baja (Noch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LANCE DE ENERGÍ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Día)     =  Rg (1-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+ Ratm - Rt(+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N(Noche) =  Ratm - Rt(-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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bedo (Cantidad de energía o radiación qu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refleja, depende del calor del cuerpo, por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lo los cuerpos tienen distintos albed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 : Depende de la nubosidad, humedad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 : Depende de la superficie, textura.....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7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2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7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t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o-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63868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7162920" y="304920"/>
            <a:ext cx="1303200" cy="12776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762120" y="3505320"/>
            <a:ext cx="3124080" cy="27288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4724280" y="2971800"/>
            <a:ext cx="3748320" cy="3429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295280" y="609480"/>
            <a:ext cx="1087560" cy="69876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 flipH="1" flipV="1">
            <a:off x="3962160" y="2742840"/>
            <a:ext cx="228600" cy="2895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1294920" y="1523880"/>
            <a:ext cx="22860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943600" y="1295280"/>
            <a:ext cx="1371600" cy="198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 flipV="1">
            <a:off x="5562720" y="2590560"/>
            <a:ext cx="38088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00240" y="5657760"/>
            <a:ext cx="75960" cy="781200"/>
          </a:xfrm>
          <a:custGeom>
            <a:avLst/>
            <a:gdLst/>
            <a:ahLst/>
            <a:rect l="l" t="t" r="r" b="b"/>
            <a:pathLst>
              <a:path w="48" h="492">
                <a:moveTo>
                  <a:pt x="0" y="0"/>
                </a:moveTo>
                <a:cubicBezTo>
                  <a:pt x="4" y="24"/>
                  <a:pt x="4" y="49"/>
                  <a:pt x="12" y="72"/>
                </a:cubicBezTo>
                <a:cubicBezTo>
                  <a:pt x="20" y="97"/>
                  <a:pt x="40" y="119"/>
                  <a:pt x="48" y="144"/>
                </a:cubicBezTo>
                <a:cubicBezTo>
                  <a:pt x="44" y="220"/>
                  <a:pt x="46" y="297"/>
                  <a:pt x="36" y="372"/>
                </a:cubicBezTo>
                <a:cubicBezTo>
                  <a:pt x="34" y="386"/>
                  <a:pt x="14" y="394"/>
                  <a:pt x="12" y="408"/>
                </a:cubicBezTo>
                <a:cubicBezTo>
                  <a:pt x="8" y="436"/>
                  <a:pt x="24" y="464"/>
                  <a:pt x="24" y="49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95800" y="5638680"/>
            <a:ext cx="152280" cy="857520"/>
          </a:xfrm>
          <a:custGeom>
            <a:avLst/>
            <a:gdLst/>
            <a:ahLst/>
            <a:rect l="l" t="t" r="r" b="b"/>
            <a:pathLst>
              <a:path w="96" h="540">
                <a:moveTo>
                  <a:pt x="0" y="0"/>
                </a:moveTo>
                <a:cubicBezTo>
                  <a:pt x="29" y="44"/>
                  <a:pt x="59" y="83"/>
                  <a:pt x="96" y="120"/>
                </a:cubicBezTo>
                <a:cubicBezTo>
                  <a:pt x="88" y="216"/>
                  <a:pt x="83" y="312"/>
                  <a:pt x="72" y="408"/>
                </a:cubicBezTo>
                <a:cubicBezTo>
                  <a:pt x="67" y="453"/>
                  <a:pt x="43" y="49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84520" y="5657760"/>
            <a:ext cx="144720" cy="533520"/>
          </a:xfrm>
          <a:custGeom>
            <a:avLst/>
            <a:gdLst/>
            <a:ahLst/>
            <a:rect l="l" t="t" r="r" b="b"/>
            <a:pathLst>
              <a:path w="91" h="336">
                <a:moveTo>
                  <a:pt x="67" y="0"/>
                </a:moveTo>
                <a:cubicBezTo>
                  <a:pt x="58" y="6"/>
                  <a:pt x="0" y="38"/>
                  <a:pt x="7" y="60"/>
                </a:cubicBezTo>
                <a:cubicBezTo>
                  <a:pt x="16" y="87"/>
                  <a:pt x="67" y="100"/>
                  <a:pt x="91" y="108"/>
                </a:cubicBezTo>
                <a:cubicBezTo>
                  <a:pt x="37" y="189"/>
                  <a:pt x="67" y="241"/>
                  <a:pt x="67" y="33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048440" y="5653080"/>
            <a:ext cx="133560" cy="919080"/>
          </a:xfrm>
          <a:custGeom>
            <a:avLst/>
            <a:gdLst/>
            <a:ahLst/>
            <a:rect l="l" t="t" r="r" b="b"/>
            <a:pathLst>
              <a:path w="84" h="579">
                <a:moveTo>
                  <a:pt x="24" y="27"/>
                </a:moveTo>
                <a:cubicBezTo>
                  <a:pt x="52" y="138"/>
                  <a:pt x="24" y="0"/>
                  <a:pt x="24" y="147"/>
                </a:cubicBezTo>
                <a:cubicBezTo>
                  <a:pt x="24" y="264"/>
                  <a:pt x="24" y="256"/>
                  <a:pt x="48" y="327"/>
                </a:cubicBezTo>
                <a:cubicBezTo>
                  <a:pt x="44" y="355"/>
                  <a:pt x="44" y="384"/>
                  <a:pt x="36" y="411"/>
                </a:cubicBezTo>
                <a:cubicBezTo>
                  <a:pt x="28" y="437"/>
                  <a:pt x="8" y="458"/>
                  <a:pt x="0" y="483"/>
                </a:cubicBezTo>
                <a:cubicBezTo>
                  <a:pt x="24" y="520"/>
                  <a:pt x="53" y="548"/>
                  <a:pt x="84" y="579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591400" y="5638680"/>
            <a:ext cx="160560" cy="857520"/>
          </a:xfrm>
          <a:custGeom>
            <a:avLst/>
            <a:gdLst/>
            <a:ahLst/>
            <a:rect l="l" t="t" r="r" b="b"/>
            <a:pathLst>
              <a:path w="101" h="540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59" y="119"/>
                  <a:pt x="64" y="144"/>
                  <a:pt x="72" y="168"/>
                </a:cubicBezTo>
                <a:cubicBezTo>
                  <a:pt x="76" y="180"/>
                  <a:pt x="84" y="204"/>
                  <a:pt x="84" y="204"/>
                </a:cubicBezTo>
                <a:cubicBezTo>
                  <a:pt x="65" y="473"/>
                  <a:pt x="101" y="299"/>
                  <a:pt x="12" y="432"/>
                </a:cubicBezTo>
                <a:cubicBezTo>
                  <a:pt x="16" y="448"/>
                  <a:pt x="14" y="467"/>
                  <a:pt x="24" y="480"/>
                </a:cubicBezTo>
                <a:cubicBezTo>
                  <a:pt x="46" y="508"/>
                  <a:pt x="84" y="469"/>
                  <a:pt x="84" y="5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00840" y="5695920"/>
            <a:ext cx="114120" cy="685800"/>
          </a:xfrm>
          <a:custGeom>
            <a:avLst/>
            <a:gdLst/>
            <a:ahLst/>
            <a:rect l="l" t="t" r="r" b="b"/>
            <a:pathLst>
              <a:path w="72" h="432">
                <a:moveTo>
                  <a:pt x="0" y="0"/>
                </a:moveTo>
                <a:cubicBezTo>
                  <a:pt x="4" y="36"/>
                  <a:pt x="13" y="137"/>
                  <a:pt x="24" y="180"/>
                </a:cubicBezTo>
                <a:cubicBezTo>
                  <a:pt x="30" y="205"/>
                  <a:pt x="48" y="252"/>
                  <a:pt x="48" y="252"/>
                </a:cubicBezTo>
                <a:cubicBezTo>
                  <a:pt x="54" y="310"/>
                  <a:pt x="72" y="374"/>
                  <a:pt x="72" y="432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10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 RN es positivo, la energía restante se ocupa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aporación (LE),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Sensible (H), No existen fuentes d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evapor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tosíntesis (F), Utiliza un 1% de la ener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lor Latente de Vaporización = 580 cal/gr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gnifica que para evaporar 1 gr.. de agua se necesitan 580 calorí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" y="5029200"/>
            <a:ext cx="1523880" cy="304920"/>
          </a:xfrm>
          <a:prstGeom prst="rightArrow">
            <a:avLst>
              <a:gd name="adj1" fmla="val 50000"/>
              <a:gd name="adj2" fmla="val 124941"/>
            </a:avLst>
          </a:prstGeom>
          <a:solidFill>
            <a:srgbClr val="0715c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9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4920" y="228600"/>
            <a:ext cx="853416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iste un balance de energía a nivel glob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a parte del mundo se esta enfriando (noche), y otra calentando (dí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2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4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60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90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21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6172200"/>
            <a:ext cx="75438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305920" y="1828800"/>
            <a:ext cx="0" cy="43434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209680"/>
            <a:ext cx="7543800" cy="3022560"/>
          </a:xfrm>
          <a:custGeom>
            <a:avLst/>
            <a:gdLst/>
            <a:ahLst/>
            <a:rect l="l" t="t" r="r" b="b"/>
            <a:pathLst>
              <a:path w="4752" h="1904">
                <a:moveTo>
                  <a:pt x="0" y="176"/>
                </a:moveTo>
                <a:cubicBezTo>
                  <a:pt x="364" y="88"/>
                  <a:pt x="728" y="0"/>
                  <a:pt x="1152" y="224"/>
                </a:cubicBezTo>
                <a:cubicBezTo>
                  <a:pt x="1576" y="448"/>
                  <a:pt x="1944" y="1240"/>
                  <a:pt x="2544" y="1520"/>
                </a:cubicBezTo>
                <a:cubicBezTo>
                  <a:pt x="3144" y="1800"/>
                  <a:pt x="4384" y="1840"/>
                  <a:pt x="4752" y="1904"/>
                </a:cubicBezTo>
              </a:path>
            </a:pathLst>
          </a:custGeom>
          <a:noFill/>
          <a:ln w="381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2120" y="3429000"/>
            <a:ext cx="7543800" cy="1092240"/>
          </a:xfrm>
          <a:custGeom>
            <a:avLst/>
            <a:gdLst/>
            <a:ahLst/>
            <a:rect l="l" t="t" r="r" b="b"/>
            <a:pathLst>
              <a:path w="4752" h="688">
                <a:moveTo>
                  <a:pt x="0" y="16"/>
                </a:moveTo>
                <a:cubicBezTo>
                  <a:pt x="636" y="8"/>
                  <a:pt x="1272" y="0"/>
                  <a:pt x="2064" y="112"/>
                </a:cubicBezTo>
                <a:cubicBezTo>
                  <a:pt x="2856" y="224"/>
                  <a:pt x="4304" y="592"/>
                  <a:pt x="4752" y="688"/>
                </a:cubicBezTo>
              </a:path>
            </a:pathLst>
          </a:custGeom>
          <a:noFill/>
          <a:ln w="38160">
            <a:solidFill>
              <a:srgbClr val="0a7b0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514600" y="1752480"/>
            <a:ext cx="0" cy="44960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62120" y="4267080"/>
            <a:ext cx="7467480" cy="1854360"/>
          </a:xfrm>
          <a:custGeom>
            <a:avLst/>
            <a:gdLst/>
            <a:ahLst/>
            <a:rect l="l" t="t" r="r" b="b"/>
            <a:pathLst>
              <a:path w="4704" h="1168">
                <a:moveTo>
                  <a:pt x="0" y="496"/>
                </a:moveTo>
                <a:cubicBezTo>
                  <a:pt x="348" y="248"/>
                  <a:pt x="696" y="0"/>
                  <a:pt x="1248" y="64"/>
                </a:cubicBezTo>
                <a:cubicBezTo>
                  <a:pt x="1800" y="128"/>
                  <a:pt x="2816" y="720"/>
                  <a:pt x="3312" y="880"/>
                </a:cubicBezTo>
                <a:cubicBezTo>
                  <a:pt x="3808" y="1040"/>
                  <a:pt x="3992" y="976"/>
                  <a:pt x="4224" y="1024"/>
                </a:cubicBezTo>
                <a:cubicBezTo>
                  <a:pt x="4456" y="1072"/>
                  <a:pt x="4624" y="1144"/>
                  <a:pt x="4704" y="1168"/>
                </a:cubicBezTo>
              </a:path>
            </a:pathLst>
          </a:custGeom>
          <a:noFill/>
          <a:ln w="38160">
            <a:solidFill>
              <a:srgbClr val="e50b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486400"/>
            <a:ext cx="1371600" cy="609480"/>
          </a:xfrm>
          <a:prstGeom prst="rightArrow">
            <a:avLst>
              <a:gd name="adj1" fmla="val 50000"/>
              <a:gd name="adj2" fmla="val 56261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18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3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8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3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38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3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3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ivel planetario la energía se redistribuye desde los trópicos a los po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s vientos juegan un rol fundam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MISIÓN DEL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cció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duc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819520"/>
            <a:ext cx="2286000" cy="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343400" y="3200040"/>
            <a:ext cx="0" cy="1143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352680" y="4502160"/>
            <a:ext cx="1828800" cy="17827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5029200" y="5486400"/>
            <a:ext cx="76212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5791320" y="4419720"/>
            <a:ext cx="2057400" cy="18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120" y="304920"/>
            <a:ext cx="81536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Ley de Steffan-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26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La emisión de la radiación, es proporcional a la cuarta potencia de la temperatura absoluta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65000"/>
              </a:lnSpc>
              <a:spcBef>
                <a:spcPts val="5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Re =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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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 (T°)</a:t>
            </a:r>
            <a:r>
              <a:rPr b="1" lang="en-US" sz="2900" spc="-1" strike="noStrike" baseline="30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6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donde  </a:t>
            </a: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</a:t>
            </a:r>
            <a:r>
              <a:rPr b="1" lang="en-US" sz="2900" spc="-1" strike="noStrike">
                <a:solidFill>
                  <a:srgbClr val="ffffff"/>
                </a:solidFill>
                <a:latin typeface="Times New Roman"/>
              </a:rPr>
              <a:t>: Emisividad del cuerpo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5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ff"/>
                </a:solidFill>
                <a:latin typeface="Symbol"/>
                <a:ea typeface="Symbol"/>
              </a:rPr>
              <a:t>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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: Constante de Steffan-Boltzma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y De Wie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85000"/>
              </a:lnSpc>
              <a:spcBef>
                <a:spcPts val="72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La longitud de onda de la  radiación </a:t>
            </a: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° emitida por un cuerpo es inversamente proporcional a su T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5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Symbol"/>
                <a:ea typeface="Symbol"/>
              </a:rPr>
              <a:t>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00720" y="501336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La velocidad de calentamiento de las tierras es diferente a la  de las agu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Esto se debe 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Océanos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en movimiento  -Sup. Inmóvi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Superficie transparente       -Sup. Opa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penetración de Rg   -Rg solo en su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Transmisión de c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dvectiva,convectiva y          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or conduc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ayor calor especifico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-Menor calor especif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724280" y="1828800"/>
            <a:ext cx="0" cy="464832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2514600"/>
            <a:ext cx="8458200" cy="0"/>
          </a:xfrm>
          <a:prstGeom prst="line">
            <a:avLst/>
          </a:prstGeom>
          <a:ln w="38160">
            <a:solidFill>
              <a:srgbClr val="e50b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13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entamiento y enfriamiento de las aguas es más lento que el de los sue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° + Reg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or oscil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zonas con influencia terrestre tienen mayor oscilación térm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terrest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domin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mas co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luencia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eá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447920"/>
            <a:ext cx="1524240" cy="380880"/>
          </a:xfrm>
          <a:prstGeom prst="rightArrow">
            <a:avLst>
              <a:gd name="adj1" fmla="val 50000"/>
              <a:gd name="adj2" fmla="val 100047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981080"/>
            <a:ext cx="1524240" cy="457200"/>
          </a:xfrm>
          <a:prstGeom prst="rightArrow">
            <a:avLst>
              <a:gd name="adj1" fmla="val 50000"/>
              <a:gd name="adj2" fmla="val 83346"/>
            </a:avLst>
          </a:prstGeom>
          <a:solidFill>
            <a:srgbClr val="0715cb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28600" y="3505320"/>
            <a:ext cx="5105520" cy="27288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28600" y="5257800"/>
            <a:ext cx="5105520" cy="0"/>
          </a:xfrm>
          <a:prstGeom prst="line">
            <a:avLst/>
          </a:prstGeom>
          <a:ln w="5724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34120" y="4114800"/>
            <a:ext cx="5331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181480" y="5257440"/>
            <a:ext cx="60984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104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DEL A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lor que tiene el aire en momento dado con respecto a un valor referen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presiones de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 = Promedio de T°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áx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Promedio de las T° mínimas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áx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m = Mínima absoluta del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iodo: Diario, mensual, anual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90720" y="2666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90720" y="320040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0720" y="38098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9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2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4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71640" y="981000"/>
          <a:ext cx="7056360" cy="4896000"/>
        </p:xfrm>
        <a:graphic>
          <a:graphicData uri="http://schemas.openxmlformats.org/drawingml/2006/table">
            <a:tbl>
              <a:tblPr/>
              <a:tblGrid>
                <a:gridCol w="776160"/>
                <a:gridCol w="566640"/>
                <a:gridCol w="567000"/>
                <a:gridCol w="517320"/>
                <a:gridCol w="486000"/>
                <a:gridCol w="517320"/>
                <a:gridCol w="519120"/>
                <a:gridCol w="484200"/>
                <a:gridCol w="485640"/>
                <a:gridCol w="535320"/>
                <a:gridCol w="533160"/>
                <a:gridCol w="517680"/>
                <a:gridCol w="550800"/>
              </a:tblGrid>
              <a:tr h="3589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Verdana"/>
                          <a:ea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e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feb</a:t>
                      </a:r>
                      <a:r>
                        <a:rPr b="0" lang="es-ES_tradnl" sz="1200" spc="-1" strike="noStrike" u="sng">
                          <a:solidFill>
                            <a:srgbClr val="ccccff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b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ma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ju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ag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se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oc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no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d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áx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ed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60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medi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000">
                <a:tc rowSpan="2"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cc0099"/>
                          </a:solidFill>
                          <a:latin typeface="Arial"/>
                          <a:ea typeface="Arial"/>
                        </a:rPr>
                        <a:t>Mín absolu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3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4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8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29°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765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-19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cilación o amplitud térmica: Diferencia entre temperaturas extr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al sol o a la sombra es la misma, solo varia la SENSACIÓN TERMICA que depende de las características de la superficie (color, brillo, textura, etc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da superficie, al recibir radiación solar, la absorbe, gana calor y lo emite según su temperatura (Ley de Steffan-Boltzma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l aire debe medirse a la sombra, pues el termómetro que la mide tiene su propia sensación térm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6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TE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un enfriamiento anormal de la temperatura en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curre entre otoño y primavera, en latitudes medias y al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mente la temperatura disminuye con la altura 10°C por cada 10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uando se produce una inversión térmica la temperatura sube con la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tiago tiene una inversión térmica en invierno de más o menos 500 mts. de al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2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7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2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97" dur="5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2" dur="5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7" dur="5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ones según Gén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-Radiativas: Ocurren cuando el balance de energía es negativo, durante un periodo de tiempo prolong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yudan a esta condi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cort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Baja humedad atmosf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Días despej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Calma ambie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4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5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17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0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5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0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35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fill="hold">
                      <p:stCondLst>
                        <p:cond delay="indefinite"/>
                      </p:stCondLst>
                      <p:childTnLst>
                        <p:par>
                          <p:cTn id="837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0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45" dur="5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0" dur="5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-Advectivas: Se producen por la importación de una masa de aire frío, proveniente de zonas polar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adiativas: Locales, menos inten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ectivas: Extensas geográficamente, pueden ser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más intensas según T° de la masa d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ai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57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2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67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72" dur="500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versión térmica                     HEL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Presencia de escar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0°C a nivel de cobertiz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sificación según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Advectivas: Extensas geográficamente y de mayor duración (2-5 dí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Radiativas: Localizadas y cor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roducen por los mismos factores que las inversiones térm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380880"/>
            <a:ext cx="1524240" cy="304920"/>
          </a:xfrm>
          <a:prstGeom prst="rightArrow">
            <a:avLst>
              <a:gd name="adj1" fmla="val 50000"/>
              <a:gd name="adj2" fmla="val 124970"/>
            </a:avLst>
          </a:prstGeom>
          <a:solidFill>
            <a:srgbClr val="1033c6"/>
          </a:solidFill>
          <a:ln w="9360">
            <a:solidFill>
              <a:srgbClr val="e831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3" dur="indefinite" restart="never" nodeType="tmRoot">
          <p:childTnLst>
            <p:seq>
              <p:cTn id="874" dur="indefinite" nodeType="mainSeq">
                <p:childTnLst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1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7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1048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gún caracterís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Blanc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on presencia de escarcha, menos dañina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87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s Negras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n escarchas, con alta sequedad atmosférica, queman las plantas, suelen ser de mayor intensida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ño por heladas, en situació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rmal: Poi &gt; Poe (entra agua a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lada: Poi &lt; Poe (sale agua desde la célul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de Poi 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in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55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e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Presión osmótica exterior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a la cual se produce el daño depende de la especie vege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7" dur="indefinite" restart="never" nodeType="tmRoot">
          <p:childTnLst>
            <p:seq>
              <p:cTn id="928" dur="indefinite" nodeType="mainSeq">
                <p:childTnLst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3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38" dur="500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fill="hold">
                      <p:stCondLst>
                        <p:cond delay="indefinite"/>
                      </p:stCondLst>
                      <p:childTnLst>
                        <p:par>
                          <p:cTn id="940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3" dur="500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48" dur="500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3" dur="500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fill="hold">
                      <p:stCondLst>
                        <p:cond delay="indefinite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58" dur="500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fill="hold">
                      <p:stCondLst>
                        <p:cond delay="indefinite"/>
                      </p:stCondLst>
                      <p:childTnLst>
                        <p:par>
                          <p:cTn id="960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3" dur="500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68" dur="500"/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973" dur="500"/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38224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y del cosen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intensidad de la radiación sobre un plano decrece en forma proporcional al coseno del ángulo de incidencia en relación a la norm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z = Ro cos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5486400"/>
            <a:ext cx="6781680" cy="0"/>
          </a:xfrm>
          <a:prstGeom prst="line">
            <a:avLst/>
          </a:prstGeom>
          <a:ln w="3816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356640" y="4116240"/>
            <a:ext cx="12196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210" y="118"/>
                </a:moveTo>
                <a:arcTo wR="10800" hR="10800" stAng="-5907865" swAng="7197188"/>
                <a:lnTo>
                  <a:pt x="10800" y="10800"/>
                </a:lnTo>
                <a:close/>
              </a:path>
              <a:path fill="none" w="21600" h="21600">
                <a:moveTo>
                  <a:pt x="9210" y="118"/>
                </a:moveTo>
                <a:arcTo wR="10800" hR="10800" stAng="-5907865" swAng="7197188"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809880" y="2895120"/>
            <a:ext cx="274320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9880" y="2971800"/>
            <a:ext cx="0" cy="25909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500"/>
                            </p:stCondLst>
                            <p:childTnLst>
                              <p:par>
                                <p:cTn id="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6" dur="5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500"/>
                            </p:stCondLst>
                            <p:childTnLst>
                              <p:par>
                                <p:cTn id="6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4" dur="500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000"/>
                            </p:stCondLst>
                            <p:childTnLst>
                              <p:par>
                                <p:cTn id="6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8" dur="500"/>
                                        <p:tgtEl>
                                          <p:spTgt spid="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FECTO DE LAS TEMPERATURAS EN EL CRECIMIENTO Y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 temperatura determina la velocidad de desarrollo de los veget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da especie tiene respuesta a este proceso, que dependen de su adaptación térmica en su lugar de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especies de origen de climas templados tienen requerimientos térmicos más bajo que las de origen tropic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5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6" fill="hold">
                      <p:stCondLst>
                        <p:cond delay="indefinite"/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0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6868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2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s Cardinales: representan la respuesta de la velocidad de desarrollo a la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pueden resumir e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umbral (Tu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comienza a observarse desarrollo o crecimient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optima (To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a la cual el crecimiento y desarrollo es máximo u óptim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peratura máxima (Tm):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s la temperatura más alta a la cual se presenta crecimiento y desarrol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fill="hold">
                      <p:stCondLst>
                        <p:cond delay="indefinite"/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0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emplado : tu = 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2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3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tropical : tu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3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4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pecies de origen frío :       tu = -5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= 10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m = 18°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4" dur="5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9" dur="5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4" dur="500"/>
                                        <p:tgtEl>
                                          <p:spTgt spid="1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9" dur="5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4" dur="5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5" fill="hold">
                      <p:stCondLst>
                        <p:cond delay="indefinite"/>
                      </p:stCondLst>
                      <p:childTnLst>
                        <p:par>
                          <p:cTn id="1066" fill="hold">
                            <p:stCondLst>
                              <p:cond delay="0"/>
                            </p:stCondLst>
                            <p:childTnLst>
                              <p:par>
                                <p:cTn id="10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9" dur="5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4" dur="500"/>
                                        <p:tgtEl>
                                          <p:spTgt spid="1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9" dur="500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4" dur="500"/>
                                        <p:tgtEl>
                                          <p:spTgt spid="1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fill="hold">
                      <p:stCondLst>
                        <p:cond delay="indefinite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89" dur="500"/>
                                        <p:tgtEl>
                                          <p:spTgt spid="1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jemplos forest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icea abies (Abeto): Tu = -5°C ; To = 2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m = 35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228600" y="1447920"/>
            <a:ext cx="2133720" cy="19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0" dur="indefinite" restart="never" nodeType="tmRoot">
          <p:childTnLst>
            <p:seq>
              <p:cTn id="1091" dur="indefinite" nodeType="mainSeq">
                <p:childTnLst>
                  <p:par>
                    <p:cTn id="1092" fill="hold">
                      <p:stCondLst>
                        <p:cond delay="indefinite"/>
                      </p:stCondLst>
                      <p:childTnLst>
                        <p:par>
                          <p:cTn id="1093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icus retusa (Gomero): Tu = 8°C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o = 3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m = 50°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1" dur="indefinite" restart="never" nodeType="tmRoot">
          <p:childTnLst>
            <p:seq>
              <p:cTn id="1112" dur="indefinite" nodeType="mainSeq">
                <p:childTnLst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                                                      R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523880" y="914040"/>
            <a:ext cx="0" cy="38862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514600" y="837720"/>
            <a:ext cx="0" cy="39625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2514600" y="762120"/>
            <a:ext cx="4800600" cy="4038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4800600"/>
            <a:ext cx="7010640" cy="0"/>
          </a:xfrm>
          <a:prstGeom prst="line">
            <a:avLst/>
          </a:prstGeom>
          <a:ln w="57240">
            <a:solidFill>
              <a:srgbClr val="f33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267080" y="914040"/>
            <a:ext cx="4572000" cy="3886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3720" y="426708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523520" y="42670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26708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3200040" y="426708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86400" y="3200400"/>
            <a:ext cx="30492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 flipV="1">
            <a:off x="5105160" y="266652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380520"/>
            <a:ext cx="85345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: Cantidad de energía que incide en forma perpendicular en el borde externo de la atmósfe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ante Solar = 2 Cal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m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onentes de la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Ultravioleta = 4% (0,28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isible = 44% (0,4 a 0,7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rarrojo = 52% (0,7 a 4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304560" y="228600"/>
            <a:ext cx="84582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ctores que afectan la cantidad de radiación 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ográ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atitu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Exposició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nclinación del Suel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osféric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tmósfera (Nubosidad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Partículas en Suspensión (naturales y 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antropicas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74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Otr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187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Estación del Añ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74"/>
              </a:spcBef>
              <a:buClr>
                <a:srgbClr val="ffff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imes New Roman"/>
              </a:rPr>
              <a:t>Hora del Dí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INCLINACION DE LA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55640" y="2060640"/>
            <a:ext cx="777708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EQUINOCC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755640" y="2052720"/>
            <a:ext cx="77025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800000"/>
                </a:solidFill>
                <a:latin typeface="Times New Roman"/>
              </a:rPr>
              <a:t>SOLSTICIO INVIERN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95640" y="1995480"/>
            <a:ext cx="49672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8T20:05:05Z</dcterms:created>
  <dc:creator>Nino</dc:creator>
  <dc:description/>
  <dc:language>en-US</dc:language>
  <cp:lastModifiedBy>Juan Caldentey</cp:lastModifiedBy>
  <dcterms:modified xsi:type="dcterms:W3CDTF">2010-08-19T15:44:35Z</dcterms:modified>
  <cp:revision>47</cp:revision>
  <dc:subject/>
  <dc:title>RADIACIÓN SOLAR</dc:title>
</cp:coreProperties>
</file>