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D77-3DD5-404B-96BB-9997B0C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91E-1B08-41D0-BE8E-6D5D9E3B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F4D-DFBC-41AF-847E-4D906E58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ED9-2CBD-4D7D-9CCB-8711A857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429-5FD9-4261-AC51-5D8AA23E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5EA-B316-432E-B043-FC230F4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175-3522-4C25-A9E6-1DE8E146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267-8272-4827-9861-020A82B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6FC-115C-4301-A38E-9EFBDE8D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F04-E7AF-405E-A85C-017EA26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BBC-128B-4D61-84A1-46C0EB1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214-56BB-4F45-8A1B-81B4448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7AD-1450-4DEB-B495-5508A84E43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ción del año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 atmósfe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6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a longitud de onda de la  radiación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° emitida por un cuerpo es inversamente proporcional a su T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01336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frío :      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Juan Caldentey</cp:lastModifiedBy>
  <dcterms:modified xsi:type="dcterms:W3CDTF">2010-08-19T15:44:35Z</dcterms:modified>
  <cp:revision>47</cp:revision>
  <dc:subject/>
  <dc:title>RADIACIÓN SOLAR</dc:title>
</cp:coreProperties>
</file>