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7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2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EDA-EDD9-4E9A-9978-04644601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7929-5584-46EA-9F79-93F57A1D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6ED7-9239-4EED-B0E5-34D9AE64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D32-D998-4A5C-AA02-4875FC3C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CD64-8E4D-41A3-973A-103E39DE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9A2-B4C2-4C8A-BD89-4F2A0BE1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FA8-A0CD-42D5-9605-556CC073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5BC-04B6-44CD-82A0-2B3EDC50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5E3-6832-4EC8-B445-904CF72C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301B-FFEA-47C1-9447-E834C360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091-F7D5-4ED9-8BE2-0DCCA122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5B0-3600-4BF0-BAC4-2CC98046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EECC-B000-4A1D-8924-1CC55113EE1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espanol.weather.com/weather/climatology/USIL0225?dayofyear=32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ACIÓN SO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itución del Sol : 70 %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8 % 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% átomos Pes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temperatura del sol disminuye del núcleo a        la superfic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a de la superficie: 6.00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a del centro: 15.000.00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radiación solar se transmite como ondas electromagné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ción 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ía despej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ía despejado c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bes disper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a nub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ox en 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ia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ti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d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33526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38098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64008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762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2895480"/>
            <a:ext cx="3810240" cy="457200"/>
          </a:xfrm>
          <a:custGeom>
            <a:avLst/>
            <a:gdLst/>
            <a:ahLst/>
            <a:rect l="l" t="t" r="r" b="b"/>
            <a:pathLst>
              <a:path w="2016" h="288">
                <a:moveTo>
                  <a:pt x="0" y="288"/>
                </a:moveTo>
                <a:cubicBezTo>
                  <a:pt x="312" y="144"/>
                  <a:pt x="624" y="0"/>
                  <a:pt x="960" y="0"/>
                </a:cubicBezTo>
                <a:cubicBezTo>
                  <a:pt x="1296" y="0"/>
                  <a:pt x="1840" y="248"/>
                  <a:pt x="2016" y="28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1066680"/>
            <a:ext cx="3810240" cy="2286000"/>
          </a:xfrm>
          <a:custGeom>
            <a:avLst/>
            <a:gdLst/>
            <a:ahLst/>
            <a:rect l="l" t="t" r="r" b="b"/>
            <a:pathLst>
              <a:path w="2400" h="1440">
                <a:moveTo>
                  <a:pt x="0" y="1440"/>
                </a:moveTo>
                <a:cubicBezTo>
                  <a:pt x="472" y="720"/>
                  <a:pt x="944" y="0"/>
                  <a:pt x="1344" y="0"/>
                </a:cubicBezTo>
                <a:cubicBezTo>
                  <a:pt x="1744" y="0"/>
                  <a:pt x="2232" y="1200"/>
                  <a:pt x="2400" y="1440"/>
                </a:cubicBezTo>
              </a:path>
            </a:pathLst>
          </a:custGeom>
          <a:noFill/>
          <a:ln w="38160">
            <a:solidFill>
              <a:srgbClr val="eb22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1676520"/>
            <a:ext cx="3772080" cy="1676160"/>
          </a:xfrm>
          <a:custGeom>
            <a:avLst/>
            <a:gdLst/>
            <a:ahLst/>
            <a:rect l="l" t="t" r="r" b="b"/>
            <a:pathLst>
              <a:path w="2376" h="1056">
                <a:moveTo>
                  <a:pt x="0" y="1056"/>
                </a:moveTo>
                <a:lnTo>
                  <a:pt x="816" y="336"/>
                </a:lnTo>
                <a:lnTo>
                  <a:pt x="1056" y="0"/>
                </a:lnTo>
                <a:lnTo>
                  <a:pt x="1200" y="288"/>
                </a:lnTo>
                <a:lnTo>
                  <a:pt x="1344" y="192"/>
                </a:lnTo>
                <a:cubicBezTo>
                  <a:pt x="1426" y="219"/>
                  <a:pt x="1444" y="207"/>
                  <a:pt x="1488" y="264"/>
                </a:cubicBezTo>
                <a:cubicBezTo>
                  <a:pt x="1506" y="287"/>
                  <a:pt x="1520" y="312"/>
                  <a:pt x="1536" y="336"/>
                </a:cubicBezTo>
                <a:cubicBezTo>
                  <a:pt x="1544" y="348"/>
                  <a:pt x="1560" y="372"/>
                  <a:pt x="1560" y="372"/>
                </a:cubicBezTo>
                <a:cubicBezTo>
                  <a:pt x="1581" y="455"/>
                  <a:pt x="1576" y="533"/>
                  <a:pt x="1668" y="564"/>
                </a:cubicBezTo>
                <a:cubicBezTo>
                  <a:pt x="1783" y="679"/>
                  <a:pt x="1636" y="543"/>
                  <a:pt x="1740" y="612"/>
                </a:cubicBezTo>
                <a:cubicBezTo>
                  <a:pt x="1778" y="637"/>
                  <a:pt x="1813" y="679"/>
                  <a:pt x="1848" y="708"/>
                </a:cubicBezTo>
                <a:cubicBezTo>
                  <a:pt x="1900" y="751"/>
                  <a:pt x="1866" y="717"/>
                  <a:pt x="1920" y="744"/>
                </a:cubicBezTo>
                <a:cubicBezTo>
                  <a:pt x="1978" y="773"/>
                  <a:pt x="2025" y="791"/>
                  <a:pt x="2088" y="804"/>
                </a:cubicBezTo>
                <a:cubicBezTo>
                  <a:pt x="2124" y="828"/>
                  <a:pt x="2160" y="852"/>
                  <a:pt x="2196" y="876"/>
                </a:cubicBezTo>
                <a:cubicBezTo>
                  <a:pt x="2208" y="884"/>
                  <a:pt x="2232" y="900"/>
                  <a:pt x="2232" y="900"/>
                </a:cubicBezTo>
                <a:cubicBezTo>
                  <a:pt x="2248" y="924"/>
                  <a:pt x="2264" y="948"/>
                  <a:pt x="2280" y="972"/>
                </a:cubicBezTo>
                <a:cubicBezTo>
                  <a:pt x="2288" y="984"/>
                  <a:pt x="2292" y="1000"/>
                  <a:pt x="2304" y="1008"/>
                </a:cubicBezTo>
                <a:cubicBezTo>
                  <a:pt x="2328" y="1024"/>
                  <a:pt x="2376" y="1056"/>
                  <a:pt x="2376" y="1056"/>
                </a:cubicBezTo>
              </a:path>
            </a:pathLst>
          </a:custGeom>
          <a:noFill/>
          <a:ln w="38160">
            <a:solidFill>
              <a:srgbClr val="0715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00600" y="1066680"/>
            <a:ext cx="9907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495680" y="1828800"/>
            <a:ext cx="12956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876920" y="2666880"/>
            <a:ext cx="9903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172200" y="36576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4114800"/>
            <a:ext cx="4800600" cy="1155600"/>
          </a:xfrm>
          <a:custGeom>
            <a:avLst/>
            <a:gdLst/>
            <a:ahLst/>
            <a:rect l="l" t="t" r="r" b="b"/>
            <a:pathLst>
              <a:path w="3024" h="728">
                <a:moveTo>
                  <a:pt x="0" y="728"/>
                </a:moveTo>
                <a:cubicBezTo>
                  <a:pt x="468" y="372"/>
                  <a:pt x="936" y="16"/>
                  <a:pt x="1440" y="8"/>
                </a:cubicBezTo>
                <a:cubicBezTo>
                  <a:pt x="1944" y="0"/>
                  <a:pt x="2760" y="568"/>
                  <a:pt x="3024" y="6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733920"/>
            <a:ext cx="4800600" cy="927000"/>
          </a:xfrm>
          <a:custGeom>
            <a:avLst/>
            <a:gdLst/>
            <a:ahLst/>
            <a:rect l="l" t="t" r="r" b="b"/>
            <a:pathLst>
              <a:path w="3024" h="584">
                <a:moveTo>
                  <a:pt x="0" y="576"/>
                </a:moveTo>
                <a:cubicBezTo>
                  <a:pt x="208" y="288"/>
                  <a:pt x="416" y="0"/>
                  <a:pt x="672" y="0"/>
                </a:cubicBezTo>
                <a:cubicBezTo>
                  <a:pt x="928" y="0"/>
                  <a:pt x="1216" y="568"/>
                  <a:pt x="1536" y="576"/>
                </a:cubicBezTo>
                <a:cubicBezTo>
                  <a:pt x="1856" y="584"/>
                  <a:pt x="2344" y="80"/>
                  <a:pt x="2592" y="48"/>
                </a:cubicBezTo>
                <a:cubicBezTo>
                  <a:pt x="2840" y="16"/>
                  <a:pt x="2944" y="328"/>
                  <a:pt x="3024" y="384"/>
                </a:cubicBezTo>
              </a:path>
            </a:pathLst>
          </a:custGeom>
          <a:noFill/>
          <a:ln w="38160">
            <a:solidFill>
              <a:srgbClr val="eb22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4800600"/>
            <a:ext cx="4800600" cy="1155600"/>
          </a:xfrm>
          <a:custGeom>
            <a:avLst/>
            <a:gdLst/>
            <a:ahLst/>
            <a:rect l="l" t="t" r="r" b="b"/>
            <a:pathLst>
              <a:path w="3024" h="728">
                <a:moveTo>
                  <a:pt x="0" y="728"/>
                </a:moveTo>
                <a:cubicBezTo>
                  <a:pt x="468" y="372"/>
                  <a:pt x="936" y="16"/>
                  <a:pt x="1440" y="8"/>
                </a:cubicBezTo>
                <a:cubicBezTo>
                  <a:pt x="1944" y="0"/>
                  <a:pt x="2760" y="568"/>
                  <a:pt x="3024" y="680"/>
                </a:cubicBezTo>
              </a:path>
            </a:pathLst>
          </a:custGeom>
          <a:noFill/>
          <a:ln w="38160">
            <a:solidFill>
              <a:srgbClr val="0202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3809880"/>
            <a:ext cx="4724640" cy="851040"/>
          </a:xfrm>
          <a:custGeom>
            <a:avLst/>
            <a:gdLst/>
            <a:ahLst/>
            <a:rect l="l" t="t" r="r" b="b"/>
            <a:pathLst>
              <a:path w="3024" h="728">
                <a:moveTo>
                  <a:pt x="0" y="728"/>
                </a:moveTo>
                <a:cubicBezTo>
                  <a:pt x="468" y="372"/>
                  <a:pt x="936" y="16"/>
                  <a:pt x="1440" y="8"/>
                </a:cubicBezTo>
                <a:cubicBezTo>
                  <a:pt x="1944" y="0"/>
                  <a:pt x="2760" y="568"/>
                  <a:pt x="3024" y="680"/>
                </a:cubicBezTo>
              </a:path>
            </a:pathLst>
          </a:custGeom>
          <a:noFill/>
          <a:ln w="38160">
            <a:solidFill>
              <a:srgbClr val="1824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42670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4572000"/>
            <a:ext cx="6098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5257800"/>
            <a:ext cx="5335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5867280"/>
            <a:ext cx="6094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cto de la ubicación geográfica en la Rg diaria (Cal/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), de algunas localidades chil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ud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g Diciemb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g Ju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qu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9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2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3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Sere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7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1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al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2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8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1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1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ys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6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o Pale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3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Radiación solar (de onda corta) puede ser de 2 formas:  -</a:t>
            </a: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Radiación Direc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-Radiación Difus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ía despejado = 90% R. Directa + 10% R. Dif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ía nublado = 100% R. Dif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1276"/>
              </a:spcBef>
              <a:spcAft>
                <a:spcPts val="8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Radiación Global (Rg) = R. Directa + R. Difus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g diaria : Radiación solar que llega en un día a la superficie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ende de :La RE          Latit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rgo del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ción del año          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do atmósfe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038120" y="5257800"/>
            <a:ext cx="7621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038120" y="5791320"/>
            <a:ext cx="685800" cy="0"/>
          </a:xfrm>
          <a:prstGeom prst="line">
            <a:avLst/>
          </a:prstGeom>
          <a:ln w="57240">
            <a:solidFill>
              <a:srgbClr val="e50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038120" y="63244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ierra emite una radiación llamada RADIACIÓN TERRESTRE (Rt), ya que tiene una temperatura mayor al cero absoluto (la Rt es de onda larg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t es absorbida por : -Oz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por de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tana Atmosférica: La atmósfera no posee nada para detener la Rt, produciendo mayor enfri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cto Invernadero: Trabas para que escape la 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t es constante solo varía su inten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° máximas y mínimas ocurren con la máxima y mínima emisión de 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el sistema esta ganando energía se produce calentamiento del aire y la T° sube (Día) si el sistema pierde energía el aire se enfría y la T° baja (Noch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 DE ENERGÍ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(Día)     =  Rg (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Ratm - Rt(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(Noche) =  Ratm - Rt(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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bedo (Cantidad de energía o radiación qu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fleja, depende del calor del cuerpo, p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o los cuerpos tienen distintos albe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m : Depende de la nubosidad, humedad del 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 : Depende de la superficie, textura....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-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-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-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162920" y="304920"/>
            <a:ext cx="1303200" cy="1277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3124080" cy="27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24280" y="2971800"/>
            <a:ext cx="374832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95280" y="609480"/>
            <a:ext cx="1087560" cy="698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 flipV="1">
            <a:off x="3962160" y="2742840"/>
            <a:ext cx="228600" cy="2895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1523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943600" y="1295280"/>
            <a:ext cx="137160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562720" y="259056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00240" y="5657760"/>
            <a:ext cx="75960" cy="781200"/>
          </a:xfrm>
          <a:custGeom>
            <a:avLst/>
            <a:gdLst/>
            <a:ahLst/>
            <a:rect l="l" t="t" r="r" b="b"/>
            <a:pathLst>
              <a:path w="48" h="492">
                <a:moveTo>
                  <a:pt x="0" y="0"/>
                </a:moveTo>
                <a:cubicBezTo>
                  <a:pt x="4" y="24"/>
                  <a:pt x="4" y="49"/>
                  <a:pt x="12" y="72"/>
                </a:cubicBezTo>
                <a:cubicBezTo>
                  <a:pt x="20" y="97"/>
                  <a:pt x="40" y="119"/>
                  <a:pt x="48" y="144"/>
                </a:cubicBezTo>
                <a:cubicBezTo>
                  <a:pt x="44" y="220"/>
                  <a:pt x="46" y="297"/>
                  <a:pt x="36" y="372"/>
                </a:cubicBezTo>
                <a:cubicBezTo>
                  <a:pt x="34" y="386"/>
                  <a:pt x="14" y="394"/>
                  <a:pt x="12" y="408"/>
                </a:cubicBezTo>
                <a:cubicBezTo>
                  <a:pt x="8" y="436"/>
                  <a:pt x="24" y="464"/>
                  <a:pt x="24" y="4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95800" y="5638680"/>
            <a:ext cx="152280" cy="857520"/>
          </a:xfrm>
          <a:custGeom>
            <a:avLst/>
            <a:gdLst/>
            <a:ahLst/>
            <a:rect l="l" t="t" r="r" b="b"/>
            <a:pathLst>
              <a:path w="96" h="540">
                <a:moveTo>
                  <a:pt x="0" y="0"/>
                </a:moveTo>
                <a:cubicBezTo>
                  <a:pt x="29" y="44"/>
                  <a:pt x="59" y="83"/>
                  <a:pt x="96" y="120"/>
                </a:cubicBezTo>
                <a:cubicBezTo>
                  <a:pt x="88" y="216"/>
                  <a:pt x="83" y="312"/>
                  <a:pt x="72" y="408"/>
                </a:cubicBezTo>
                <a:cubicBezTo>
                  <a:pt x="67" y="453"/>
                  <a:pt x="43" y="499"/>
                  <a:pt x="84" y="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4520" y="5657760"/>
            <a:ext cx="144720" cy="533520"/>
          </a:xfrm>
          <a:custGeom>
            <a:avLst/>
            <a:gdLst/>
            <a:ahLst/>
            <a:rect l="l" t="t" r="r" b="b"/>
            <a:pathLst>
              <a:path w="91" h="336">
                <a:moveTo>
                  <a:pt x="67" y="0"/>
                </a:moveTo>
                <a:cubicBezTo>
                  <a:pt x="58" y="6"/>
                  <a:pt x="0" y="38"/>
                  <a:pt x="7" y="60"/>
                </a:cubicBezTo>
                <a:cubicBezTo>
                  <a:pt x="16" y="87"/>
                  <a:pt x="67" y="100"/>
                  <a:pt x="91" y="108"/>
                </a:cubicBezTo>
                <a:cubicBezTo>
                  <a:pt x="37" y="189"/>
                  <a:pt x="67" y="241"/>
                  <a:pt x="67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48440" y="5653080"/>
            <a:ext cx="133560" cy="919080"/>
          </a:xfrm>
          <a:custGeom>
            <a:avLst/>
            <a:gdLst/>
            <a:ahLst/>
            <a:rect l="l" t="t" r="r" b="b"/>
            <a:pathLst>
              <a:path w="84" h="579">
                <a:moveTo>
                  <a:pt x="24" y="27"/>
                </a:moveTo>
                <a:cubicBezTo>
                  <a:pt x="52" y="138"/>
                  <a:pt x="24" y="0"/>
                  <a:pt x="24" y="147"/>
                </a:cubicBezTo>
                <a:cubicBezTo>
                  <a:pt x="24" y="264"/>
                  <a:pt x="24" y="256"/>
                  <a:pt x="48" y="327"/>
                </a:cubicBezTo>
                <a:cubicBezTo>
                  <a:pt x="44" y="355"/>
                  <a:pt x="44" y="384"/>
                  <a:pt x="36" y="411"/>
                </a:cubicBezTo>
                <a:cubicBezTo>
                  <a:pt x="28" y="437"/>
                  <a:pt x="8" y="458"/>
                  <a:pt x="0" y="483"/>
                </a:cubicBezTo>
                <a:cubicBezTo>
                  <a:pt x="24" y="520"/>
                  <a:pt x="53" y="548"/>
                  <a:pt x="84" y="57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91400" y="5638680"/>
            <a:ext cx="160560" cy="857520"/>
          </a:xfrm>
          <a:custGeom>
            <a:avLst/>
            <a:gdLst/>
            <a:ahLst/>
            <a:rect l="l" t="t" r="r" b="b"/>
            <a:pathLst>
              <a:path w="101" h="540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59" y="119"/>
                  <a:pt x="64" y="144"/>
                  <a:pt x="72" y="168"/>
                </a:cubicBezTo>
                <a:cubicBezTo>
                  <a:pt x="76" y="180"/>
                  <a:pt x="84" y="204"/>
                  <a:pt x="84" y="204"/>
                </a:cubicBezTo>
                <a:cubicBezTo>
                  <a:pt x="65" y="473"/>
                  <a:pt x="101" y="299"/>
                  <a:pt x="12" y="432"/>
                </a:cubicBezTo>
                <a:cubicBezTo>
                  <a:pt x="16" y="448"/>
                  <a:pt x="14" y="467"/>
                  <a:pt x="24" y="480"/>
                </a:cubicBezTo>
                <a:cubicBezTo>
                  <a:pt x="46" y="508"/>
                  <a:pt x="84" y="469"/>
                  <a:pt x="84" y="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00840" y="5695920"/>
            <a:ext cx="114120" cy="685800"/>
          </a:xfrm>
          <a:custGeom>
            <a:avLst/>
            <a:gdLst/>
            <a:ahLst/>
            <a:rect l="l" t="t" r="r" b="b"/>
            <a:pathLst>
              <a:path w="72" h="432">
                <a:moveTo>
                  <a:pt x="0" y="0"/>
                </a:moveTo>
                <a:cubicBezTo>
                  <a:pt x="4" y="36"/>
                  <a:pt x="13" y="137"/>
                  <a:pt x="24" y="180"/>
                </a:cubicBezTo>
                <a:cubicBezTo>
                  <a:pt x="30" y="205"/>
                  <a:pt x="48" y="252"/>
                  <a:pt x="48" y="252"/>
                </a:cubicBezTo>
                <a:cubicBezTo>
                  <a:pt x="54" y="310"/>
                  <a:pt x="72" y="374"/>
                  <a:pt x="72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RN es positivo, la energía restante se ocupa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poración (LE), Existen fuentes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or Sensible (H), No existen fuentes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tosíntesis (F), Utiliza un 1% de la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or Latente de Vaporización = 580 cal/gr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ifica que para evaporar 1 gr.. de agua se necesitan 580 calorí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02920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0715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 un balance de energía a nivel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parte del mundo se esta enfriando (noche), y otra calentando (dí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2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4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6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90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82880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6172200"/>
            <a:ext cx="7543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05920" y="182880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209680"/>
            <a:ext cx="7543800" cy="3022560"/>
          </a:xfrm>
          <a:custGeom>
            <a:avLst/>
            <a:gdLst/>
            <a:ahLst/>
            <a:rect l="l" t="t" r="r" b="b"/>
            <a:pathLst>
              <a:path w="4752" h="1904">
                <a:moveTo>
                  <a:pt x="0" y="176"/>
                </a:moveTo>
                <a:cubicBezTo>
                  <a:pt x="364" y="88"/>
                  <a:pt x="728" y="0"/>
                  <a:pt x="1152" y="224"/>
                </a:cubicBezTo>
                <a:cubicBezTo>
                  <a:pt x="1576" y="448"/>
                  <a:pt x="1944" y="1240"/>
                  <a:pt x="2544" y="1520"/>
                </a:cubicBezTo>
                <a:cubicBezTo>
                  <a:pt x="3144" y="1800"/>
                  <a:pt x="4384" y="1840"/>
                  <a:pt x="4752" y="1904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429000"/>
            <a:ext cx="7543800" cy="1092240"/>
          </a:xfrm>
          <a:custGeom>
            <a:avLst/>
            <a:gdLst/>
            <a:ahLst/>
            <a:rect l="l" t="t" r="r" b="b"/>
            <a:pathLst>
              <a:path w="4752" h="688">
                <a:moveTo>
                  <a:pt x="0" y="16"/>
                </a:moveTo>
                <a:cubicBezTo>
                  <a:pt x="636" y="8"/>
                  <a:pt x="1272" y="0"/>
                  <a:pt x="2064" y="112"/>
                </a:cubicBezTo>
                <a:cubicBezTo>
                  <a:pt x="2856" y="224"/>
                  <a:pt x="4304" y="592"/>
                  <a:pt x="4752" y="688"/>
                </a:cubicBezTo>
              </a:path>
            </a:pathLst>
          </a:custGeom>
          <a:noFill/>
          <a:ln w="38160">
            <a:solidFill>
              <a:srgbClr val="0a7b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175248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267080"/>
            <a:ext cx="7467480" cy="1854360"/>
          </a:xfrm>
          <a:custGeom>
            <a:avLst/>
            <a:gdLst/>
            <a:ahLst/>
            <a:rect l="l" t="t" r="r" b="b"/>
            <a:pathLst>
              <a:path w="4704" h="1168">
                <a:moveTo>
                  <a:pt x="0" y="496"/>
                </a:moveTo>
                <a:cubicBezTo>
                  <a:pt x="348" y="248"/>
                  <a:pt x="696" y="0"/>
                  <a:pt x="1248" y="64"/>
                </a:cubicBezTo>
                <a:cubicBezTo>
                  <a:pt x="1800" y="128"/>
                  <a:pt x="2816" y="720"/>
                  <a:pt x="3312" y="880"/>
                </a:cubicBezTo>
                <a:cubicBezTo>
                  <a:pt x="3808" y="1040"/>
                  <a:pt x="3992" y="976"/>
                  <a:pt x="4224" y="1024"/>
                </a:cubicBezTo>
                <a:cubicBezTo>
                  <a:pt x="4456" y="1072"/>
                  <a:pt x="4624" y="1144"/>
                  <a:pt x="4704" y="1168"/>
                </a:cubicBezTo>
              </a:path>
            </a:pathLst>
          </a:custGeom>
          <a:noFill/>
          <a:ln w="38160">
            <a:solidFill>
              <a:srgbClr val="e50b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5486400"/>
            <a:ext cx="1371600" cy="609480"/>
          </a:xfrm>
          <a:prstGeom prst="rightArrow">
            <a:avLst>
              <a:gd name="adj1" fmla="val 50000"/>
              <a:gd name="adj2" fmla="val 56261"/>
            </a:avLst>
          </a:prstGeom>
          <a:solidFill>
            <a:srgbClr val="0715cb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3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ivel planetario la energía se redistribuye desde los trópicos a los po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vientos juegan un rol funda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IÓN DEL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c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c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81952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343400" y="320004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352680" y="4502160"/>
            <a:ext cx="1828800" cy="1782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29200" y="54864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791320" y="4419720"/>
            <a:ext cx="20574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81536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y de Steffan-Boltz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La emisión de la radiación, es proporcional a la cuarta potencia de la temperatura absolut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65000"/>
              </a:lnSpc>
              <a:spcBef>
                <a:spcPts val="5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Re = </a:t>
            </a:r>
            <a:r>
              <a:rPr b="1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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 (T°)</a:t>
            </a:r>
            <a:r>
              <a:rPr b="1" lang="en-US" sz="29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donde  </a:t>
            </a:r>
            <a:r>
              <a:rPr b="1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: Emisividad del cuerp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55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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 Constante de Steffan-Boltzma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y De Wi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La longitud de onda de la  radiación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° emitida por un cuerpo es inversamente proporcional a su T°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5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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501336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velocidad de calentamiento de las tierras es diferente a la  de las agu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o se debe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céan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Superficie en movimiento  -Sup. Inmó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Superficie transparente       -Sup. Op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Mayor penetración de Rg   -Rg solo en s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Transmisión de calor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Transmisión de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dvectiva,convectiva y          por con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con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Mayor calor especific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Menor calor especi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1828800"/>
            <a:ext cx="0" cy="4648320"/>
          </a:xfrm>
          <a:prstGeom prst="line">
            <a:avLst/>
          </a:prstGeom>
          <a:ln w="38160">
            <a:solidFill>
              <a:srgbClr val="e50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514600"/>
            <a:ext cx="8458200" cy="0"/>
          </a:xfrm>
          <a:prstGeom prst="line">
            <a:avLst/>
          </a:prstGeom>
          <a:ln w="38160">
            <a:solidFill>
              <a:srgbClr val="e50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entamiento y enfriamiento de las aguas es más lento que el de los su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° +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or oscilación tér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zonas con influencia terrestre tienen mayor oscilación térm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omin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mas terres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omin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mas c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ci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eá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4479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0715cb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981080"/>
            <a:ext cx="1524240" cy="4572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0715cb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5105520" cy="2728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8600" y="5257800"/>
            <a:ext cx="5105520" cy="0"/>
          </a:xfrm>
          <a:prstGeom prst="line">
            <a:avLst/>
          </a:prstGeom>
          <a:ln w="5724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41148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181480" y="5257440"/>
            <a:ext cx="60984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DEL 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or que tiene el aire en momento dado con respecto a un valor refer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iones de la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= Promedio de T°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Promedio de las T° máximas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Promedio de las T° mínimas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Máxima absoluta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Mínima absoluta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o: Diario, mensual, anual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2666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200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971640" y="981000"/>
          <a:ext cx="7056360" cy="4896000"/>
        </p:xfrm>
        <a:graphic>
          <a:graphicData uri="http://schemas.openxmlformats.org/drawingml/2006/table">
            <a:tbl>
              <a:tblPr/>
              <a:tblGrid>
                <a:gridCol w="776160"/>
                <a:gridCol w="566640"/>
                <a:gridCol w="567000"/>
                <a:gridCol w="517320"/>
                <a:gridCol w="486000"/>
                <a:gridCol w="517320"/>
                <a:gridCol w="519120"/>
                <a:gridCol w="484200"/>
                <a:gridCol w="485640"/>
                <a:gridCol w="535320"/>
                <a:gridCol w="533160"/>
                <a:gridCol w="517680"/>
                <a:gridCol w="550800"/>
              </a:tblGrid>
              <a:tr h="358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feb</a:t>
                      </a:r>
                      <a:r>
                        <a:rPr b="0" lang="es-ES_tradnl" sz="12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a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m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j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j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a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s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o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n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d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1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áx absolu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áx me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ín me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ín absolu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cilación o amplitud térmica: Diferencia entre temperaturas extre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del aire al sol o a la sombra es la misma, solo varia la SENSACIÓN TERMICA que depende de las características de la superficie (color, brillo, textura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 superficie, al recibir radiación solar, la absorbe, gana calor y lo emite según su temperatura (Ley de Steffan-Boltzm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del aire debe medirse a la sombra, pues el termómetro que la mide tiene su propia sensación tér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ONES TER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 enfriamiento anormal de la temperatura en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urre entre otoño y primavera, en latitudes medias y al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mente la temperatura disminuye con la altura 10°C por cada 1000 mts. de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se produce una inversión térmica la temperatura sube con la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iago tiene una inversión térmica en invierno de más o menos 500 mts. de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2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7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ones según Gé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-Radi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-Advec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-Radiativas: Ocurren cuando el balance de energía es negativo, durante un periodo de tiempo prolon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yudan a esta cond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Días co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aja humedad atmosf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Días despej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alma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5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0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5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0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-Advectivas: Se producen por la importación de una masa de aire frío, proveniente de zonas pol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vas: Locales, menos inten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ctivas: Extensas geográficamente, pueden s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más intensas según T° de la masa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a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2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ón térmica                     HE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resencia de escar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0°C a nivel de coberti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según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Advectivas: Extensas geográficamente y de mayor duración (2-5 dí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Radiativas: Localizadas y cor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producen por los mismos factores que las inversiones tér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380880"/>
            <a:ext cx="1524240" cy="304920"/>
          </a:xfrm>
          <a:prstGeom prst="rightArrow">
            <a:avLst>
              <a:gd name="adj1" fmla="val 50000"/>
              <a:gd name="adj2" fmla="val 124970"/>
            </a:avLst>
          </a:prstGeom>
          <a:solidFill>
            <a:srgbClr val="1033c6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ún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Blancas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 presencia de escarcha, menos dañin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Negras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n escarchas, con alta sequedad atmosférica, queman las plantas, suelen ser de mayor intens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ño por heladas, en situ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: Poi &gt; Poe (entra agua a la célu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: Poi &lt; Poe (sale agua desde la célu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de Poi 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ión osmótica interi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ión osmótica exteri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a la cual se produce el daño depende de la especie veg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3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8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3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8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3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y del cosen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intensidad de la radiación sobre un plano decrece en forma proporcional al coseno del ángulo de incidencia en relación a la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                     R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z = Ro cos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5486400"/>
            <a:ext cx="6781680" cy="0"/>
          </a:xfrm>
          <a:prstGeom prst="line">
            <a:avLst/>
          </a:prstGeom>
          <a:ln w="38160">
            <a:solidFill>
              <a:srgbClr val="f331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56640" y="4116240"/>
            <a:ext cx="12196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210" y="118"/>
                </a:moveTo>
                <a:arcTo wR="10800" hR="10800" stAng="-5907865" swAng="7197188"/>
                <a:lnTo>
                  <a:pt x="10800" y="10800"/>
                </a:lnTo>
                <a:close/>
              </a:path>
              <a:path fill="none" w="21600" h="21600">
                <a:moveTo>
                  <a:pt x="9210" y="118"/>
                </a:moveTo>
                <a:arcTo wR="10800" hR="10800" stAng="-5907865" swAng="7197188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809880" y="2895120"/>
            <a:ext cx="2743200" cy="259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2971800"/>
            <a:ext cx="0" cy="259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CTO DE LAS TEMPERATURAS EN EL CRECIMIENTO Y DESARROLLO DE LOS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determina la velocidad de desarrollo de los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especie tiene respuesta a este proceso, que dependen de su adaptación térmica en su lugar de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especies de origen de climas templados tienen requerimientos térmicos más bajo que las de origen trop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s Cardinales: representan la respuesta de la velocidad de desarrollo a la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pueden resumir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umbral (Tu)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 la temperatura a la cual comienza a observarse desarrollo o crecimien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optima (To)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 la temperatura a la cual el crecimiento y desarrollo es máximo u óptim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máxima (Tm)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 la temperatura más alta a la cual se presenta crecimiento y desarrol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es de origen templado : tu = 5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= 2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 = 35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es de origen tropical : tu = 1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= 3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 = 4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es de origen frío :       tu = -5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= 1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 = 18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4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9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4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9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4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9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jemplos forest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ea abies (Abeto): Tu = -5°C ; To = 2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m = 35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21337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cus retusa (Gomero): Tu = 8°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= 3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m = 5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                                                      R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23880" y="914040"/>
            <a:ext cx="0" cy="3886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837720"/>
            <a:ext cx="0" cy="3962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514600" y="762120"/>
            <a:ext cx="4800600" cy="403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800600"/>
            <a:ext cx="7010640" cy="0"/>
          </a:xfrm>
          <a:prstGeom prst="line">
            <a:avLst/>
          </a:prstGeom>
          <a:ln w="57240">
            <a:solidFill>
              <a:srgbClr val="f331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267080" y="914040"/>
            <a:ext cx="457200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4267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523520" y="4267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4267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200040" y="4267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3200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105160" y="266652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e Solar: Cantidad de energía que incide en forma perpendicular en el borde externo de la atmósf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e Solar = 2 C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nentes de la radiación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ltravioleta = 4% (0,28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= 44% (0,4 a 0,7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rarrojo = 52% (0,7 a 4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es que afectan la cantidad de radiación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posi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clinación del Sue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tmosfér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tmósfera (Nubosidad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rtículas en Suspensión (naturales y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ntropica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tr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187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stación del Añ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ora del D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00000"/>
                </a:solidFill>
                <a:latin typeface="Times New Roman"/>
              </a:rPr>
              <a:t>INCLINACION DE LA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00000"/>
                </a:solidFill>
                <a:latin typeface="Times New Roman"/>
              </a:rPr>
              <a:t>EQUINOC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2052720"/>
            <a:ext cx="77025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00000"/>
                </a:solidFill>
                <a:latin typeface="Times New Roman"/>
              </a:rPr>
              <a:t>SOLSTICIO INVIER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95640" y="1995480"/>
            <a:ext cx="496728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20:05:05Z</dcterms:created>
  <dc:creator>Nino</dc:creator>
  <dc:description/>
  <dc:language>en-US</dc:language>
  <cp:lastModifiedBy>Juan Caldentey</cp:lastModifiedBy>
  <dcterms:modified xsi:type="dcterms:W3CDTF">2010-08-19T15:44:35Z</dcterms:modified>
  <cp:revision>47</cp:revision>
  <dc:subject/>
  <dc:title>RADIACIÓN SOLAR</dc:title>
</cp:coreProperties>
</file>