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4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20.wmf" ContentType="image/x-wmf"/>
  <Override PartName="/ppt/media/image57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B3E-422F-4088-A47C-1776E51E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DE0-FC69-45E5-A795-CBA09FE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88E-3B1F-421B-B8F1-CAD131DB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D68-10D0-4E86-A084-642AEFE6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CA7-35F9-411F-9FD3-7F46C923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4583-0BA9-4279-9BA5-CDEBC27E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2638-7D61-4897-B61C-8620A70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6321-8941-4CFB-8A58-59589DC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8D73-7A7F-4EE0-A863-9A77C1C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C11C-27FA-4C76-B025-1792C496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40B-68A8-4E40-88AC-885E906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51F-BD12-4548-9DBB-A6FF480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C28D-57FA-4219-B1A8-149C713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EAE-D796-4119-B212-B98DEFB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D2E4-E5ED-4BA3-B89E-8CCE4F45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28A5-0309-46E4-90C2-3D5E428A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C3B-801E-4055-B978-1DCC74C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BF1-A2BD-4D7B-8744-B57A3274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96F-9EB4-4F53-87DE-AED43F2F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3D4-5E78-4DEA-ACAB-E8AEF8F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3C3-5058-47E1-959B-83BF638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62D-B2D7-47E1-BAF1-FF3F7968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195-F13D-43D8-BC4C-9E608A9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331-B15A-4AA9-AA36-6AE6BF7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779400" cy="110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13400" y="6740280"/>
            <a:ext cx="966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3C9-1892-4D7D-8D32-61B25FE4A962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08160"/>
            <a:ext cx="8640720" cy="71280"/>
          </a:xfrm>
          <a:prstGeom prst="rect">
            <a:avLst/>
          </a:prstGeom>
          <a:gradFill rotWithShape="0">
            <a:gsLst>
              <a:gs pos="0">
                <a:srgbClr val="9aa06e"/>
              </a:gs>
              <a:gs pos="100000">
                <a:srgbClr val="1718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108000" y="260280"/>
            <a:ext cx="3884400" cy="568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360" y="257040"/>
            <a:ext cx="43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1B28-0AA2-4D1F-8D7F-8020592E7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1280" y="6121440"/>
            <a:ext cx="126072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401400"/>
            <a:ext cx="5435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Just what is this 3-PG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856908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Peter 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CSIRO FFP and CRC 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Hob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An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of Landsberg &amp; Warin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model of forest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1760" y="6170760"/>
            <a:ext cx="47484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9320" y="6167520"/>
            <a:ext cx="5796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CAC-6989-46AC-A697-AE2314D4A9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760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in Components of 3-PG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1614600"/>
            <a:ext cx="8001000" cy="52448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tion of biom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nvironmental modification of light use efficiency; constant ratio of NPP to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mass allo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ffected by growing conditions and tre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m mor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probability of death; self-th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il water bal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ingle soil layer model; evapo-transpiration determined from Penman-Monteit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d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biomass pools and assumptions about specific leaf area, branch+bark fraction, and woo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572-750F-4167-8891-8CA575450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CA2-C6E1-4B87-ADC7-58493C2FD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5280" y="752400"/>
            <a:ext cx="4753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How does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do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comparison of predictions of 3-PG with observed data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AFBA-FC7A-494A-98A3-3C2144114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726400" cy="449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amples are based on sound parameterisation of 3-PG against observed data for </a:t>
            </a: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get good predictions of LAI &amp; stem growth when stand is initialised with observed stand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ion of early canopy growth depends strongly on initial stand conditions but stem growth rates at a site are similar for all initial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onclude that 3-PG has capability to predict stand growth sufficiently accurately for use as a management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097-2834-4380-8EAE-E5FC670983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628640"/>
            <a:ext cx="8604000" cy="4970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1768320"/>
            <a:ext cx="297180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of 3-PG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WA and SE Tas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or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14600" cy="251460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1754280"/>
            <a:ext cx="5029200" cy="4722840"/>
          </a:xfrm>
          <a:prstGeom prst="rect">
            <a:avLst/>
          </a:prstGeom>
          <a:ln w="3240">
            <a:solidFill>
              <a:srgbClr val="000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285-F523-4C16-9AD5-18F213C3B5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2920" y="1413000"/>
            <a:ext cx="8893080" cy="5184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1495440"/>
            <a:ext cx="871236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lvl="1" marL="622440" indent="-17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shows affects of stand initialisation on predicted stem biomass and 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s were initialised with (a) seedlings at planting, (b) different foliage biomass, and (c) different stem biomass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71380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390-DEBD-4591-9E00-96C795F97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8680" y="688320"/>
            <a:ext cx="496404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Structure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&amp;</a:t>
            </a: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 processes in  3-PG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iagrammatic overview of the processes in and of structure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F9B0-912A-4870-9F99-E6682C59F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6160" y="531720"/>
            <a:ext cx="7918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1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slide represents the majority of processes involved in forest grow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of these are explicitly included in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r slides in this section present causal loop diagrams that portray the structure of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section gives more detailed on relationships o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18D-F298-43EE-BE45-5AF3AF444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5800" y="53172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8840" y="1484280"/>
            <a:ext cx="74282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64D-3739-4389-9F5D-3BA701748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usal loop diagram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496360" cy="371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37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3600" indent="-18360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ful tool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or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summar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cture, caus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luences &amp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598760"/>
            <a:ext cx="828036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’m using “causal loop diagrams” in the following slides to illustrate the structure of 3-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5832720" cy="40021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00F-94EA-4D4D-97DA-38B557BE2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5800" y="53136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A quick answer …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12600"/>
            <a:ext cx="8352000" cy="460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e growth model 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ysiological Principles that Predict Grow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s gap between mensuration-based growth &amp; yield models and process-based, C-balance model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fully dynamic predictions of biomass pools, stand attributes, stocking and soil water u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ntains an admirable level of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 “at the edges”,  and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117360"/>
            <a:ext cx="3240360" cy="2664000"/>
          </a:xfrm>
          <a:prstGeom prst="cloudCallout">
            <a:avLst>
              <a:gd name="adj1" fmla="val -60486"/>
              <a:gd name="adj2" fmla="val 446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867280" y="503280"/>
            <a:ext cx="3048120" cy="17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B1B-321A-4A25-9883-C113DD7B9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3068280"/>
            <a:ext cx="5976720" cy="4056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ld English Text MT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Old English Text MT"/>
              </a:rPr>
              <a:t>Listen mate, I didn’t make these rules, I’m just telling you what He said … 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5800" y="55440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…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21400" y="1413000"/>
            <a:ext cx="2298600" cy="508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74920" y="3959280"/>
            <a:ext cx="28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42800" y="4005360"/>
            <a:ext cx="2687760" cy="2651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504800"/>
            <a:ext cx="6335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cMurtrie &amp; Wolf (1983)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s a common basis for many implementations of the conceptu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3-PG follows in their m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A3E-2088-4502-86BC-67CEFC2FDF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full picture – except for some internal details, and stand properties, e.g. H &amp;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3E3-A801-46E8-9993-21AF3143B5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as a carbon flow mode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-PG is essentially a McMurtrie &amp; Wolf (1983) carbon balan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060640"/>
            <a:ext cx="3168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s intercepted by the canop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d to assimilat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cated to foliage, stem &amp; root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t to respiration, litterfall &amp; root turn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2E0-FDD3-4009-8017-1AB8BAA595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similation &amp;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milation &amp; allocation are based on simple, well established principles and soun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060640"/>
            <a:ext cx="33483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nterception via Beer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imilation via light u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foliage, stem &amp; root allocation rat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liage:stem allocation depends on tre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4CF-D841-4263-A982-DA7C48CB4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ite &amp; environmental effec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te &amp; environmental factors affect growth (and water use) via simple empirical 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2060640"/>
            <a:ext cx="33483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erature affects only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PD and soil water affect LUE and root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te fertility affects root allocation and maybe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A2C-36F0-46D2-94E8-59C5EB1743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 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il water balance via simple single layer model with transpiration determined using a Penman-Montieth eq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2060640"/>
            <a:ext cx="3348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opy conductance scaled for canopy L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ffected by VPD and soil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T driven by 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edback from soil water status into growth mod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895-894C-44B1-8390-CA88C00744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cking an essential component of 3-PG as it affects allocation through stand-mean DB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2060640"/>
            <a:ext cx="324036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tality model very simple-mi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bability of death age &amp; (potentially) stress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nsity dependent mortality implemented via self-thinning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794-ACBE-4E80-A12C-EDDBB34F5E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28680" y="904680"/>
            <a:ext cx="4964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in more detail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211640" y="3715920"/>
            <a:ext cx="4681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etailed,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process-by-process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ook at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4E8-B2E6-43FD-912A-4ED014885F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1557360"/>
            <a:ext cx="8305920" cy="507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intercep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7240" y="1699920"/>
            <a:ext cx="5754600" cy="37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is absorbed as it passes through canop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cepted radiation varies with LAI via Beer’s law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I determined by SLA and foliage biom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1711440"/>
            <a:ext cx="198936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619280" y="3757680"/>
            <a:ext cx="2590920" cy="53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943600" y="4343400"/>
            <a:ext cx="243828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85" name=""/>
          <p:cNvGrpSpPr/>
          <p:nvPr/>
        </p:nvGrpSpPr>
        <p:grpSpPr>
          <a:xfrm>
            <a:off x="1143000" y="5516640"/>
            <a:ext cx="4572000" cy="825480"/>
            <a:chOff x="1143000" y="5516640"/>
            <a:chExt cx="4572000" cy="825480"/>
          </a:xfrm>
        </p:grpSpPr>
        <p:sp>
          <p:nvSpPr>
            <p:cNvPr id="186" name=""/>
            <p:cNvSpPr/>
            <p:nvPr/>
          </p:nvSpPr>
          <p:spPr>
            <a:xfrm>
              <a:off x="1143000" y="551664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Comic Sans MS"/>
                </a:rPr>
                <a:t>Note diminishing returns from high leaf area ind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5520" y="5639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Wingdings"/>
                  <a:ea typeface="Wingdings"/>
                </a:rPr>
                <a:t>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F91-F27E-41E0-BA7D-6D1A7B8516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493200"/>
            <a:ext cx="745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Production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&amp;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solar radi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257800" cy="469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sh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-ground and gross production linearly related to intercepted ra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of these relationships is a measure of light use efficiency (L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ily canopy-level LUE varies seaso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stand-level LU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This finding is the basis for many simple growth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9400" y="1160640"/>
            <a:ext cx="3090600" cy="558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EE5-9AA6-45BB-A337-7D6463B0D9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5800" y="54720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mparison with empirical model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787400"/>
            <a:ext cx="8640720" cy="46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d on wide range of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he edges”,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explanation, aids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s widely understood as empirical growth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necessarily as accurate, ei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require data not readi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557360"/>
            <a:ext cx="2914560" cy="2448000"/>
          </a:xfrm>
          <a:prstGeom prst="cloudCallout">
            <a:avLst>
              <a:gd name="adj1" fmla="val -53212"/>
              <a:gd name="adj2" fmla="val -66601"/>
            </a:avLst>
          </a:prstGeom>
          <a:solidFill>
            <a:srgbClr val="008000">
              <a:alpha val="2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1822320"/>
            <a:ext cx="218448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2C6-04D5-45C4-9CC1-FEDB1101D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7634160" cy="420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58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 use efficiency (LUE) a powerful, simplifying con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nual stand-level LUE quit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es-speci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es with climatic and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use of simp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rly use of this concept b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zpatrick &amp; Nix (1970) 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by Montei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97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use efficienc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06864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32360" y="3068640"/>
            <a:ext cx="3887280" cy="3526920"/>
            <a:chOff x="4932360" y="3068640"/>
            <a:chExt cx="3887280" cy="35269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4932360" y="3068640"/>
              <a:ext cx="3887280" cy="352692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5647320" y="3297960"/>
              <a:ext cx="2496960" cy="516600"/>
              <a:chOff x="5647320" y="3297960"/>
              <a:chExt cx="2496960" cy="516600"/>
            </a:xfrm>
          </p:grpSpPr>
          <p:sp>
            <p:nvSpPr>
              <p:cNvPr id="197" name=""/>
              <p:cNvSpPr/>
              <p:nvPr/>
            </p:nvSpPr>
            <p:spPr>
              <a:xfrm>
                <a:off x="7154640" y="3297960"/>
                <a:ext cx="951120" cy="47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47320" y="3297960"/>
                <a:ext cx="2496960" cy="516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977-12D5-4E84-9E17-410181DEBB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Gross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689440" cy="513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of LUE a key simplification i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so known as “canopy quantum efficiency” denoted by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PP proportional to intercepted radi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site &amp; climatic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10320" y="1700280"/>
            <a:ext cx="3109680" cy="4616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42920" y="4367160"/>
            <a:ext cx="2521080" cy="501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042920" y="5877000"/>
            <a:ext cx="3070440" cy="38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512-5FFC-41E4-A299-7365D83258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Net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04960"/>
            <a:ext cx="8315280" cy="455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ssumes constant frac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0.47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of GPP is lost as construction &amp; maintenance respi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t primary production is t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probably varies seasonally with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is would be an issue for a daily version of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42920" y="4280040"/>
            <a:ext cx="3629160" cy="51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A3D-4F72-49C6-ABA1-5B2CD0E22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A7B-18EF-412A-8A26-EE36431961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6560" y="1916280"/>
            <a:ext cx="8353440" cy="3960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7600" y="474120"/>
            <a:ext cx="6477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ffects on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8194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odifiers affect canopy p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17680" y="2527200"/>
            <a:ext cx="4508640" cy="470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520" y="3321000"/>
            <a:ext cx="8142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imum canopy quantum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3-PG the combination of modifi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Mod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174840" y="4687920"/>
            <a:ext cx="2768760" cy="469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3520" y="5276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ffects canopy conduc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A41-7C47-4D01-9229-A8E6A0AEDE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23920" y="-11628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emperature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94160" y="2789280"/>
            <a:ext cx="3630600" cy="366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03200" y="1700280"/>
            <a:ext cx="6761160" cy="118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3284640"/>
            <a:ext cx="489744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 monthly daily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n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t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B26-E5AD-41B4-BF9F-413D7E4C30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6560" y="162864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493200"/>
            <a:ext cx="609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rost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200" y="3284640"/>
            <a:ext cx="424944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frosty days i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days of production lost for each day of fr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194000" cy="514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16480" y="2843280"/>
            <a:ext cx="3576600" cy="3610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44F-7E2F-437A-B630-76D93AE184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6560" y="1916280"/>
            <a:ext cx="8353440" cy="4392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-116280"/>
            <a:ext cx="6934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-water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2637000"/>
            <a:ext cx="464796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available soi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available soil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wa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f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50%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hape of soil wate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47720" y="1498680"/>
            <a:ext cx="4292640" cy="1066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86240" y="2739960"/>
            <a:ext cx="3678480" cy="371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C8F-BE74-402B-8BD7-8A505C187E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474120"/>
            <a:ext cx="708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P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357720"/>
            <a:ext cx="4648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V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 of VP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30160" y="1841400"/>
            <a:ext cx="2527560" cy="59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151600" y="2604960"/>
            <a:ext cx="3741480" cy="3776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238-2385-4144-95DB-9AEE5F0542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1700280"/>
            <a:ext cx="8353440" cy="4681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30400" y="493200"/>
            <a:ext cx="7905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ge-relate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852640"/>
            <a:ext cx="457200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ly max.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stand age for 50%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trength of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3581640" cy="1054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932360" y="2922480"/>
            <a:ext cx="3960720" cy="3568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2B-B88B-424C-9F8B-813B7D0C96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rest management &amp;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87680"/>
            <a:ext cx="842472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pplied worldwide to many species and wide range of forest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ly more widely used for spatial predictions than for plot-level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 default choice PBM for “day-by-day” plantation management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 Aracruz (Brazil) and a South African consortium implementing 3-PG for routine forest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D56-C82D-4074-BDA3-D53AC7CEB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1628640"/>
            <a:ext cx="8496000" cy="5040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-116280"/>
            <a:ext cx="5181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iomass Partitionin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1557360"/>
            <a:ext cx="82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PP is partitioned into biomass pools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D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59160" y="5302080"/>
            <a:ext cx="2425680" cy="129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2133720"/>
            <a:ext cx="7315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i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woody tissu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680" y="3421080"/>
            <a:ext cx="81770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tioning 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site &amp; growth conditions, and stand DB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root-turn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taken into account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98D-CB0D-44EC-B314-06DAF2D72D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569440" cy="1042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118800" bIns="118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imple-minded approach reproduces well-established responses to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2720880"/>
            <a:ext cx="3745080" cy="310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allocation determined by fertility &amp;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or conditions favour below-ground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liage:stem allocation determined by tree si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trees have more allocation to stem 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location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6720" y="2421000"/>
            <a:ext cx="5254920" cy="2919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8000" y="5734080"/>
            <a:ext cx="896472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02600"/>
                </a:solidFill>
                <a:latin typeface="Comic Sans MS"/>
              </a:rPr>
              <a:t>Dynamic changes in allocation typically observed in thinning or pruning responses are not reproduced because allocation depends on tre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861-05D2-4434-88D6-4C1DE18300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1628640"/>
            <a:ext cx="849600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90520" y="493200"/>
            <a:ext cx="518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oot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47492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allocation affected by growth conditions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by soil fertility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3645000"/>
            <a:ext cx="431964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96880" y="2421000"/>
            <a:ext cx="3759120" cy="977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59280" y="2941560"/>
            <a:ext cx="3960720" cy="3578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9AA-C744-4330-9236-D7E37CFEF7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0920" y="1628640"/>
            <a:ext cx="8640720" cy="4753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474120"/>
            <a:ext cx="730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liage and stem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55680" y="15271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allocation is based on foliage:stem partition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252960"/>
            <a:ext cx="85341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diameter at breast height determined from an allometric relationship between stem mass 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coefficients determined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590920" y="5229360"/>
            <a:ext cx="4038480" cy="977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90880" y="2457360"/>
            <a:ext cx="3162240" cy="5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DF5-320C-4616-BECA-470A9C7000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52640" y="49320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ree-size and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598760"/>
            <a:ext cx="85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DBH decreases foliage allocation and increases stem allocation. Graphs show respons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5000" y="3241800"/>
            <a:ext cx="7623360" cy="3211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1042920" y="2540160"/>
            <a:ext cx="696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=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 = 0.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714-4B21-4C90-A70F-6C227FFCF7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4080" y="493200"/>
            <a:ext cx="767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itter-fall &amp; root-turnov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531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an age-dependent fraction of foliage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44400" y="1989000"/>
            <a:ext cx="6807240" cy="990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3068640"/>
            <a:ext cx="48956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rate at ag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litter-fall r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y be stress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 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-turnover constant fraction of root biomass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015 mont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64000" y="3271680"/>
            <a:ext cx="3600720" cy="32529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7F3-B6C5-4DB5-AD92-E250315924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32360" y="1557360"/>
            <a:ext cx="4032360" cy="4967280"/>
          </a:xfrm>
          <a:prstGeom prst="rect">
            <a:avLst/>
          </a:prstGeom>
          <a:solidFill>
            <a:srgbClr val="ffff99">
              <a:alpha val="51000"/>
            </a:srgbClr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basic C-balance equa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0720" y="1609560"/>
            <a:ext cx="4678200" cy="4744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 equations for the 3-PG carbon balance sub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 light interception, assimilation, biomass allocation &amp; mort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rmined from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y age-dependent and/or stress-re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760400"/>
            <a:ext cx="3617640" cy="441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917-81B4-40F7-B0F7-0CD462EBFF0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0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l water balance model has a single soil-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balance between rainfall, irrigation 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potrans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derstory or bare so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ss over maximum stor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 as runoff or drain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interception a %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and depends on L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a maxim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005440" y="2637000"/>
            <a:ext cx="388764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68360" y="3211560"/>
            <a:ext cx="39942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F65-BFF4-46C6-AA16-D835BE3644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560" y="1839600"/>
            <a:ext cx="8569080" cy="445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transpiration determined from a Penman-Monteith equation and canopy co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208400" y="2997360"/>
            <a:ext cx="4827600" cy="3144600"/>
            <a:chOff x="4208400" y="2997360"/>
            <a:chExt cx="4827600" cy="3144600"/>
          </a:xfrm>
        </p:grpSpPr>
        <p:sp>
          <p:nvSpPr>
            <p:cNvPr id="299" name=""/>
            <p:cNvSpPr/>
            <p:nvPr/>
          </p:nvSpPr>
          <p:spPr>
            <a:xfrm>
              <a:off x="4208400" y="2998800"/>
              <a:ext cx="4825800" cy="31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4211640" y="2997360"/>
              <a:ext cx="4824360" cy="31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179280" y="2933640"/>
            <a:ext cx="41054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27144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incident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LAI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 affected by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vironmental factors through grow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AD0-D564-447A-A037-C9C858C716D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1628640"/>
            <a:ext cx="8423280" cy="46800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515960"/>
            <a:ext cx="828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ary layer conductance is constant (0.2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 affected by VPD, soil water and stand age throu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increases with canopy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381636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canop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I at maximu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3197160"/>
            <a:ext cx="407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/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932360" y="3208320"/>
            <a:ext cx="3816360" cy="333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5800" y="472680"/>
            <a:ext cx="79455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 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097-B820-4841-8AB1-2760887EA9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3-PG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22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 necessarily best model for intended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oice of 3-PG is based on percep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PG is an inherently simple distillation of sound physiological and observational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ely available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ots of expo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P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J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good implementation &amp; docu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lines of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tential problems with further adaptation of 3-PG for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ired generalisations to go against current strong points – e.g.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lance when simple models married to com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B1E-D24E-40FE-9DE4-F952B836D2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em mortality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429920"/>
            <a:ext cx="8686800" cy="2435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PG includes density independent mortality through probability of dea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3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ly age and stress rel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m mortality in 3-PG is based on the self-thinning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1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n by stocking via single-tree stem m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731960" y="3902040"/>
            <a:ext cx="56484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467-AF01-4B0D-9F9F-3E0707C737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dell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1628280"/>
            <a:ext cx="7778520" cy="520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mort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indepen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dependent or self thi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901"/>
              </a:spcBef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sity-independent mort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random or stress-related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led by probability of dea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d in times of stress, e.g. in response to low long-term aver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4A3-D802-4AB8-9587-15766749F11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elf thinn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765440"/>
            <a:ext cx="4321080" cy="5005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 fontScale="99000"/>
          </a:bodyPr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 thinning-line gives maximum single-tree stem mass (kg/tree) at current 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00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0">
              <a:spcBef>
                <a:spcPts val="901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. stem mass at 1000 trees h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tocking is reduced. Th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ort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2: mortality redu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tion to 2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643280" y="2138400"/>
            <a:ext cx="4248360" cy="35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3F6-F42B-446E-9281-6CE900C57DD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lculation of stem volum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7600" y="1665000"/>
            <a:ext cx="8345520" cy="4984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em volume calculated either fr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lometric relationship w.r.t stand DB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r from density us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1 -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fraction of stem biomass in branch and bark an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stem den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vary widely across a site and calulcation of stem volume from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be error pr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6B1-576E-48B9-8CE2-9E5D6AB02AF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nal commen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4480" y="1773000"/>
            <a:ext cx="834516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reas I have not covered in detail, e.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s of Penman-Monteith eq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interception by can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ttempt to account for partial canopies (which does not work wel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above gives a good coverage of the basics of 3-P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 a separate PowerPoint file for a discussion of assigning species-specific parame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2D4-6566-437C-A681-670FAF47A2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557360"/>
            <a:ext cx="8640720" cy="51116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-135360"/>
            <a:ext cx="7777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nagement system structur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5600" y="1453680"/>
            <a:ext cx="829440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 structure for both management system and 3-PG highly desi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5280" y="2575080"/>
            <a:ext cx="835344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65600" y="2224080"/>
            <a:ext cx="52704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ly delineates roles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olates biology from suppor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ds development and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components betwe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28C-9D6E-41A5-B381-6B017ABF7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A quick summary of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59080"/>
          <a:ext cx="8567640" cy="5283000"/>
        </p:xfrm>
        <a:graphic>
          <a:graphicData uri="http://schemas.openxmlformats.org/drawingml/2006/table">
            <a:tbl>
              <a:tblPr/>
              <a:tblGrid>
                <a:gridCol w="1726920"/>
                <a:gridCol w="6840720"/>
              </a:tblGrid>
              <a:tr h="502560"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8392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  <a:ea typeface="Times New Roman"/>
                        </a:rPr>
                        <a:t>Model type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; process-based &amp; empirical relations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ime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902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P, biomass allocation, water usage &amp; soil water balance, stem mortality, litterfall &amp; root turn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climate data, soil texture &amp; water capacity, fer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216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 pools, stocking, available soil water, NPP &amp; ET, DBH &amp; standard stand attributes, an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dynamic, can be adapted for range of species, provides management-related outpu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ïve treatment of soil nutrition, allocation based largely on size, poor predictor of canopy development &amp; of mort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865-4499-433A-A452-60444EF0E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51280" y="2128320"/>
            <a:ext cx="5184720" cy="353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tIns="82800" bIns="118800" anchor="t">
            <a:normAutofit/>
          </a:bodyPr>
          <a:p>
            <a:pPr marL="262080" indent="-262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a quality and quantity that is readily obtained by the forest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n monthly weather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basic physical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il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(naïve?) ranking of site fert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3887640" cy="475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20320" y="495000"/>
            <a:ext cx="7412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Input data for 3-PG is …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143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565360"/>
            <a:ext cx="24004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It's not really lik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this at all!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483-4BF0-4930-812F-2FD5EF04F8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5800" y="410400"/>
            <a:ext cx="794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Input data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7240" y="1490400"/>
            <a:ext cx="8186760" cy="5528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thly mean temperature, radiation, rainfall, VP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ed or long-term averag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 &amp; soil descrip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il texture &amp; water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tility ra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also need stand initialisation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iage, stem &amp; root biom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vailable soil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2475000"/>
            <a:ext cx="1498320" cy="138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80160" y="4508640"/>
            <a:ext cx="19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95840" y="3213000"/>
            <a:ext cx="1136880" cy="15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C8B-4EFD-4E52-85C1-088E1B770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23:30:49Z</dcterms:created>
  <dc:creator>Peter Sands</dc:creator>
  <dc:description/>
  <dc:language>en-US</dc:language>
  <cp:lastModifiedBy>Horacio</cp:lastModifiedBy>
  <dcterms:modified xsi:type="dcterms:W3CDTF">2008-04-28T13:22:19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8550679</vt:r8>
  </property>
  <property fmtid="{D5CDD505-2E9C-101B-9397-08002B2CF9AE}" pid="3" name="_AuthorEmail">
    <vt:lpwstr>Peter.Sands@csiro.au</vt:lpwstr>
  </property>
  <property fmtid="{D5CDD505-2E9C-101B-9397-08002B2CF9AE}" pid="4" name="_AuthorEmailDisplayName">
    <vt:lpwstr>Sands, Peter (FFP, Hobart)</vt:lpwstr>
  </property>
  <property fmtid="{D5CDD505-2E9C-101B-9397-08002B2CF9AE}" pid="5" name="_EmailSubject">
    <vt:lpwstr>Material for 3-PG website</vt:lpwstr>
  </property>
  <property fmtid="{D5CDD505-2E9C-101B-9397-08002B2CF9AE}" pid="6" name="_ReviewingToolsShownOnce">
    <vt:lpwstr/>
  </property>
</Properties>
</file>