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38.wmf" ContentType="image/x-wmf"/>
  <Override PartName="/ppt/media/image8.wmf" ContentType="image/x-wmf"/>
  <Override PartName="/ppt/media/image4.jpeg" ContentType="image/jpeg"/>
  <Override PartName="/ppt/media/image10.wmf" ContentType="image/x-wmf"/>
  <Override PartName="/ppt/media/image47.wmf" ContentType="image/x-wmf"/>
  <Override PartName="/ppt/media/image2.png" ContentType="image/png"/>
  <Override PartName="/ppt/media/image35.wmf" ContentType="image/x-wmf"/>
  <Override PartName="/ppt/media/image5.wmf" ContentType="image/x-wmf"/>
  <Override PartName="/ppt/media/image17.wmf" ContentType="image/x-wmf"/>
  <Override PartName="/ppt/media/image28.wmf" ContentType="image/x-wmf"/>
  <Override PartName="/ppt/media/image50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20.wmf" ContentType="image/x-wmf"/>
  <Override PartName="/ppt/media/image57.wmf" ContentType="image/x-wmf"/>
  <Override PartName="/ppt/media/image27.wmf" ContentType="image/x-wmf"/>
  <Override PartName="/ppt/media/image63.wmf" ContentType="image/x-wmf"/>
  <Override PartName="/ppt/media/image26.wmf" ContentType="image/x-wmf"/>
  <Override PartName="/ppt/media/image62.wmf" ContentType="image/x-wmf"/>
  <Override PartName="/ppt/media/image25.wmf" ContentType="image/x-wmf"/>
  <Override PartName="/ppt/media/image61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0.wmf" ContentType="image/x-wmf"/>
  <Override PartName="/ppt/media/image23.wmf" ContentType="image/x-wmf"/>
  <Override PartName="/ppt/media/image58.wmf" ContentType="image/x-wmf"/>
  <Override PartName="/ppt/media/image21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3.png" ContentType="image/png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1.wmf" ContentType="image/x-wmf"/>
  <Override PartName="/ppt/media/image5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9902825" cy="6772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1011-1555-4E3E-9F82-5CBACC0C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8345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7600" y="3868920"/>
            <a:ext cx="8345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5A94-0B8C-45D6-A784-889B4098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760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04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4867-F2AB-4DD5-9881-C8D7ADC37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1320" y="198108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7600" y="386892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86892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1320" y="386892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F01-E54A-4783-84CB-076F74B1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1759-FD5A-4F37-8E90-F796F5A79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7600" y="1981080"/>
            <a:ext cx="834552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B8BB-A07B-4CB2-A4A4-9BEDCC9F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83455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38282-BE06-43FF-B58A-AE827401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A8A9-F00E-4A29-A12B-B0A3F903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AE3F-2A97-4313-9942-92950F37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45800" y="-138600"/>
            <a:ext cx="7945560" cy="60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1657-8B43-4A94-A0B5-40E23F8DD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760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4599-7E53-49AD-935E-1F818938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7600" y="1981080"/>
            <a:ext cx="834552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02F-7006-4035-BFE6-C4C08507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04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C0AEB-9C40-49BD-816C-A2B9FDC8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7600" y="3868920"/>
            <a:ext cx="8345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E28E-C5DC-4CF1-85B7-E07C4D50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8345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7600" y="3868920"/>
            <a:ext cx="8345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13A6-7B92-466A-AA45-446226C0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760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04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CBBB-1D89-4955-A9DF-1E86513A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98108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61320" y="198108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7600" y="386892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86892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61320" y="3868920"/>
            <a:ext cx="268704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D4A2-BCF4-45CC-8F0B-0F9EBDDB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83455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152-AF37-4CD1-AEAE-6C8EABB5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CCE7-4922-4D6F-B791-2C7DD3EA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0A63-4051-4F2A-A937-51869132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45800" y="-138600"/>
            <a:ext cx="7945560" cy="608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AF5-13E7-40DC-B516-89A411B4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760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1F5E-6A37-47DB-9007-39F44391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040" y="386892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5030-4156-4870-9A9E-6D0DCB36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760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040" y="1981080"/>
            <a:ext cx="40723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7600" y="3868920"/>
            <a:ext cx="834552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4A83-80FD-4E0E-A2A2-35F3167D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779400" cy="1103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5800" y="-138600"/>
            <a:ext cx="794556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7600" y="1981080"/>
            <a:ext cx="8345520" cy="3613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213400" y="6740280"/>
            <a:ext cx="9666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FD3E-2AA2-4338-AE82-17D195446125}" type="slidenum">
              <a:rPr b="0" lang="en-GB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04920" y="1208160"/>
            <a:ext cx="8640720" cy="71280"/>
          </a:xfrm>
          <a:prstGeom prst="rect">
            <a:avLst/>
          </a:prstGeom>
          <a:gradFill rotWithShape="0">
            <a:gsLst>
              <a:gs pos="0">
                <a:srgbClr val="9aa06e"/>
              </a:gs>
              <a:gs pos="100000">
                <a:srgbClr val="17181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3">
            <a:alphaModFix amt="0"/>
          </a:blip>
          <a:stretch/>
        </p:blipFill>
        <p:spPr>
          <a:xfrm>
            <a:off x="108000" y="260280"/>
            <a:ext cx="3884400" cy="568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00360" y="257040"/>
            <a:ext cx="4314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6638-6D4C-4C8D-86FE-2EA23F4805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image" Target="../media/image56.wmf"/><Relationship Id="rId5" Type="http://schemas.openxmlformats.org/officeDocument/2006/relationships/image" Target="../media/image56.wmf"/><Relationship Id="rId6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1280" y="6121440"/>
            <a:ext cx="126072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59280" y="401400"/>
            <a:ext cx="54352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Just what is this 3-PG?</a:t>
            </a:r>
            <a:endParaRPr b="1" lang="en-US" sz="5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637000"/>
            <a:ext cx="8569080" cy="34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00"/>
                </a:solidFill>
                <a:latin typeface="Comic Sans MS"/>
              </a:rPr>
              <a:t>Peter S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mic Sans MS"/>
              </a:rPr>
              <a:t>CSIRO FFP and CRC SP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00"/>
                </a:solidFill>
                <a:latin typeface="Comic Sans MS"/>
              </a:rPr>
              <a:t>Hob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00"/>
                </a:solidFill>
                <a:latin typeface="Comic Sans MS"/>
              </a:rPr>
              <a:t>An overvi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00"/>
                </a:solidFill>
                <a:latin typeface="Comic Sans MS"/>
              </a:rPr>
              <a:t>of Landsberg &amp; Waring’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00"/>
                </a:solidFill>
                <a:latin typeface="Comic Sans MS"/>
              </a:rPr>
              <a:t>model of forest produ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1760" y="6170760"/>
            <a:ext cx="474840" cy="571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679320" y="6167520"/>
            <a:ext cx="579600" cy="57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DCCD-1932-48EF-AA1B-08802155FC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7600" y="378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Main Components of 3-PG</a:t>
            </a:r>
            <a:endParaRPr b="1" lang="en-US" sz="44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0" name=""/>
          <p:cNvSpPr/>
          <p:nvPr/>
        </p:nvSpPr>
        <p:spPr>
          <a:xfrm>
            <a:off x="571680" y="1614600"/>
            <a:ext cx="8001000" cy="524484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oduction of biomas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environmental modification of light use efficiency; constant ratio of NPP to G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omass alloc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affected by growing conditions and tre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em mora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probability of death; self-thi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il water balan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single soil layer model; evapo-transpiration determined from Penman-Monteith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and properti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from biomass pools and assumptions about specific leaf area, branch+bark fraction, and wood den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C61B-386E-4061-BB79-83F17B9D7F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66560" y="1484280"/>
            <a:ext cx="8209080" cy="522936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15640" y="47412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3-PG growth modifier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14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environmental factor is represented by a growth modifier, i.e. a function of the factor which varies between 0 (total limitation) and 1 (no limit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914400" y="2863800"/>
          <a:ext cx="7315200" cy="3733920"/>
        </p:xfrm>
        <a:graphic>
          <a:graphicData uri="http://schemas.openxmlformats.org/drawingml/2006/table">
            <a:tbl>
              <a:tblPr/>
              <a:tblGrid>
                <a:gridCol w="3352680"/>
                <a:gridCol w="1600200"/>
                <a:gridCol w="236232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if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me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por pressure defic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il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v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in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pt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te 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nd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r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595B-2C53-4D0F-8C53-16DDB87199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95280" y="752400"/>
            <a:ext cx="47530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How does </a:t>
            </a:r>
            <a:br>
              <a:rPr sz="5400"/>
            </a:b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3-PG do?</a:t>
            </a:r>
            <a:endParaRPr b="1" lang="en-US" sz="5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924360" y="4538520"/>
            <a:ext cx="503856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a comparison of predictions of 3-PG with observed data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6595-C7B0-4CF1-84CD-4AF9C5EB35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ow does 3-PG do?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50920" y="1844280"/>
            <a:ext cx="8726400" cy="4493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Examples are based on sound parameterisation of 3-PG against observed data for </a:t>
            </a:r>
            <a:r>
              <a:rPr b="0" i="1" lang="en-AU" sz="2800" spc="-1" strike="noStrike">
                <a:solidFill>
                  <a:srgbClr val="000000"/>
                </a:solidFill>
                <a:latin typeface="Comic Sans MS"/>
              </a:rPr>
              <a:t>E. globul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get good predictions of LAI &amp; stem growth when stand is initialised with observed stand dat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tion of early canopy growth depends strongly on initial stand conditions but stem growth rates at a site are similar for all initial cond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Conclude that 3-PG has capability to predict stand growth sufficiently accurately for use as a management to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F576-08F1-4A34-88F7-1048338A33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0920" y="1628640"/>
            <a:ext cx="8604000" cy="49705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ow does 3-PG do? 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(continued)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1768320"/>
            <a:ext cx="2971800" cy="17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82800" bIns="118800" anchor="t">
            <a:spAutoFit/>
          </a:bodyPr>
          <a:p>
            <a:pPr marL="264960" indent="-26496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erformance of 3-PG for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E. globulu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n WA and SE Tasm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7400" indent="-44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d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od predi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87400" indent="-442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  <a:tab algn="l" pos="9569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oor 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2514600" cy="2514600"/>
          </a:xfrm>
          <a:prstGeom prst="rect">
            <a:avLst/>
          </a:prstGeom>
          <a:ln w="3240">
            <a:solidFill>
              <a:srgbClr val="003366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380880" y="1754280"/>
            <a:ext cx="5029200" cy="4722840"/>
          </a:xfrm>
          <a:prstGeom prst="rect">
            <a:avLst/>
          </a:prstGeom>
          <a:ln w="3240">
            <a:solidFill>
              <a:srgbClr val="00008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D333-F1CC-4FF0-8585-7C7466ECDC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2920" y="1413000"/>
            <a:ext cx="8893080" cy="51847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How does 3-PG do?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(concluded)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252360" y="1495440"/>
            <a:ext cx="8712360" cy="15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82800" bIns="118800" anchor="t">
            <a:spAutoFit/>
          </a:bodyPr>
          <a:p>
            <a:pPr lvl="1" marL="622440" indent="-17784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ure shows affects of stand initialisation on predicted stem biomass and LA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440" indent="-17784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s were initialised with (a) seedlings at planting, (b) different foliage biomass, and (c) different stem biomass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250920" y="3429000"/>
            <a:ext cx="8713800" cy="3095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1C1D-47E1-42DB-9814-7ACA6CB4B0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28680" y="688320"/>
            <a:ext cx="4964040" cy="256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Structure </a:t>
            </a:r>
            <a:r>
              <a:rPr b="1" lang="en-US" sz="4400" spc="-1" strike="noStrike">
                <a:solidFill>
                  <a:srgbClr val="000066"/>
                </a:solidFill>
                <a:latin typeface="Comic Sans MS"/>
              </a:rPr>
              <a:t>&amp;</a:t>
            </a: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 processes in  3-PG</a:t>
            </a:r>
            <a:endParaRPr b="1" lang="en-US" sz="5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3924360" y="4538520"/>
            <a:ext cx="5038560" cy="20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a diagrammatic overview of the processes in and of structure 3-PG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2F33-A58D-4F71-8B78-815F9F38B82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6160" y="531720"/>
            <a:ext cx="7918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Conceptual PBM of forest growth</a:t>
            </a:r>
            <a:endParaRPr b="1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713800" cy="4210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xt slide represents the majority of processes involved in forest growt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 all of these are explicitly included in 3-P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ter slides in this section present causal loop diagrams that portray the structure of 3-P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al section gives more detailed on relationships on 3-P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6F2-5C10-4637-91AA-3B80028241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45800" y="531720"/>
            <a:ext cx="794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Conceptual PBM of forest growth</a:t>
            </a:r>
            <a:endParaRPr b="1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888840" y="1484280"/>
            <a:ext cx="7428240" cy="517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D3A9-7F01-4E15-BC02-852EB80BCD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ausal loop diagram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560" y="2421000"/>
            <a:ext cx="8496360" cy="3711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53712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3600" indent="-183600">
              <a:spcBef>
                <a:spcPts val="15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y ar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-176040"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werful tools 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municate 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plore system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-176040"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summari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ructure, causal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luences &amp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3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eedback loo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1598760"/>
            <a:ext cx="8280360" cy="825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’m using “causal loop diagrams” in the following slides to illustrate the structure of 3-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132000" y="2492280"/>
            <a:ext cx="5832720" cy="4002120"/>
          </a:xfrm>
          <a:prstGeom prst="rect">
            <a:avLst/>
          </a:prstGeom>
          <a:ln w="19080">
            <a:solidFill>
              <a:srgbClr val="0033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5AAE-2E04-427A-9613-21E48EF553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5800" y="531360"/>
            <a:ext cx="79455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A quick answer …</a:t>
            </a:r>
            <a:endParaRPr b="1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6720" y="1812600"/>
            <a:ext cx="8352000" cy="4609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2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-PG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ee growth model based o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hysiological Principles that Predict Grow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idges gap between mensuration-based growth &amp; yield models and process-based, C-balance models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vides fully dynamic predictions of biomass pools, stand attributes, stocking and soil water us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intains an admirable level of simplic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10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pplicable under changing conditions, “at the edges”,  and to novel sit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5724360" y="117360"/>
            <a:ext cx="3240360" cy="2664000"/>
          </a:xfrm>
          <a:prstGeom prst="cloudCallout">
            <a:avLst>
              <a:gd name="adj1" fmla="val -60486"/>
              <a:gd name="adj2" fmla="val 44694"/>
            </a:avLst>
          </a:prstGeom>
          <a:solidFill>
            <a:srgbClr val="ffffcc">
              <a:alpha val="5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5867280" y="503280"/>
            <a:ext cx="3048120" cy="170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EDF-9154-48C5-9A2A-B0B3D11625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250920" y="3068280"/>
            <a:ext cx="5976720" cy="4056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ld English Text MT"/>
              </a:rPr>
              <a:t>“</a:t>
            </a:r>
            <a:r>
              <a:rPr b="1" lang="en-AU" sz="2400" spc="-1" strike="noStrike">
                <a:solidFill>
                  <a:srgbClr val="000000"/>
                </a:solidFill>
                <a:latin typeface="Old English Text MT"/>
              </a:rPr>
              <a:t>Listen mate, I didn’t make these rules, I’m just telling you what He said … 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1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1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1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1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136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045800" y="554400"/>
            <a:ext cx="7945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Conceptual PBM… </a:t>
            </a:r>
            <a:r>
              <a:rPr b="1" lang="en-GB" sz="2400" spc="-1" strike="noStrike">
                <a:solidFill>
                  <a:srgbClr val="333399"/>
                </a:solidFill>
                <a:latin typeface="Comic Sans MS"/>
              </a:rPr>
              <a:t>(continued)</a:t>
            </a:r>
            <a:endParaRPr b="1" lang="en-US" sz="24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521400" y="1413000"/>
            <a:ext cx="2298600" cy="5087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274920" y="3959280"/>
            <a:ext cx="2808360" cy="27828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442800" y="4005360"/>
            <a:ext cx="2687760" cy="2651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68360" y="1504800"/>
            <a:ext cx="633564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McMurtrie &amp; Wolf (1983) mo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7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is a common basis for many implementations of the conceptu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42880" indent="-177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omic Sans MS"/>
              </a:rPr>
              <a:t>3-PG follows in their m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5238-F5EA-4A33-8203-9175BD494B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08000" y="1341360"/>
            <a:ext cx="8964720" cy="54007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tocking and mortality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34552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the full picture – except for some internal details, and stand properties, e.g. H &amp; V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970-1D98-4F8C-8A0D-CDE62B8E24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08000" y="1341360"/>
            <a:ext cx="8964720" cy="54007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3-PG as a carbon flow model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34552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-PG is essentially a McMurtrie &amp; Wolf (1983) carbon balance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5724360" y="2060640"/>
            <a:ext cx="316872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diation is intercepted by the canop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nverted to assimilat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llocated to foliage, stem &amp; roots,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st to respiration, litterfall &amp; root turn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7296-4D4D-45A6-8FBD-9B0C08AD035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08000" y="1341360"/>
            <a:ext cx="8964720" cy="5400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ssimilation &amp; alloca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34552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imilation &amp; allocation are based on simple, well established principles and soun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bserv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/>
          <p:nvPr/>
        </p:nvSpPr>
        <p:spPr>
          <a:xfrm>
            <a:off x="5724360" y="2060640"/>
            <a:ext cx="334836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712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adiation interception via Beers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ssimilation via light use effici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ple foliage, stem &amp; root allocation rat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liage:stem allocation depends on tree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D8AE-2923-4263-9464-98DDB31BEB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08000" y="1341360"/>
            <a:ext cx="8964720" cy="5400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ite &amp; environmental effect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34552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te &amp; environmental factors affect growth (and water use) via simple empirical modifi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5724360" y="2060640"/>
            <a:ext cx="334836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712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mperature affects only 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PD and soil water affect LUE and root al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te fertility affects root allocation and maybe 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E7F2-C24B-4A9B-9734-37E9189655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08000" y="1341360"/>
            <a:ext cx="8964720" cy="540072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oil water balance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34552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oil water balance via simple single layer model with transpiration determined using a Penman-Montieth equ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5724360" y="2060640"/>
            <a:ext cx="334836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712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nopy conductance scaled for canopy LA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nd affected by VPD and soil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T driven by radi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eedback from soil water status into growth modif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FAD-28E2-4197-A46D-E32BEF3017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08000" y="1341360"/>
            <a:ext cx="8964720" cy="54007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tocking and mortality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345520" cy="7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cking an essential component of 3-PG as it affects allocation through stand-mean DB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5724360" y="2060640"/>
            <a:ext cx="3240360" cy="19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712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rtality model very simple-mi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obability of death age &amp; (potentially) stress rel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57120" indent="-171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ensity dependent mortality implemented via self-thinning l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EE27-4EE5-4FEB-B84F-2E3880DAC0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28680" y="904680"/>
            <a:ext cx="49640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omic Sans MS"/>
              </a:rPr>
              <a:t>3-PG in more detail</a:t>
            </a:r>
            <a:endParaRPr b="1" lang="en-US" sz="5400" spc="-1" strike="noStrike">
              <a:solidFill>
                <a:srgbClr val="000066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211640" y="3715920"/>
            <a:ext cx="468144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a detailed,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process-by-process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Comic Sans MS"/>
              </a:rPr>
              <a:t>look at 3-PG</a:t>
            </a:r>
            <a:endParaRPr b="0" lang="en-US" sz="32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97AB-3559-49A1-9A8F-2591880CF67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0880" y="1557360"/>
            <a:ext cx="8305920" cy="50720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Light intercep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7240" y="1699920"/>
            <a:ext cx="5754600" cy="371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ght is absorbed as it passes through canop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cepted radiation varies with LAI via Beer’s law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I determined by SLA and foliage bioma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095880" y="1711440"/>
            <a:ext cx="1989360" cy="24382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619280" y="3757680"/>
            <a:ext cx="2590920" cy="534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5943600" y="4343400"/>
            <a:ext cx="2438280" cy="220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185" name=""/>
          <p:cNvGrpSpPr/>
          <p:nvPr/>
        </p:nvGrpSpPr>
        <p:grpSpPr>
          <a:xfrm>
            <a:off x="1143000" y="5516640"/>
            <a:ext cx="4572000" cy="825480"/>
            <a:chOff x="1143000" y="5516640"/>
            <a:chExt cx="4572000" cy="825480"/>
          </a:xfrm>
        </p:grpSpPr>
        <p:sp>
          <p:nvSpPr>
            <p:cNvPr id="186" name=""/>
            <p:cNvSpPr/>
            <p:nvPr/>
          </p:nvSpPr>
          <p:spPr>
            <a:xfrm>
              <a:off x="1143000" y="5516640"/>
              <a:ext cx="4114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990000"/>
                  </a:solidFill>
                  <a:latin typeface="Comic Sans MS"/>
                </a:rPr>
                <a:t>Note diminishing returns from high leaf area indi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105520" y="56390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990000"/>
                  </a:solidFill>
                  <a:latin typeface="Wingdings"/>
                  <a:ea typeface="Wingdings"/>
                </a:rPr>
                <a:t>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136-2B81-4B42-BA3B-2C441D42756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15640" y="493200"/>
            <a:ext cx="7451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Production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&amp;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solar radia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5257800" cy="4694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tion show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bove-ground and gross production linearly related to intercepted radi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lope of these relationships is a measure of light use efficiency (LU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ily canopy-level LUE varies seasonal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nual stand-level LUE s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omic Sans MS"/>
              </a:rPr>
              <a:t>This finding is the basis for many simple growth mod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729400" y="1160640"/>
            <a:ext cx="3090600" cy="55814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5DC4-C2C9-4962-8E94-B89731E3229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45800" y="547200"/>
            <a:ext cx="794556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Comic Sans MS"/>
              </a:rPr>
              <a:t>Comparison with empirical model</a:t>
            </a:r>
            <a:endParaRPr b="1" lang="en-US" sz="36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787400"/>
            <a:ext cx="8640720" cy="46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d on wide range of cond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pplicable under changing condition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“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 the edges”, to novel situ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vides explanation, aids understan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0520" indent="-29052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t as widely understood as empirical growth mode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t necessarily as accurate, eith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2040" indent="-18108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n require data not readily avai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6156360" y="1557360"/>
            <a:ext cx="2914560" cy="2448000"/>
          </a:xfrm>
          <a:prstGeom prst="cloudCallout">
            <a:avLst>
              <a:gd name="adj1" fmla="val -53212"/>
              <a:gd name="adj2" fmla="val -66601"/>
            </a:avLst>
          </a:prstGeom>
          <a:solidFill>
            <a:srgbClr val="008000">
              <a:alpha val="20000"/>
            </a:srgbClr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516720" y="1822320"/>
            <a:ext cx="2184480" cy="167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5E31-69D8-45A8-925D-829C689EBA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324000" y="1628640"/>
            <a:ext cx="7634160" cy="4204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5840" indent="-285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ght use efficiency (LUE) a powerful, simplifying concep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-181800"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nual stand-level LUE quite s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-181800"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pecies-specif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-181800"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aries with climatic and s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acto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through use of simpl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-181800"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rly use of this concept b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tzpatrick &amp; Nix (1970) in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O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S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and by Monteith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6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972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Light use efficiency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3068640"/>
            <a:ext cx="79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932360" y="3068640"/>
            <a:ext cx="3887280" cy="3526920"/>
            <a:chOff x="4932360" y="3068640"/>
            <a:chExt cx="3887280" cy="3526920"/>
          </a:xfrm>
        </p:grpSpPr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4932360" y="3068640"/>
              <a:ext cx="3887280" cy="3526920"/>
            </a:xfrm>
            <a:prstGeom prst="rect">
              <a:avLst/>
            </a:prstGeom>
            <a:ln w="9360">
              <a:solidFill>
                <a:srgbClr val="000080"/>
              </a:solidFill>
              <a:miter/>
            </a:ln>
          </p:spPr>
        </p:pic>
        <p:grpSp>
          <p:nvGrpSpPr>
            <p:cNvPr id="196" name=""/>
            <p:cNvGrpSpPr/>
            <p:nvPr/>
          </p:nvGrpSpPr>
          <p:grpSpPr>
            <a:xfrm>
              <a:off x="5647320" y="3297960"/>
              <a:ext cx="2496960" cy="516600"/>
              <a:chOff x="5647320" y="3297960"/>
              <a:chExt cx="2496960" cy="516600"/>
            </a:xfrm>
          </p:grpSpPr>
          <p:sp>
            <p:nvSpPr>
              <p:cNvPr id="197" name=""/>
              <p:cNvSpPr/>
              <p:nvPr/>
            </p:nvSpPr>
            <p:spPr>
              <a:xfrm>
                <a:off x="7154640" y="3297960"/>
                <a:ext cx="951120" cy="47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 Unicode MS"/>
                  </a:rPr>
                  <a:t>= 0.43 g MJ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 Unicode MS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 Unicode MS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 Unicode MS"/>
                  </a:rPr>
                  <a:t>= 0.43 g MJ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 Unicode MS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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 Unicode MS"/>
                  </a:rPr>
                  <a:t>= 0.43 g MJ</a:t>
                </a:r>
                <a:r>
                  <a:rPr b="0" lang="en-US" sz="800" spc="-1" strike="noStrike" baseline="30000">
                    <a:solidFill>
                      <a:srgbClr val="000000"/>
                    </a:solidFill>
                    <a:latin typeface="Arial Unicode MS"/>
                  </a:rPr>
                  <a:t>-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647320" y="3297960"/>
                <a:ext cx="2496960" cy="516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B12-53C7-4D48-8ED8-7F57CA0B81E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Gross primary produc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5689440" cy="5133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-26208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se of LUE a key simplification in 3-P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-181080">
              <a:lnSpc>
                <a:spcPct val="11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lso known as “canopy quantum efficiency” denoted by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-181080">
              <a:lnSpc>
                <a:spcPct val="11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PP proportional to intercepted radia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0">
              <a:lnSpc>
                <a:spcPct val="125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-181080">
              <a:lnSpc>
                <a:spcPct val="11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site &amp; climatic cond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244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710320" y="1700280"/>
            <a:ext cx="3109680" cy="46162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042920" y="4367160"/>
            <a:ext cx="2521080" cy="5018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1042920" y="5877000"/>
            <a:ext cx="3070440" cy="38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7FDD-D1CF-4CEE-9807-B835014E21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Net primary produc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1704960"/>
            <a:ext cx="8315280" cy="455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82800" bIns="82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-PG assumes constant fractio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=0.47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) of GPP is lost as construction &amp; maintenance respi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t primary production is th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probably varies seasonally with tempera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this would be an issue for a daily version of 3-P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42920" y="4280040"/>
            <a:ext cx="3629160" cy="51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9685-0FD1-4072-9D43-8E67C5BA45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466560" y="1484280"/>
            <a:ext cx="8209080" cy="522936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15640" y="474120"/>
            <a:ext cx="66279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3-PG growth modifier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4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environmental factor is represented by a growth modifier, i.e. a function of the factor which varies between 0 (total limitation) and 1 (no limit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14400" y="2863800"/>
          <a:ext cx="7315200" cy="3733920"/>
        </p:xfrm>
        <a:graphic>
          <a:graphicData uri="http://schemas.openxmlformats.org/drawingml/2006/table">
            <a:tbl>
              <a:tblPr/>
              <a:tblGrid>
                <a:gridCol w="3352680"/>
                <a:gridCol w="1600200"/>
                <a:gridCol w="236232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odifi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ame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apor pressure defic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il 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v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in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pt 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T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ite 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N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and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r</a:t>
                      </a:r>
                      <a:r>
                        <a:rPr b="0" i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C6D7-53DA-4E38-86A1-0BD0532F0EC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66560" y="1916280"/>
            <a:ext cx="8353440" cy="396072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47600" y="474120"/>
            <a:ext cx="64771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ffects on produc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181944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modifiers affect canopy prod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317680" y="2527200"/>
            <a:ext cx="4508640" cy="4701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33520" y="3321000"/>
            <a:ext cx="8142120" cy="12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omic Sans MS"/>
              </a:rPr>
              <a:t>Cx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maximum canopy quantum ef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3-PG the combination of modifier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d 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hysMod 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3174840" y="4687920"/>
            <a:ext cx="2768760" cy="4698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533520" y="5276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 affects canopy conduc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745-2161-4BF2-A81B-EEF0A2516BC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24000" y="1484280"/>
            <a:ext cx="8353440" cy="439272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23920" y="-116280"/>
            <a:ext cx="76960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emperature growth modifier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5294160" y="2789280"/>
            <a:ext cx="3630600" cy="3664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31003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03200" y="1700280"/>
            <a:ext cx="6761160" cy="11872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395280" y="3284640"/>
            <a:ext cx="4897440" cy="33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ean monthly daily te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inimum temp. for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ptimum temp. for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aximum temp. for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8B71-C9CA-4ECC-9B92-5DD5BA83F63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66560" y="1628640"/>
            <a:ext cx="8353440" cy="439272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87280" y="493200"/>
            <a:ext cx="6096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rost growth modifier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26" name=""/>
          <p:cNvSpPr/>
          <p:nvPr/>
        </p:nvSpPr>
        <p:spPr>
          <a:xfrm>
            <a:off x="31003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54200" y="3284640"/>
            <a:ext cx="4249440" cy="27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frosty days i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umber of days of production lost for each day of fr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33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4194000" cy="5140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5316480" y="2843280"/>
            <a:ext cx="3576600" cy="3610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55EB-7862-4652-814D-62263533168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466560" y="1916280"/>
            <a:ext cx="8353440" cy="439236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-116280"/>
            <a:ext cx="69343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oil-water growth modifier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1003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11280" y="2637000"/>
            <a:ext cx="4647960" cy="37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ent available soil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um available soil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ve water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efici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 50% reduc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wer determining shape of soil water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33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47720" y="1498680"/>
            <a:ext cx="4292640" cy="10666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5286240" y="2739960"/>
            <a:ext cx="3678480" cy="37134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621C-C77F-4A9C-977E-A69F96134B6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66560" y="1484280"/>
            <a:ext cx="8353440" cy="439272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87280" y="474120"/>
            <a:ext cx="7089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PD growth modifier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0" name=""/>
          <p:cNvSpPr/>
          <p:nvPr/>
        </p:nvSpPr>
        <p:spPr>
          <a:xfrm>
            <a:off x="31003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3357720"/>
            <a:ext cx="4648320" cy="15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ent V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ength of VPD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33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830160" y="1841400"/>
            <a:ext cx="2527560" cy="596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5151600" y="2604960"/>
            <a:ext cx="3741480" cy="37767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EF87-BE89-481C-9B7D-1D8E0666BF0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95280" y="1700280"/>
            <a:ext cx="8353440" cy="468144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30400" y="493200"/>
            <a:ext cx="7905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ge-related growth modifier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47" name=""/>
          <p:cNvSpPr/>
          <p:nvPr/>
        </p:nvSpPr>
        <p:spPr>
          <a:xfrm>
            <a:off x="3100320" y="31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2852640"/>
            <a:ext cx="4572000" cy="37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62120" indent="-7621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rrent stand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kely max. stand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ative stand age for 50% growth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762120" indent="-76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wer determining strength of growth r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3364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826920" y="1631880"/>
            <a:ext cx="3581640" cy="10540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4932360" y="2922480"/>
            <a:ext cx="3960720" cy="35686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15AF-DC2C-4564-8070-8EDCBE5C6C2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5800" y="492840"/>
            <a:ext cx="79455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orest management &amp; 3-PG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687680"/>
            <a:ext cx="8424720" cy="442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-PG applied worldwide to many species and wide range of forest typ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urrently more widely used for spatial predictions than for plot-level manag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0520" indent="-29052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-PG is default choice PBM for “day-by-day” plantation management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15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.g. Aracruz (Brazil) and a South African consortium implementing 3-PG for routine forest manage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3AD9-6449-4EFE-A1A9-959EF11450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24000" y="1628640"/>
            <a:ext cx="8496000" cy="504036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58560" y="-116280"/>
            <a:ext cx="51814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Biomass Partitioning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1557360"/>
            <a:ext cx="820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PP is partitioned into biomass pools (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DM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359160" y="5302080"/>
            <a:ext cx="2425680" cy="12956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914400" y="2133720"/>
            <a:ext cx="73152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liag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ove-ground woody tissu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ot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1680" y="3421080"/>
            <a:ext cx="817704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tioning ra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 on site &amp; growth conditions, and stand DBH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tter-f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root-turno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 taken into account. Th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4848-A49E-438B-8A3F-7FF67BCD2A6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287280" y="1413000"/>
            <a:ext cx="8569440" cy="1042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118800" bIns="118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simple-minded approach reproduces well-established responses to site cond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"/>
          <p:cNvSpPr/>
          <p:nvPr/>
        </p:nvSpPr>
        <p:spPr>
          <a:xfrm>
            <a:off x="5219640" y="2720880"/>
            <a:ext cx="3745080" cy="3109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89040" indent="-231840">
              <a:lnSpc>
                <a:spcPct val="110000"/>
              </a:lnSpc>
              <a:spcBef>
                <a:spcPts val="788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oot allocation determined by fertility &amp;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10000"/>
              </a:lnSpc>
              <a:spcBef>
                <a:spcPts val="788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oor conditions favour below-ground 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10000"/>
              </a:lnSpc>
              <a:spcBef>
                <a:spcPts val="788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liage:stem allocation determined by tree siz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9040" indent="-231840">
              <a:lnSpc>
                <a:spcPct val="110000"/>
              </a:lnSpc>
              <a:spcBef>
                <a:spcPts val="788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rge trees have more allocation to stem w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Allocation in 3-PG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396720" y="2421000"/>
            <a:ext cx="5254920" cy="29192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108000" y="5734080"/>
            <a:ext cx="8964720" cy="1099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02600"/>
                </a:solidFill>
                <a:latin typeface="Comic Sans MS"/>
              </a:rPr>
              <a:t>Dynamic changes in allocation typically observed in thinning or pruning responses are not reproduced because allocation depends on tre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BD7C-EC11-432C-976E-49530001940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324000" y="1628640"/>
            <a:ext cx="8496000" cy="496908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90520" y="493200"/>
            <a:ext cx="51818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oot alloca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65" name=""/>
          <p:cNvSpPr/>
          <p:nvPr/>
        </p:nvSpPr>
        <p:spPr>
          <a:xfrm>
            <a:off x="468360" y="147492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t allocation affected by growth conditions throug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d by soil fertility throug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8360" y="3645000"/>
            <a:ext cx="4319640" cy="30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= 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-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or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ptim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596880" y="2421000"/>
            <a:ext cx="3759120" cy="977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4859280" y="2941560"/>
            <a:ext cx="3960720" cy="35784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FA62-B4FA-4F1C-903C-C346AB7B94A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50920" y="1628640"/>
            <a:ext cx="8640720" cy="475308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86920" y="474120"/>
            <a:ext cx="7301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oliage and stem alloca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1" name=""/>
          <p:cNvSpPr/>
          <p:nvPr/>
        </p:nvSpPr>
        <p:spPr>
          <a:xfrm>
            <a:off x="355680" y="1527120"/>
            <a:ext cx="824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bove-ground allocation is based on foliage:stem partitioning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252960"/>
            <a:ext cx="8534160" cy="22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diameter at breast height determined from an allometric relationship between stem mass a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coefficients determined 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590920" y="5229360"/>
            <a:ext cx="4038480" cy="9777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2990880" y="2457360"/>
            <a:ext cx="3162240" cy="58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80DF-6B69-475A-B432-F523C83B8C4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50920" y="1628640"/>
            <a:ext cx="8640720" cy="496908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52640" y="493200"/>
            <a:ext cx="7696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ree-size and allocation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1598760"/>
            <a:ext cx="858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ing DBH decreases foliage allocation and increases stem allocation. Graphs show response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765000" y="3241800"/>
            <a:ext cx="7623360" cy="32115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279" name=""/>
          <p:cNvSpPr/>
          <p:nvPr/>
        </p:nvSpPr>
        <p:spPr>
          <a:xfrm>
            <a:off x="1042920" y="2540160"/>
            <a:ext cx="6964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 = 1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0) = 0.2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EC0C-2835-4215-8DE7-63E15CBF214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50920" y="1628640"/>
            <a:ext cx="8640720" cy="496908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4080" y="493200"/>
            <a:ext cx="767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Litter-fall &amp; root-turnover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1531800"/>
            <a:ext cx="82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tter-fall an age-dependent fraction of foliage biom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644400" y="1989000"/>
            <a:ext cx="6807240" cy="990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468360" y="3068640"/>
            <a:ext cx="4895640" cy="38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tter-fall rate at ag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um litter-fall ra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may be stress-rela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e 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49160"/>
                <a:tab algn="l" pos="1123920"/>
                <a:tab algn="l" pos="1498680"/>
                <a:tab algn="l" pos="1873080"/>
                <a:tab algn="l" pos="2247840"/>
                <a:tab algn="l" pos="2622600"/>
                <a:tab algn="l" pos="2997360"/>
                <a:tab algn="l" pos="3371760"/>
                <a:tab algn="l" pos="3746520"/>
                <a:tab algn="l" pos="4121280"/>
                <a:tab algn="l" pos="4495680"/>
                <a:tab algn="l" pos="4870440"/>
                <a:tab algn="l" pos="5245200"/>
                <a:tab algn="l" pos="5619600"/>
                <a:tab algn="l" pos="5994360"/>
                <a:tab algn="l" pos="6369120"/>
                <a:tab algn="l" pos="6743880"/>
                <a:tab algn="l" pos="7118280"/>
                <a:tab algn="l" pos="749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ot-turnover constant fraction of root biomass 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.015 mont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364000" y="3271680"/>
            <a:ext cx="3600720" cy="3252960"/>
          </a:xfrm>
          <a:prstGeom prst="rect">
            <a:avLst/>
          </a:prstGeom>
          <a:ln w="28440">
            <a:solidFill>
              <a:srgbClr val="ff33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4514760" y="3321000"/>
            <a:ext cx="112680" cy="2142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4514760" y="3321000"/>
            <a:ext cx="112680" cy="21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DB46-32FE-46F4-A358-EFFB26AD737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4932360" y="1557360"/>
            <a:ext cx="4032360" cy="4967280"/>
          </a:xfrm>
          <a:prstGeom prst="rect">
            <a:avLst/>
          </a:prstGeom>
          <a:solidFill>
            <a:srgbClr val="ffff99">
              <a:alpha val="51000"/>
            </a:srgbClr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The basic C-balance equation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80720" y="1609560"/>
            <a:ext cx="4678200" cy="4744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are equations for the 3-PG carbon balance submod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3240" indent="-18864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s light interception, assimilation, biomass allocation &amp; morta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3240" indent="-1886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termined from site condi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3240" indent="-1886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&amp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ossibly age-dependent and/or stress-rel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148360" y="1760400"/>
            <a:ext cx="3617640" cy="441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D1DF-9099-4581-95BC-C338BA7975E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250560" y="1628640"/>
            <a:ext cx="8569080" cy="480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il water balance model has a single soil-laye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-2649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balance between rainfall, irrigation a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vapotranspi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-2649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understory or bare soi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-2649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cess over maximum stora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t as runoff or draina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-26496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opy interception a % of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infall and depends on LA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 to a maximu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1045800" y="47412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ater balance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005440" y="2637000"/>
            <a:ext cx="3887640" cy="38811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468360" y="3211560"/>
            <a:ext cx="3994200" cy="50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56C-208B-4FAD-B33C-0DF6350D6D5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250560" y="1839600"/>
            <a:ext cx="8569080" cy="445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5760" indent="-1857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potranspiration determined from a Penman-Monteith equation and canopy conduct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title"/>
          </p:nvPr>
        </p:nvSpPr>
        <p:spPr>
          <a:xfrm>
            <a:off x="1045800" y="47412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ater balance…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(continued)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208400" y="2997360"/>
            <a:ext cx="4827600" cy="3144600"/>
            <a:chOff x="4208400" y="2997360"/>
            <a:chExt cx="4827600" cy="3144600"/>
          </a:xfrm>
        </p:grpSpPr>
        <p:sp>
          <p:nvSpPr>
            <p:cNvPr id="299" name=""/>
            <p:cNvSpPr/>
            <p:nvPr/>
          </p:nvSpPr>
          <p:spPr>
            <a:xfrm>
              <a:off x="4208400" y="2998800"/>
              <a:ext cx="4825800" cy="313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0" name="" descr=""/>
            <p:cNvPicPr/>
            <p:nvPr/>
          </p:nvPicPr>
          <p:blipFill>
            <a:blip r:embed="rId2">
              <a:alphaModFix amt="50000"/>
            </a:blip>
            <a:stretch/>
          </p:blipFill>
          <p:spPr>
            <a:xfrm>
              <a:off x="4211640" y="2997360"/>
              <a:ext cx="4824360" cy="31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"/>
          <p:cNvSpPr/>
          <p:nvPr/>
        </p:nvSpPr>
        <p:spPr>
          <a:xfrm>
            <a:off x="179280" y="2933640"/>
            <a:ext cx="410544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0720" indent="-27144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iven by incident so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d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271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iven by LAI throug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27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opy conduc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2714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uctance affected by sit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nvironmental factors through growth modif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4CE9-B932-4F0B-940E-B7F13BA1BF4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68360" y="1628640"/>
            <a:ext cx="8423280" cy="4680000"/>
          </a:xfrm>
          <a:prstGeom prst="rect">
            <a:avLst/>
          </a:prstGeom>
          <a:solidFill>
            <a:srgbClr val="ffffff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1515960"/>
            <a:ext cx="8283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undary layer conductance is constant (0.2 m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opy conductance affected by VPD, soil water and stand age throug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and increases with canopy L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5640" y="3860640"/>
            <a:ext cx="3816360" cy="27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in{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V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51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um canopy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uc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spcBef>
                <a:spcPts val="751"/>
              </a:spcBef>
              <a:tabLst>
                <a:tab algn="l" pos="0"/>
                <a:tab algn="l" pos="716040"/>
                <a:tab algn="l" pos="1432080"/>
                <a:tab algn="l" pos="2147760"/>
                <a:tab algn="l" pos="2863800"/>
                <a:tab algn="l" pos="3579840"/>
                <a:tab algn="l" pos="4295880"/>
                <a:tab algn="l" pos="5011560"/>
                <a:tab algn="l" pos="5727600"/>
                <a:tab algn="l" pos="6443640"/>
                <a:tab algn="l" pos="7159680"/>
                <a:tab algn="l" pos="7875720"/>
                <a:tab algn="l" pos="8591400"/>
                <a:tab algn="l" pos="9307440"/>
                <a:tab algn="l" pos="10023480"/>
                <a:tab algn="l" pos="107395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g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I at maximum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duc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4360" y="3197160"/>
            <a:ext cx="4076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 g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x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min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/L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g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 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4932360" y="3208320"/>
            <a:ext cx="3816360" cy="333864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5800" y="472680"/>
            <a:ext cx="794556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ater balance…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(concluded) 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611A-FE02-4290-AB76-E8691D40696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5800" y="492840"/>
            <a:ext cx="7945560" cy="64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hy 3-PG?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5220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t necessarily best model for intended us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0520" indent="-290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oice of 3-PG is based on percep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-PG is an inherently simple distillation of sound physiological and observational knowled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eely available </a:t>
            </a:r>
            <a:r>
              <a:rPr b="0" lang="en-GB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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ots of expo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PG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J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good implementation &amp; documen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pen lines of commun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0520" indent="-290520">
              <a:spcBef>
                <a:spcPts val="1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tential problems with further adaptation of 3-PG for mana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sired generalisations to go against current strong points – e.g. simplic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35080">
              <a:spcBef>
                <a:spcPts val="3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lance when simple models married to comple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3A1-686A-4159-AB97-05759B0EB1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tem mortality in 3-PG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429920"/>
            <a:ext cx="8686800" cy="2435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82800" bIns="118800" anchor="t">
            <a:normAutofit/>
          </a:bodyPr>
          <a:p>
            <a:pPr marL="289080" indent="-289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-PG includes density independent mortality through probability of death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3480" indent="-183960">
              <a:lnSpc>
                <a:spcPct val="13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tentially age and stress rela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9080" indent="-289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em mortality in 3-PG is based on the self-thinning la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63480" indent="-183960">
              <a:lnSpc>
                <a:spcPct val="110000"/>
              </a:lnSpc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iven by stocking via single-tree stem mas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1731960" y="3902040"/>
            <a:ext cx="5648400" cy="27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9B61-E3B9-476D-9326-5D7F3527CB5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Modelling mortality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0760" y="1628280"/>
            <a:ext cx="7778520" cy="52056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82800" bIns="118800" anchor="t">
            <a:normAutofit/>
          </a:bodyPr>
          <a:p>
            <a:pPr marL="264960" indent="-2649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types of mortality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6532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nsity independ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6532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nsity dependent or self thin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0">
              <a:spcBef>
                <a:spcPts val="901"/>
              </a:spcBef>
              <a:buNone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-264960">
              <a:spcBef>
                <a:spcPts val="10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nsity-independent morta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6532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e to random or stress-related eff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6532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led by probability of dea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 th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4960"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16040" indent="-26532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creased in times of stress, e.g. in response to low long-term averag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9DBF-828E-46B6-BD9E-B6412BCAC0C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elf thinning mortality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50560" y="1765440"/>
            <a:ext cx="4321080" cy="5005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82800" bIns="118800" anchor="t">
            <a:normAutofit fontScale="99000"/>
          </a:bodyPr>
          <a:p>
            <a:pPr marL="262080" indent="-262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lf thinning-line gives maximum single-tree stem mass (kg/tree) at current stoc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8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x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Sx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1000/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/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62080" indent="0">
              <a:spcBef>
                <a:spcPts val="901"/>
              </a:spcBef>
              <a:buNone/>
              <a:tabLst>
                <a:tab algn="l" pos="0"/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x0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max. stem mass at 1000 trees h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2080" indent="-262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3488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N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tocking is reduced. Th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08840" indent="-2624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1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 mortalit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8840" indent="-2624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 2: mortality reduc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08840" indent="0">
              <a:buNone/>
              <a:tabLst>
                <a:tab algn="l" pos="0"/>
                <a:tab algn="l" pos="870120"/>
                <a:tab algn="l" pos="1305000"/>
                <a:tab algn="l" pos="1739880"/>
                <a:tab algn="l" pos="2174760"/>
                <a:tab algn="l" pos="2610000"/>
                <a:tab algn="l" pos="3044880"/>
                <a:tab algn="l" pos="3479760"/>
                <a:tab algn="l" pos="3914640"/>
                <a:tab algn="l" pos="4349880"/>
                <a:tab algn="l" pos="4784760"/>
                <a:tab algn="l" pos="5219640"/>
                <a:tab algn="l" pos="5654520"/>
                <a:tab algn="l" pos="6089760"/>
                <a:tab algn="l" pos="6524640"/>
                <a:tab algn="l" pos="6959520"/>
                <a:tab algn="l" pos="7394400"/>
                <a:tab algn="l" pos="7829640"/>
                <a:tab algn="l" pos="8264520"/>
                <a:tab algn="l" pos="8699400"/>
                <a:tab algn="l" pos="9134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pulation to 2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4643280" y="2138400"/>
            <a:ext cx="4248360" cy="35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689-C61A-468B-B735-45FC9627DB8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Calculation of stem volume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17600" y="1665000"/>
            <a:ext cx="8345520" cy="4984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Stem volume calculated either from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allometric relationship w.r.t stand DB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or from density us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= (1 -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where </a:t>
            </a: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is fraction of stem biomass in branch and bark and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AU" sz="2400" spc="-1" strike="noStrike">
                <a:solidFill>
                  <a:srgbClr val="000000"/>
                </a:solidFill>
                <a:latin typeface="Comic Sans MS"/>
              </a:rPr>
              <a:t> is stem dens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Note that 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BB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can vary widely across a site and calulcation of stem volume from </a:t>
            </a:r>
            <a:r>
              <a:rPr b="0" i="1" lang="en-AU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 can be error pro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D5F5-6B72-44E0-9D8C-618B8B77A22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45800" y="470880"/>
            <a:ext cx="79455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inal comments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74480" y="1773000"/>
            <a:ext cx="8345160" cy="442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areas I have not covered in detail, e.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ails of Penman-Monteith equ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infall interception by canop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ttempt to account for partial canopies (which does not work wel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ever, the above gives a good coverage of the basics of 3-P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7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e a separate PowerPoint file for a discussion of assigning species-specific paramet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CC13-3E90-456A-AC88-65FB8681C27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9280" y="1557360"/>
            <a:ext cx="8640720" cy="51116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-135360"/>
            <a:ext cx="777708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Management system structure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5600" y="1453680"/>
            <a:ext cx="8294400" cy="8254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ular structure for both management system and 3-PG highly desir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395280" y="2575080"/>
            <a:ext cx="8353440" cy="4022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765600" y="2224080"/>
            <a:ext cx="527040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53880" indent="-174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early delineates roles of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174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olates biology from support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174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ids development and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53880" indent="-174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hare components between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0E1E-F479-4A3E-AD1D-C2FE8178F2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42920" y="549000"/>
            <a:ext cx="77724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A quick summary of 3-PG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24000" y="1459080"/>
          <a:ext cx="8567640" cy="5283000"/>
        </p:xfrm>
        <a:graphic>
          <a:graphicData uri="http://schemas.openxmlformats.org/drawingml/2006/table">
            <a:tbl>
              <a:tblPr/>
              <a:tblGrid>
                <a:gridCol w="1726920"/>
                <a:gridCol w="6840720"/>
              </a:tblGrid>
              <a:tr h="502560">
                <a:tc>
                  <a:txBody>
                    <a:bodyPr lIns="75600" rIns="756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Attribu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0" marR="75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Com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0" marR="75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66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83920"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  <a:ea typeface="Times New Roman"/>
                        </a:rPr>
                        <a:t>Model type</a:t>
                      </a: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ynamic; process-based &amp; empirical relationshi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66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85280"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Time fr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90200"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Proc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PP, biomass allocation, water usage &amp; soil water balance, stem mortality, litterfall &amp; root turno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485280"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hly climate data, soil texture &amp; water capacity, fert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812160"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Out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mass pools, stocking, available soil water, NPP &amp; ET, DBH &amp; standard stand attributes, and 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811800"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Streng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lly dynamic, can be adapted for range of species, provides management-related output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5760">
                      <a:solidFill>
                        <a:srgbClr val="008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811800"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Weakn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75600" rIns="756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ïve treatment of soil nutrition, allocation based largely on size, poor predictor of canopy development &amp; of morta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0" marR="756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8000"/>
                      </a:solidFill>
                    </a:lnT>
                    <a:lnB w="13680">
                      <a:solidFill>
                        <a:srgbClr val="0066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093-6BC6-42C7-9122-2E834F80C6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851280" y="2128320"/>
            <a:ext cx="5184720" cy="353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tIns="82800" bIns="118800" anchor="t">
            <a:normAutofit/>
          </a:bodyPr>
          <a:p>
            <a:pPr marL="262080" indent="-262080"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f a quality and quantity that is readily obtained by the forest manag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12880" indent="-276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n monthly weather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12880" indent="-276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y basic physical sit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oil fact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12880" indent="-2764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(naïve?) ranking of site fertil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08000" y="1557360"/>
            <a:ext cx="3887640" cy="4751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20320" y="495000"/>
            <a:ext cx="741204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Comic Sans MS"/>
              </a:rPr>
              <a:t>Input data for 3-PG is …</a:t>
            </a:r>
            <a:endParaRPr b="1" lang="en-US" sz="40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6477120" y="11430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26920" y="2565360"/>
            <a:ext cx="2400480" cy="148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3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Rockwell"/>
              </a:rPr>
              <a:t>It's not really like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Rockwell"/>
              <a:ea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Rockwell"/>
              </a:rPr>
              <a:t>this at all!!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Rockwell"/>
              <a:ea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80DC-E039-4A54-8111-AA4C867518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45800" y="410400"/>
            <a:ext cx="7945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Comic Sans MS"/>
              </a:rPr>
              <a:t>Input data </a:t>
            </a:r>
            <a:r>
              <a:rPr b="0" lang="en-GB" sz="2800" spc="-1" strike="noStrike">
                <a:solidFill>
                  <a:srgbClr val="333399"/>
                </a:solidFill>
                <a:latin typeface="Comic Sans MS"/>
              </a:rPr>
              <a:t>(continued)</a:t>
            </a:r>
            <a:endParaRPr b="1" lang="en-US" sz="2800" spc="-1" strike="noStrike">
              <a:solidFill>
                <a:srgbClr val="333399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17240" y="1490400"/>
            <a:ext cx="8186760" cy="55281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te d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nthly mean temperature, radiation, rainfall, VP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ed or long-term average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te &amp; soil descript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titu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il texture &amp; water capac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ertility rat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UT also need stand initialisation dat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liage, stem &amp; root bioma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ock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vailable soil wa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093080" y="2475000"/>
            <a:ext cx="1498320" cy="1385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680160" y="4508640"/>
            <a:ext cx="1995480" cy="2205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595840" y="3213000"/>
            <a:ext cx="1136880" cy="150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C099-1565-4B00-819A-1D3AFAAC2C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9T23:30:49Z</dcterms:created>
  <dc:creator>Peter Sands</dc:creator>
  <dc:description/>
  <dc:language>en-US</dc:language>
  <cp:lastModifiedBy>Horacio</cp:lastModifiedBy>
  <dcterms:modified xsi:type="dcterms:W3CDTF">2008-04-28T13:22:19Z</dcterms:modified>
  <cp:revision>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78550679</vt:r8>
  </property>
  <property fmtid="{D5CDD505-2E9C-101B-9397-08002B2CF9AE}" pid="3" name="_AuthorEmail">
    <vt:lpwstr>Peter.Sands@csiro.au</vt:lpwstr>
  </property>
  <property fmtid="{D5CDD505-2E9C-101B-9397-08002B2CF9AE}" pid="4" name="_AuthorEmailDisplayName">
    <vt:lpwstr>Sands, Peter (FFP, Hobart)</vt:lpwstr>
  </property>
  <property fmtid="{D5CDD505-2E9C-101B-9397-08002B2CF9AE}" pid="5" name="_EmailSubject">
    <vt:lpwstr>Material for 3-PG website</vt:lpwstr>
  </property>
  <property fmtid="{D5CDD505-2E9C-101B-9397-08002B2CF9AE}" pid="6" name="_ReviewingToolsShownOnce">
    <vt:lpwstr/>
  </property>
</Properties>
</file>