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38.wmf" ContentType="image/x-wmf"/>
  <Override PartName="/ppt/media/image8.wmf" ContentType="image/x-wmf"/>
  <Override PartName="/ppt/media/image4.jpeg" ContentType="image/jpeg"/>
  <Override PartName="/ppt/media/image10.wmf" ContentType="image/x-wmf"/>
  <Override PartName="/ppt/media/image47.wmf" ContentType="image/x-wmf"/>
  <Override PartName="/ppt/media/image2.png" ContentType="image/png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5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20.wmf" ContentType="image/x-wmf"/>
  <Override PartName="/ppt/media/image57.wmf" ContentType="image/x-wmf"/>
  <Override PartName="/ppt/media/image27.wmf" ContentType="image/x-wmf"/>
  <Override PartName="/ppt/media/image63.wmf" ContentType="image/x-wmf"/>
  <Override PartName="/ppt/media/image26.wmf" ContentType="image/x-wmf"/>
  <Override PartName="/ppt/media/image62.wmf" ContentType="image/x-wmf"/>
  <Override PartName="/ppt/media/image25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9902825" cy="6772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1CD8-B508-4148-BB06-52961A53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8345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7600" y="3868920"/>
            <a:ext cx="8345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4A5-15E7-4338-9F68-E18BABC2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760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04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F766-2350-4149-867B-497AA274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1320" y="198108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7600" y="386892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86892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1320" y="386892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7CD0-F83A-4A2E-A3C1-33362C36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8B75-F979-476F-AAE9-3B337D07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7600" y="1981080"/>
            <a:ext cx="834552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2F0E-EB27-446B-803F-EF876049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83455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F523-2DD1-43A3-83C3-023BB1E9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7E1F-A46C-4E1B-A0C5-E12CD198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8424-7AB0-47E4-A02E-89D5FF14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45800" y="-138600"/>
            <a:ext cx="7945560" cy="60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0B8F-0B75-4229-8BCC-C363E3BA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760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FEDD-D60B-4039-9E93-3DD13D53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7600" y="1981080"/>
            <a:ext cx="834552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E99D-4A9E-4836-9BC7-4111687C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04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C116-C039-40F9-B0E4-03BBD49D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7600" y="3868920"/>
            <a:ext cx="8345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E407-A2DE-4697-9042-6119C79D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8345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7600" y="3868920"/>
            <a:ext cx="8345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CCB9-C7CC-41C1-9B59-92441E7E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760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04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693A-C180-4A9F-8BB2-6DAAED9D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1320" y="198108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7600" y="386892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86892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1320" y="386892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6852-1965-4636-83D1-7409B1A2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83455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E5B2-A2E8-4219-9E18-EE4BC7FA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E9C-8871-4FA9-8112-AC1B98D4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D986-07FD-4A85-95B8-424A98F3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5800" y="-138600"/>
            <a:ext cx="7945560" cy="60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34D-EAA4-4D70-BA5B-6C5A70B1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760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ACA3-B94E-48D6-9E69-DDD857A9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04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389-C47F-4381-8039-69E8CC5A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7600" y="3868920"/>
            <a:ext cx="8345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673-C2F7-4A97-AE16-9927C38F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779400" cy="1103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7600" y="1981080"/>
            <a:ext cx="8345520" cy="3613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13400" y="6740280"/>
            <a:ext cx="9666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E891-4847-48A6-A9F7-1252B899477A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208160"/>
            <a:ext cx="8640720" cy="71280"/>
          </a:xfrm>
          <a:prstGeom prst="rect">
            <a:avLst/>
          </a:prstGeom>
          <a:gradFill rotWithShape="0">
            <a:gsLst>
              <a:gs pos="0">
                <a:srgbClr val="9aa06e"/>
              </a:gs>
              <a:gs pos="100000">
                <a:srgbClr val="17181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108000" y="260280"/>
            <a:ext cx="3884400" cy="568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00360" y="257040"/>
            <a:ext cx="4314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BF06-2AC8-4562-BBC9-C751A615AE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1280" y="6121440"/>
            <a:ext cx="126072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59280" y="401400"/>
            <a:ext cx="54352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Just what is this 3-PG?</a:t>
            </a:r>
            <a:endParaRPr b="1" lang="en-US" sz="5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637000"/>
            <a:ext cx="8569080" cy="34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00"/>
                </a:solidFill>
                <a:latin typeface="Comic Sans MS"/>
              </a:rPr>
              <a:t>Peter 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mic Sans MS"/>
              </a:rPr>
              <a:t>CSIRO FFP and CRC S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mic Sans MS"/>
              </a:rPr>
              <a:t>Hob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00"/>
                </a:solidFill>
                <a:latin typeface="Comic Sans MS"/>
              </a:rPr>
              <a:t>An 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00"/>
                </a:solidFill>
                <a:latin typeface="Comic Sans MS"/>
              </a:rPr>
              <a:t>of Landsberg &amp; Waring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00"/>
                </a:solidFill>
                <a:latin typeface="Comic Sans MS"/>
              </a:rPr>
              <a:t>model of forest pro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1760" y="6170760"/>
            <a:ext cx="474840" cy="57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79320" y="6167520"/>
            <a:ext cx="579600" cy="57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9744-7E27-44F1-BC81-D52601AFCE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7600" y="378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Main Components of 3-PG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571680" y="1614600"/>
            <a:ext cx="8001000" cy="524484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duction of bioma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environmental modification of light use efficiency; constant ratio of NPP to G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omass alloc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ffected by growing conditions and tre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m mora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probability of death; self-th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il water bala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ingle soil layer model; evapo-transpiration determined from Penman-Monteith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nd properti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rom biomass pools and assumptions about specific leaf area, branch+bark fraction, and wood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B71-7F20-41C3-A8ED-5D72B5F582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6560" y="1484280"/>
            <a:ext cx="8209080" cy="522936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5640" y="47412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3-PG growth modifier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4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environmental factor is represented by a growth modifier, i.e. a function of the factor which varies between 0 (total limitation) and 1 (no limit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2863800"/>
          <a:ext cx="7315200" cy="3733920"/>
        </p:xfrm>
        <a:graphic>
          <a:graphicData uri="http://schemas.openxmlformats.org/drawingml/2006/table">
            <a:tbl>
              <a:tblPr/>
              <a:tblGrid>
                <a:gridCol w="3352680"/>
                <a:gridCol w="1600200"/>
                <a:gridCol w="236232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if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me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por pressure defic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il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v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in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pt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te 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nd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r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1FF6-F724-4C26-A694-48A12E19E8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95280" y="752400"/>
            <a:ext cx="47530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How does </a:t>
            </a: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3-PG do?</a:t>
            </a:r>
            <a:endParaRPr b="1" lang="en-US" sz="5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924360" y="4538520"/>
            <a:ext cx="50385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a comparison of predictions of 3-PG with observed data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834A-39D4-4A81-AADE-8CF96D661B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ow does 3-PG do?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726400" cy="4493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Examples are based on sound parameterisation of 3-PG against observed data for </a:t>
            </a:r>
            <a:r>
              <a:rPr b="0" i="1" lang="en-AU" sz="2800" spc="-1" strike="noStrike">
                <a:solidFill>
                  <a:srgbClr val="000000"/>
                </a:solidFill>
                <a:latin typeface="Comic Sans MS"/>
              </a:rPr>
              <a:t>E. glob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get good predictions of LAI &amp; stem growth when stand is initialised with observed stand dat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tion of early canopy growth depends strongly on initial stand conditions but stem growth rates at a site are similar for all initial cond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Conclude that 3-PG has capability to predict stand growth sufficiently accurately for use as a management t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7A3-4EC6-4D1D-ABAE-0D4F8F4037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628640"/>
            <a:ext cx="8604000" cy="49705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ow does 3-PG do? 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(continued)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1768320"/>
            <a:ext cx="2971800" cy="17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82800" bIns="118800" anchor="t">
            <a:spAutoFit/>
          </a:bodyPr>
          <a:p>
            <a:pPr marL="264960" indent="-26496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ance of 3-PG for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 globulu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WA and SE Tasm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7400" indent="-44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d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 predi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7400" indent="-44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oor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2514600" cy="2514600"/>
          </a:xfrm>
          <a:prstGeom prst="rect">
            <a:avLst/>
          </a:prstGeom>
          <a:ln w="3240">
            <a:solidFill>
              <a:srgbClr val="003366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80880" y="1754280"/>
            <a:ext cx="5029200" cy="4722840"/>
          </a:xfrm>
          <a:prstGeom prst="rect">
            <a:avLst/>
          </a:prstGeom>
          <a:ln w="3240">
            <a:solidFill>
              <a:srgbClr val="00008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D7C5-7F05-43EA-A6A7-D3BC49488D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2920" y="1413000"/>
            <a:ext cx="8893080" cy="51847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ow does 3-PG do?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(concluded)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252360" y="1495440"/>
            <a:ext cx="871236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82800" bIns="118800" anchor="t">
            <a:spAutoFit/>
          </a:bodyPr>
          <a:p>
            <a:pPr lvl="1" marL="622440" indent="-17784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shows affects of stand initialisation on predicted stem biomass and L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778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s were initialised with (a) seedlings at planting, (b) different foliage biomass, and (c) different stem biomass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8713800" cy="309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EE6B-EB16-485B-9CFB-B9E38653EE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28680" y="688320"/>
            <a:ext cx="496404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Structure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&amp;</a:t>
            </a: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 processes in  3-PG</a:t>
            </a:r>
            <a:endParaRPr b="1" lang="en-US" sz="5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924360" y="4538520"/>
            <a:ext cx="5038560" cy="20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a diagrammatic overview of the processes in and of structure 3-PG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AE4E-35F7-4BE9-A53A-4DFC29294F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6160" y="531720"/>
            <a:ext cx="7918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Conceptual PBM of forest growth</a:t>
            </a:r>
            <a:endParaRPr b="1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10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 slide represents the majority of processes involved in forest grow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all of these are explicitly included in 3-P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ter slides in this section present causal loop diagrams that portray the structure of 3-P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 section gives more detailed on relationships on 3-P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440E-D110-4176-9984-9123EC1714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5800" y="531720"/>
            <a:ext cx="794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Conceptual PBM of forest growth</a:t>
            </a:r>
            <a:endParaRPr b="1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88840" y="1484280"/>
            <a:ext cx="7428240" cy="517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AD9-6B83-4DB7-BA2C-885BBD6F31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ausal loop diagram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2421000"/>
            <a:ext cx="8496360" cy="3711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537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3600" indent="-183600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-176040"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werful tools 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unicate 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lor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-176040"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summari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ucture, causa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luences &amp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edback loo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1598760"/>
            <a:ext cx="8280360" cy="825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’m using “causal loop diagrams” in the following slides to illustrate the structure of 3-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132000" y="2492280"/>
            <a:ext cx="5832720" cy="400212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E41E-6E8A-4B71-BAC4-589C385CDB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5800" y="531360"/>
            <a:ext cx="79455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A quick answer …</a:t>
            </a:r>
            <a:endParaRPr b="1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6720" y="1812600"/>
            <a:ext cx="8352000" cy="4609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-PG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ee growth model based 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hysiological Principles that Predict Grow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idges gap between mensuration-based growth &amp; yield models and process-based, C-balance models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vides fully dynamic predictions of biomass pools, stand attributes, stocking and soil water u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intains an admirable level of simplic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pplicable under changing conditions, “at the edges”,  and to novel sit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5724360" y="117360"/>
            <a:ext cx="3240360" cy="2664000"/>
          </a:xfrm>
          <a:prstGeom prst="cloudCallout">
            <a:avLst>
              <a:gd name="adj1" fmla="val -60486"/>
              <a:gd name="adj2" fmla="val 44694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5867280" y="503280"/>
            <a:ext cx="3048120" cy="170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8BE-D6FC-4125-A74B-DF37054669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3068280"/>
            <a:ext cx="5976720" cy="4056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ld English Text MT"/>
              </a:rPr>
              <a:t>“</a:t>
            </a:r>
            <a:r>
              <a:rPr b="1" lang="en-AU" sz="2400" spc="-1" strike="noStrike">
                <a:solidFill>
                  <a:srgbClr val="000000"/>
                </a:solidFill>
                <a:latin typeface="Old English Text MT"/>
              </a:rPr>
              <a:t>Listen mate, I didn’t make these rules, I’m just telling you what He said … 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1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1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1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1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1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45800" y="554400"/>
            <a:ext cx="794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Conceptual PBM… </a:t>
            </a: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(continued)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521400" y="1413000"/>
            <a:ext cx="2298600" cy="5087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274920" y="3959280"/>
            <a:ext cx="2808360" cy="2782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42800" y="4005360"/>
            <a:ext cx="2687760" cy="2651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8360" y="1504800"/>
            <a:ext cx="6335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McMurtrie &amp; Wolf (1983)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7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is a common basis for many implementations of the conceptu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7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3-PG follows in their m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1038-F844-4F32-8F5D-2A1298C4BB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08000" y="1341360"/>
            <a:ext cx="8964720" cy="540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tocking and mortality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34552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the full picture – except for some internal details, and stand properties, e.g. H &amp; 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D35A-E1AC-4329-B986-FC122AD34E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08000" y="1341360"/>
            <a:ext cx="8964720" cy="5400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3-PG as a carbon flow model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34552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-PG is essentially a McMurtrie &amp; Wolf (1983) carbon balance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2060640"/>
            <a:ext cx="316872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diation is intercepted by the canop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verted to assimilat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ocated to foliage, stem &amp; roots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st to respiration, litterfall &amp; root turn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82C9-8021-40B3-8757-D4CC98031D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08000" y="1341360"/>
            <a:ext cx="8964720" cy="5400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ssimilation &amp; alloca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34552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imilation &amp; allocation are based on simple, well established principles and soun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2060640"/>
            <a:ext cx="334836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712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diation interception via Beer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similation via light use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ple foliage, stem &amp; root allocation rat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liage:stem allocation depends on tree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0DBC-41D7-4086-90CB-BDA095557B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08000" y="1341360"/>
            <a:ext cx="8964720" cy="5400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ite &amp; environmental effect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34552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te &amp; environmental factors affect growth (and water use) via simple empirical modifi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5724360" y="2060640"/>
            <a:ext cx="33483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712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mperature affects only 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PD and soil water affect LUE and root al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te fertility affects root allocation and maybe 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2DE-D5BF-4216-BF35-C1C2E1D69D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08000" y="1341360"/>
            <a:ext cx="8964720" cy="54007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oil water balance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34552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il water balance via simple single layer model with transpiration determined using a Penman-Montieth equ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5724360" y="2060640"/>
            <a:ext cx="334836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712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nopy conductance scaled for canopy L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affected by VPD and soil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T driven by rad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edback from soil water status into growth modif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3630-06DB-4CAB-9DE5-8DB231CC75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08000" y="1341360"/>
            <a:ext cx="8964720" cy="54007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tocking and mortality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34552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cking an essential component of 3-PG as it affects allocation through stand-mean DB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5724360" y="2060640"/>
            <a:ext cx="3240360" cy="19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712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rtality model very simple-mi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bability of death age &amp; (potentially) stress re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nsity dependent mortality implemented via self-thinning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E54-A257-4FA3-8786-F0852A02DB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28680" y="904680"/>
            <a:ext cx="49640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3-PG in more detail</a:t>
            </a:r>
            <a:endParaRPr b="1" lang="en-US" sz="5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211640" y="3715920"/>
            <a:ext cx="468144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a detailed,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process-by-process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look at 3-PG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0F46-7152-4E3D-9669-8B118FDB6F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0880" y="1557360"/>
            <a:ext cx="8305920" cy="5072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Light intercep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7240" y="1699920"/>
            <a:ext cx="5754600" cy="371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is absorbed as it passes through canop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cepted radiation varies with LAI via Beer’s law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I determined by SLA and foliage biom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095880" y="1711440"/>
            <a:ext cx="1989360" cy="2438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619280" y="3757680"/>
            <a:ext cx="2590920" cy="534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5943600" y="4343400"/>
            <a:ext cx="2438280" cy="220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185" name=""/>
          <p:cNvGrpSpPr/>
          <p:nvPr/>
        </p:nvGrpSpPr>
        <p:grpSpPr>
          <a:xfrm>
            <a:off x="1143000" y="5516640"/>
            <a:ext cx="4572000" cy="825480"/>
            <a:chOff x="1143000" y="5516640"/>
            <a:chExt cx="4572000" cy="825480"/>
          </a:xfrm>
        </p:grpSpPr>
        <p:sp>
          <p:nvSpPr>
            <p:cNvPr id="186" name=""/>
            <p:cNvSpPr/>
            <p:nvPr/>
          </p:nvSpPr>
          <p:spPr>
            <a:xfrm>
              <a:off x="1143000" y="5516640"/>
              <a:ext cx="411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990000"/>
                  </a:solidFill>
                  <a:latin typeface="Comic Sans MS"/>
                </a:rPr>
                <a:t>Note diminishing returns from high leaf area ind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05520" y="56390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00"/>
                  </a:solidFill>
                  <a:latin typeface="Wingdings"/>
                  <a:ea typeface="Wingdings"/>
                </a:rPr>
                <a:t>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1134-4582-4964-B075-919DBB10D4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5640" y="493200"/>
            <a:ext cx="745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Production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&amp;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solar radia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5257800" cy="4694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tion show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ve-ground and gross production linearly related to intercepted radi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ope of these relationships is a measure of light use efficiency (LU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ily canopy-level LUE varies season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nual stand-level LUE s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This finding is the basis for many simple growth mod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729400" y="1160640"/>
            <a:ext cx="3090600" cy="55814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64DE-1DF3-406E-A412-E1807DFA30B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5800" y="547200"/>
            <a:ext cx="79455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Comparison with empirical model</a:t>
            </a:r>
            <a:endParaRPr b="1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787400"/>
            <a:ext cx="8640720" cy="46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d on wide range of cond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pplicable under changing condition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 the edges”, to novel sit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vides explanation, aids understan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0520" indent="-29052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t as widely understood as empirical growth mod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t necessarily as accurate, ei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n require data not readily avai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6156360" y="1557360"/>
            <a:ext cx="2914560" cy="2448000"/>
          </a:xfrm>
          <a:prstGeom prst="cloudCallout">
            <a:avLst>
              <a:gd name="adj1" fmla="val -53212"/>
              <a:gd name="adj2" fmla="val -66601"/>
            </a:avLst>
          </a:prstGeom>
          <a:solidFill>
            <a:srgbClr val="008000">
              <a:alpha val="2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516720" y="1822320"/>
            <a:ext cx="2184480" cy="167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E93-EADD-42AB-BF9F-3AAA9500E6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7634160" cy="4204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5840" indent="-285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ght use efficiency (LUE) a powerful, simplifying concep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-181800"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nual stand-level LUE quite s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-181800"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pecies-specif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-181800"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ries with climatic and s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acto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rough use of simpl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-181800"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rly use of this concept b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tzpatrick &amp; Nix (1970) i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nd by Monteith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97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Light use efficiency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3068640"/>
            <a:ext cx="79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932360" y="3068640"/>
            <a:ext cx="3887280" cy="3526920"/>
            <a:chOff x="4932360" y="3068640"/>
            <a:chExt cx="3887280" cy="3526920"/>
          </a:xfrm>
        </p:grpSpPr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4932360" y="3068640"/>
              <a:ext cx="3887280" cy="3526920"/>
            </a:xfrm>
            <a:prstGeom prst="rect">
              <a:avLst/>
            </a:prstGeom>
            <a:ln w="9360">
              <a:solidFill>
                <a:srgbClr val="000080"/>
              </a:solidFill>
              <a:miter/>
            </a:ln>
          </p:spPr>
        </p:pic>
        <p:grpSp>
          <p:nvGrpSpPr>
            <p:cNvPr id="196" name=""/>
            <p:cNvGrpSpPr/>
            <p:nvPr/>
          </p:nvGrpSpPr>
          <p:grpSpPr>
            <a:xfrm>
              <a:off x="5647320" y="3297960"/>
              <a:ext cx="2496960" cy="516600"/>
              <a:chOff x="5647320" y="3297960"/>
              <a:chExt cx="2496960" cy="516600"/>
            </a:xfrm>
          </p:grpSpPr>
          <p:sp>
            <p:nvSpPr>
              <p:cNvPr id="197" name=""/>
              <p:cNvSpPr/>
              <p:nvPr/>
            </p:nvSpPr>
            <p:spPr>
              <a:xfrm>
                <a:off x="7154640" y="3297960"/>
                <a:ext cx="951120" cy="47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 Unicode MS"/>
                  </a:rPr>
                  <a:t>= 0.43 g MJ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 Unicode MS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 Unicode MS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 Unicode MS"/>
                  </a:rPr>
                  <a:t>= 0.43 g MJ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 Unicode MS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 Unicode MS"/>
                  </a:rPr>
                  <a:t>= 0.43 g MJ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 Unicode MS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47320" y="3297960"/>
                <a:ext cx="2496960" cy="516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4C1A-40EE-4FA8-8F20-B6F0CD65B9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Gross primary produc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5689440" cy="5133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of LUE a key simplification in 3-P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-181080">
              <a:lnSpc>
                <a:spcPct val="11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lso known as “canopy quantum efficiency” denoted by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-181080">
              <a:lnSpc>
                <a:spcPct val="11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PP proportional to intercepted radia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-181080">
              <a:lnSpc>
                <a:spcPct val="11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site &amp; climatic cond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710320" y="1700280"/>
            <a:ext cx="3109680" cy="4616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042920" y="4367160"/>
            <a:ext cx="2521080" cy="5018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1042920" y="5877000"/>
            <a:ext cx="3070440" cy="38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FCB-5857-45AB-BD97-ACDB78FE076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Net primary produc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1704960"/>
            <a:ext cx="8315280" cy="455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-PG assumes constant fractio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0.47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of GPP is lost as construction &amp; maintenance respi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t primary production is th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probably varies seasonally with tempera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this would be an issue for a daily version of 3-P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42920" y="4280040"/>
            <a:ext cx="3629160" cy="51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7F6-CA23-4546-9175-BD09B9E553F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66560" y="1484280"/>
            <a:ext cx="8209080" cy="522936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5640" y="47412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3-PG growth modifier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4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environmental factor is represented by a growth modifier, i.e. a function of the factor which varies between 0 (total limitation) and 1 (no limit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14400" y="2863800"/>
          <a:ext cx="7315200" cy="3733920"/>
        </p:xfrm>
        <a:graphic>
          <a:graphicData uri="http://schemas.openxmlformats.org/drawingml/2006/table">
            <a:tbl>
              <a:tblPr/>
              <a:tblGrid>
                <a:gridCol w="3352680"/>
                <a:gridCol w="1600200"/>
                <a:gridCol w="236232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if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me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por pressure defic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il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v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in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pt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te 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nd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r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B039-D835-4E41-AFCE-AE371BEE94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6560" y="1916280"/>
            <a:ext cx="8353440" cy="396072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7600" y="474120"/>
            <a:ext cx="6477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ffects on produc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18194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modifiers affect canopy prod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17680" y="2527200"/>
            <a:ext cx="4508640" cy="4701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33520" y="3321000"/>
            <a:ext cx="814212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maximum canopy quantum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3-PG the combination of modifier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d 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hysMod 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174840" y="4687920"/>
            <a:ext cx="2768760" cy="469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33520" y="5276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 affects canopy conduc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4C2-3198-47DD-B921-6BA1D026C01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4000" y="1484280"/>
            <a:ext cx="8353440" cy="439272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23920" y="-116280"/>
            <a:ext cx="76960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emperature growth modifier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294160" y="2789280"/>
            <a:ext cx="3630600" cy="3664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31003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03200" y="1700280"/>
            <a:ext cx="6761160" cy="1187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95280" y="3284640"/>
            <a:ext cx="4897440" cy="33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 monthly daily te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inimum temp. for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ptimum temp. for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ximum temp. for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BC0-2411-4A30-9D5D-B84CCBE4531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66560" y="1628640"/>
            <a:ext cx="8353440" cy="439272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87280" y="493200"/>
            <a:ext cx="609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rost growth modifier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31003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4200" y="3284640"/>
            <a:ext cx="4249440" cy="27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frosty days i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days of production lost for each day of fr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33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4194000" cy="514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316480" y="2843280"/>
            <a:ext cx="3576600" cy="3610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BEBA-75C5-4D8E-B1B9-CD7C121785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6560" y="1916280"/>
            <a:ext cx="8353440" cy="439236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-116280"/>
            <a:ext cx="69343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oil-water growth modifier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1003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2637000"/>
            <a:ext cx="4647960" cy="37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ent available soil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um available soil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ve wate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efic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50% re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wer determining shape of soil water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33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47720" y="1498680"/>
            <a:ext cx="4292640" cy="10666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286240" y="2739960"/>
            <a:ext cx="3678480" cy="37134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ED86-06A2-4CCF-B006-CE5B6D6706F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66560" y="1484280"/>
            <a:ext cx="8353440" cy="439272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474120"/>
            <a:ext cx="7089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PD growth modifier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31003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3357720"/>
            <a:ext cx="464832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ent V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ength of VPD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33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830160" y="1841400"/>
            <a:ext cx="2527560" cy="596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151600" y="2604960"/>
            <a:ext cx="3741480" cy="37767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9D6-4377-4486-A0C1-F9724E443AB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280" y="1700280"/>
            <a:ext cx="8353440" cy="468144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30400" y="493200"/>
            <a:ext cx="7905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ge-related growth modifier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31003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2852640"/>
            <a:ext cx="4572000" cy="37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ent stand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kely max. stand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ve stand age for 50% growth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wer determining strength of growth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33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826920" y="1631880"/>
            <a:ext cx="3581640" cy="10540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4932360" y="2922480"/>
            <a:ext cx="3960720" cy="35686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F9B-CF3B-4871-A0F7-104E1E49CB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5800" y="492840"/>
            <a:ext cx="79455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orest management &amp; 3-PG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687680"/>
            <a:ext cx="8424720" cy="442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-PG applied worldwide to many species and wide range of forest typ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urrently more widely used for spatial predictions than for plot-level manag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0520" indent="-29052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-PG is default choice PBM for “day-by-day” plantation management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.g. Aracruz (Brazil) and a South African consortium implementing 3-PG for routine forest manag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42B1-03A5-404C-8B97-E450299E7C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24000" y="1628640"/>
            <a:ext cx="8496000" cy="504036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-116280"/>
            <a:ext cx="5181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Biomass Partitioning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1557360"/>
            <a:ext cx="820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PP is partitioned into biomass pools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D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359160" y="5302080"/>
            <a:ext cx="2425680" cy="12956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914400" y="2133720"/>
            <a:ext cx="73152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iag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ove-ground woody tissu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ot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1680" y="3421080"/>
            <a:ext cx="817704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tioning r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 on site &amp; growth conditions, and stand DBH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tter-f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root-turno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 taken into account. Th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15F-9F41-4D2B-BEF4-65F4B079AB6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87280" y="1413000"/>
            <a:ext cx="8569440" cy="1042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118800" bIns="118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simple-minded approach reproduces well-established responses to site cond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5219640" y="2720880"/>
            <a:ext cx="3745080" cy="3109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9040" indent="-231840">
              <a:lnSpc>
                <a:spcPct val="110000"/>
              </a:lnSpc>
              <a:spcBef>
                <a:spcPts val="788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oot allocation determined by fertility &amp;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10000"/>
              </a:lnSpc>
              <a:spcBef>
                <a:spcPts val="788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oor conditions favour below-ground 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10000"/>
              </a:lnSpc>
              <a:spcBef>
                <a:spcPts val="788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liage:stem allocation determined by tree siz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10000"/>
              </a:lnSpc>
              <a:spcBef>
                <a:spcPts val="788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rge trees have more allocation to stem w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llocation in 3-PG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396720" y="2421000"/>
            <a:ext cx="5254920" cy="29192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08000" y="5734080"/>
            <a:ext cx="8964720" cy="1099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02600"/>
                </a:solidFill>
                <a:latin typeface="Comic Sans MS"/>
              </a:rPr>
              <a:t>Dynamic changes in allocation typically observed in thinning or pruning responses are not reproduced because allocation depends on tre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7F5D-D9D3-4668-AE39-EA825CDCBBB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1628640"/>
            <a:ext cx="8496000" cy="496908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90520" y="493200"/>
            <a:ext cx="5181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oot alloca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147492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t allocation affected by growth conditions throug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by soil fertility throug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3645000"/>
            <a:ext cx="4319640" cy="30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= 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-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or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tim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596880" y="2421000"/>
            <a:ext cx="3759120" cy="977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4859280" y="2941560"/>
            <a:ext cx="3960720" cy="35784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518E-FB41-43B7-AD42-693B21B9F3A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50920" y="1628640"/>
            <a:ext cx="8640720" cy="475308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6920" y="474120"/>
            <a:ext cx="7301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oliage and stem alloca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55680" y="1527120"/>
            <a:ext cx="824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ove-ground allocation is based on foliage:stem partitioning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252960"/>
            <a:ext cx="853416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diameter at breast height determined from an allometric relationship between stem mass 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coefficients determined 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590920" y="5229360"/>
            <a:ext cx="4038480" cy="9777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2990880" y="2457360"/>
            <a:ext cx="3162240" cy="58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E12-22F5-4375-AD53-048BD61CE42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50920" y="1628640"/>
            <a:ext cx="8640720" cy="496908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52640" y="493200"/>
            <a:ext cx="7696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ree-size and alloca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1598760"/>
            <a:ext cx="858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DBH decreases foliage allocation and increases stem allocation. Graphs show response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765000" y="3241800"/>
            <a:ext cx="7623360" cy="32115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279" name=""/>
          <p:cNvSpPr/>
          <p:nvPr/>
        </p:nvSpPr>
        <p:spPr>
          <a:xfrm>
            <a:off x="1042920" y="2540160"/>
            <a:ext cx="696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= 1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0) = 0.2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CE03-5DBA-45D6-93F3-D998D99249B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50920" y="1628640"/>
            <a:ext cx="8640720" cy="496908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4080" y="493200"/>
            <a:ext cx="767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Litter-fall &amp; root-turnover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153180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tter-fall an age-dependent fraction of foliage bio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44400" y="1989000"/>
            <a:ext cx="6807240" cy="990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68360" y="3068640"/>
            <a:ext cx="489564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tter-fall rate at ag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um litter-fall r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ay be stress-rel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e 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ot-turnover constant fraction of root biomass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.015 mont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364000" y="3271680"/>
            <a:ext cx="3600720" cy="325296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4514760" y="3321000"/>
            <a:ext cx="112680" cy="214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4514760" y="3321000"/>
            <a:ext cx="112680" cy="21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97B4-D626-4197-AC98-619B0BFE599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932360" y="1557360"/>
            <a:ext cx="4032360" cy="4967280"/>
          </a:xfrm>
          <a:prstGeom prst="rect">
            <a:avLst/>
          </a:prstGeom>
          <a:solidFill>
            <a:srgbClr val="ffff99">
              <a:alpha val="51000"/>
            </a:srgbClr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he basic C-balance equation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80720" y="1609560"/>
            <a:ext cx="4678200" cy="4744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are equations for the 3-PG carbon balance submod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3240" indent="-1886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s light interception, assimilation, biomass allocation &amp; mort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3240" indent="-1886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termined from site cond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3240" indent="-1886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ssibly age-dependent and/or stress-rel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148360" y="1760400"/>
            <a:ext cx="3617640" cy="441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568-4578-4D9B-98C6-B6F9A9C3A32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80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il water balance model has a single soil-lay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-2649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balance between rainfall, irrigation a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potranspi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-2649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understory or bare so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-2649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cess over maximum stora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t as runoff or drain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-2649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opy interception a % o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infall and depends on LA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 to a maxim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1045800" y="47412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ater balance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005440" y="2637000"/>
            <a:ext cx="3887640" cy="38811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68360" y="3211560"/>
            <a:ext cx="3994200" cy="50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AFC-F8A4-4054-8E87-12B9674BE8D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50560" y="1839600"/>
            <a:ext cx="8569080" cy="445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potranspiration determined from a Penman-Monteith equation and canopy conduct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1045800" y="47412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ater balance…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(continued)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208400" y="2997360"/>
            <a:ext cx="4827600" cy="3144600"/>
            <a:chOff x="4208400" y="2997360"/>
            <a:chExt cx="4827600" cy="3144600"/>
          </a:xfrm>
        </p:grpSpPr>
        <p:sp>
          <p:nvSpPr>
            <p:cNvPr id="299" name=""/>
            <p:cNvSpPr/>
            <p:nvPr/>
          </p:nvSpPr>
          <p:spPr>
            <a:xfrm>
              <a:off x="4208400" y="2998800"/>
              <a:ext cx="4825800" cy="313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0" name="" descr=""/>
            <p:cNvPicPr/>
            <p:nvPr/>
          </p:nvPicPr>
          <p:blipFill>
            <a:blip r:embed="rId2">
              <a:alphaModFix amt="50000"/>
            </a:blip>
            <a:stretch/>
          </p:blipFill>
          <p:spPr>
            <a:xfrm>
              <a:off x="4211640" y="2997360"/>
              <a:ext cx="4824360" cy="31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"/>
          <p:cNvSpPr/>
          <p:nvPr/>
        </p:nvSpPr>
        <p:spPr>
          <a:xfrm>
            <a:off x="179280" y="2933640"/>
            <a:ext cx="410544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27144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iven by incident so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271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iven by LAI throug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opy conduc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271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uctance affected by sit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vironmental factors through growth mod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545-6504-478C-9563-E4948028E91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68360" y="1628640"/>
            <a:ext cx="8423280" cy="46800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515960"/>
            <a:ext cx="8283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undary layer conductance is constant (0.2 m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opy conductance affected by VPD, soil water and stand age throug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nd increases with canopy L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3860640"/>
            <a:ext cx="381636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in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V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51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um canop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uc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51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I at maximu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uc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4360" y="3197160"/>
            <a:ext cx="4076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x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in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/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g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932360" y="3208320"/>
            <a:ext cx="3816360" cy="33386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5800" y="472680"/>
            <a:ext cx="794556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ater balance…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(concluded) 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D41-8287-43B4-A42F-EA26A7CFADE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5800" y="492840"/>
            <a:ext cx="79455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hy 3-PG?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5220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t necessarily best model for intended u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0520" indent="-290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oice of 3-PG is based on percep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PG is an inherently simple distillation of sound physiological and observational knowled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eely available </a:t>
            </a:r>
            <a:r>
              <a:rPr b="0" lang="en-GB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ots of expo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PG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J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good implementation &amp; documen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pen lines of commun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0520" indent="-29052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tential problems with further adaptation of 3-PG for mana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sired generalisations to go against current strong points – e.g. simplic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lance when simple models married to comple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E97-B53F-4909-848E-4835912D7C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tem mortality in 3-PG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429920"/>
            <a:ext cx="8686800" cy="2435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82800" bIns="118800" anchor="t">
            <a:normAutofit/>
          </a:bodyPr>
          <a:p>
            <a:pPr marL="289080" indent="-289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-PG includes density independent mortality through probability of deat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3480" indent="-183960">
              <a:lnSpc>
                <a:spcPct val="13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tentially age and stress rel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m mortality in 3-PG is based on the self-thinning la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3480" indent="-183960">
              <a:lnSpc>
                <a:spcPct val="11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iven by stocking via single-tree stem ma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731960" y="3902040"/>
            <a:ext cx="5648400" cy="27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C62-0D6C-49DA-AD83-7D579412BE4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Modelling mortality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0760" y="1628280"/>
            <a:ext cx="7778520" cy="5205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82800" bIns="118800" anchor="t">
            <a:normAutofit/>
          </a:bodyPr>
          <a:p>
            <a:pPr marL="264960" indent="-2649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types of mortalit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6532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nsity independ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6532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nsity dependent or self thin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0">
              <a:spcBef>
                <a:spcPts val="901"/>
              </a:spcBef>
              <a:buNone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-2649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nsity-independent morta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6532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e to random or stress-related eff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6532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led by probability of dea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 th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653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creased in times of stress, e.g. in response to low long-term avera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311-0162-4227-ACCE-94F3A016AEA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elf thinning mortality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560" y="1765440"/>
            <a:ext cx="4321080" cy="5005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82800" bIns="118800" anchor="t">
            <a:normAutofit fontScale="99000"/>
          </a:bodyPr>
          <a:p>
            <a:pPr marL="262080" indent="-262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f thinning-line gives maximum single-tree stem mass (kg/tree) at current stoc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8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x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000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2080" indent="0">
              <a:spcBef>
                <a:spcPts val="901"/>
              </a:spcBef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x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max. stem mass at 1000 trees h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2080" indent="-262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tocking is reduced. Th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8840" indent="-2624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1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mort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8840" indent="-2624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2: mortality redu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8840" indent="0">
              <a:buNone/>
              <a:tabLst>
                <a:tab algn="l" pos="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pulation to 2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4643280" y="2138400"/>
            <a:ext cx="4248360" cy="35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63E-3F2F-4FC3-A166-C952A7D50C9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alculation of stem volume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17600" y="1665000"/>
            <a:ext cx="8345520" cy="4984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Stem volume calculated either fro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llometric relationship w.r.t stand DB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or from density us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= (1 -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is fraction of stem biomass in branch and bark and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is stem den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Note that 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can vary widely across a site and calulcation of stem volume from 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can be error pro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045-003A-48B6-9AA2-F0D8E13B802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inal comment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74480" y="1773000"/>
            <a:ext cx="8345160" cy="442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areas I have not covered in detail, e.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ails of Penman-Monteith equ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infall interception by canop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ttempt to account for partial canopies (which does not work wel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the above gives a good coverage of the basics of 3-P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e a separate PowerPoint file for a discussion of assigning species-specific paramet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BE26-DE24-4D31-A695-D07A5F56F82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1557360"/>
            <a:ext cx="8640720" cy="51116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-135360"/>
            <a:ext cx="77770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Management system structure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5600" y="1453680"/>
            <a:ext cx="8294400" cy="825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ular structure for both management system and 3-PG highly desir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395280" y="2575080"/>
            <a:ext cx="8353440" cy="4022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765600" y="2224080"/>
            <a:ext cx="52704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3880" indent="-174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ly delineates roles of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174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olates biology from support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174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ids development and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174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 components betwee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716-2C99-4730-8936-FF69F26C10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A quick summary of 3-PG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1459080"/>
          <a:ext cx="8567640" cy="5283000"/>
        </p:xfrm>
        <a:graphic>
          <a:graphicData uri="http://schemas.openxmlformats.org/drawingml/2006/table">
            <a:tbl>
              <a:tblPr/>
              <a:tblGrid>
                <a:gridCol w="1726920"/>
                <a:gridCol w="6840720"/>
              </a:tblGrid>
              <a:tr h="502560">
                <a:tc>
                  <a:txBody>
                    <a:bodyPr lIns="75600" rIns="756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0" marR="75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0" marR="75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83920"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  <a:ea typeface="Times New Roman"/>
                        </a:rPr>
                        <a:t>Model type</a:t>
                      </a: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namic; process-based &amp; empirical relationsh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85280"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Time fr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90200"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P, biomass allocation, water usage &amp; soil water balance, stem mortality, litterfall &amp; root turno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85280"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climate data, soil texture &amp; water capacity, fert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812160"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Out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mass pools, stocking, available soil water, NPP &amp; ET, DBH &amp; standard stand attributes, an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811800"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treng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y dynamic, can be adapted for range of species, provides management-related outpu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811800"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Weakn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ïve treatment of soil nutrition, allocation based largely on size, poor predictor of canopy development &amp; of mort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0084-07AF-4515-8964-B61610756B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51280" y="2128320"/>
            <a:ext cx="5184720" cy="353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tIns="82800" bIns="118800" anchor="t">
            <a:normAutofit/>
          </a:bodyPr>
          <a:p>
            <a:pPr marL="262080" indent="-262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a quality and quantity that is readily obtained by the forest manag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12880" indent="-276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n monthly weather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12880" indent="-276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y basic physical sit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il fact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12880" indent="-276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(naïve?) ranking of site ferti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08000" y="1557360"/>
            <a:ext cx="3887640" cy="4751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20320" y="495000"/>
            <a:ext cx="74120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Input data for 3-PG is …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11430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26920" y="2565360"/>
            <a:ext cx="24004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3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Rockwell"/>
              </a:rPr>
              <a:t>It's not really like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Rockwell"/>
              <a:ea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Rockwell"/>
              </a:rPr>
              <a:t>this at all!!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Rockwell"/>
              <a:ea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566-1F86-47F6-A267-A096F46EDF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5800" y="410400"/>
            <a:ext cx="794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omic Sans MS"/>
              </a:rPr>
              <a:t>Input data 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(continued)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7240" y="1490400"/>
            <a:ext cx="8186760" cy="5528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te d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thly mean temperature, radiation, rainfall, VP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ed or long-term average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te &amp; soil descript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titu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il texture &amp; water capac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ertility rat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UT also need stand initialisation d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liage, stem &amp; root biom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oc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vailable soil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093080" y="2475000"/>
            <a:ext cx="1498320" cy="1385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680160" y="4508640"/>
            <a:ext cx="1995480" cy="2205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595840" y="3213000"/>
            <a:ext cx="1136880" cy="150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25F1-CBD3-4BF6-A8E8-ADEE1A3F0B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9T23:30:49Z</dcterms:created>
  <dc:creator>Peter Sands</dc:creator>
  <dc:description/>
  <dc:language>en-US</dc:language>
  <cp:lastModifiedBy>Horacio</cp:lastModifiedBy>
  <dcterms:modified xsi:type="dcterms:W3CDTF">2008-04-28T13:22:19Z</dcterms:modified>
  <cp:revision>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78550679</vt:r8>
  </property>
  <property fmtid="{D5CDD505-2E9C-101B-9397-08002B2CF9AE}" pid="3" name="_AuthorEmail">
    <vt:lpwstr>Peter.Sands@csiro.au</vt:lpwstr>
  </property>
  <property fmtid="{D5CDD505-2E9C-101B-9397-08002B2CF9AE}" pid="4" name="_AuthorEmailDisplayName">
    <vt:lpwstr>Sands, Peter (FFP, Hobart)</vt:lpwstr>
  </property>
  <property fmtid="{D5CDD505-2E9C-101B-9397-08002B2CF9AE}" pid="5" name="_EmailSubject">
    <vt:lpwstr>Material for 3-PG website</vt:lpwstr>
  </property>
  <property fmtid="{D5CDD505-2E9C-101B-9397-08002B2CF9AE}" pid="6" name="_ReviewingToolsShownOnce">
    <vt:lpwstr/>
  </property>
</Properties>
</file>