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471-842C-4D68-93CD-CE91E1FE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D42-9195-42A2-8A74-653E1633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1FE-E88B-4125-A528-BD53659C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076-2967-48DC-9331-CFABD6DA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B1D-7A1E-4723-A9D2-A22A442A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F25-21B3-4A1B-B0C3-539F66A9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139-B3E6-4D41-B9ED-E88769E4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B19-1AEF-4252-8D48-2F3E7BBC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5B7-B3A2-4F06-B3F1-30F0A007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C40-4B8A-4081-B22B-43B553A2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FA1-533D-4A94-8986-644740C7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553-4E27-4A2B-A092-9A2A0460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44A50B-692F-4247-A57E-6BB146208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blación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5400" y="152280"/>
            <a:ext cx="55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 árboles de la especie Eucaliptus (z= d</a:t>
            </a:r>
            <a:r>
              <a:rPr b="1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66680" y="733320"/>
          <a:ext cx="6934320" cy="58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33320"/>
                    <a:ext cx="6934320" cy="58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869-AA60-4CB5-BCFC-53535881B7D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760" y="0"/>
            <a:ext cx="2361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228600"/>
          <a:ext cx="731520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73152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629400" y="2362320"/>
          <a:ext cx="2003400" cy="3047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362320"/>
                    <a:ext cx="2003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09520" y="4267080"/>
            <a:ext cx="61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omparación de estimación PPS y PPP con estimadores 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9960" y="4648320"/>
          <a:ext cx="4324320" cy="2286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960" y="4648320"/>
                    <a:ext cx="4324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114800" y="5486400"/>
                <a:ext cx="48769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imadore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PP</m:t>
                    </m:r>
                    <m:r>
                      <m:t xml:space="preserve">: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114800" y="6095880"/>
                <a:ext cx="48769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imadore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PS</m:t>
                    </m:r>
                    <m:r>
                      <m:t xml:space="preserve">: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398640" y="1766880"/>
            <a:ext cx="253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Qué pasaría si n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= 20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35840" y="468936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15160" y="4689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59840" y="10429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305-DCD6-462D-8ACD-3A199D710C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51240" y="3200400"/>
            <a:ext cx="417816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ción con Probabilidad Variable (P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74880"/>
            <a:ext cx="883908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cada individuo (i) se asigna un valor z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: variable auxili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 = Suma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dimiento de un paso (Lista Acumulada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gener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.A.   entre 1-Z : Seleccionado individuo i tal que 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c,i-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 R(1-Z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c,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7680" y="4232160"/>
            <a:ext cx="80928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dimiento de dos pasos (sin lista acumulada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genera par de N.A: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-N) y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-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 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cualquier valor  mayor o igual al valor z más grande en la pobla (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viduo i=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seleccionado si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&gt; 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se produce un nuevo par, et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3276720"/>
            <a:ext cx="474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A-B)=A+int[r(0-1)*(B-A+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B37-DCB5-40E9-AAB6-8B606C867E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lección PPS - 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5200" y="80316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elección 1: Lista acumulada. Z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7880" y="1219320"/>
            <a:ext cx="556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elección 2: Lista no acumulada. (N,Z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38680" y="12193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, 114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4880" y="838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92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000" y="2209680"/>
            <a:ext cx="192780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0-1)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0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6714   0.61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0895   0.42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2077   0.32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1370   0.73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8786   0.47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0048   0.0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6817   0.6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1507   0.8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2319   0.95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4571   0.43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35560" y="2209680"/>
            <a:ext cx="382824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. 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-Z)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1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-N)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2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-Z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6633            34         70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883              5         48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613            12         37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597              7         83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7196            44         54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7              1           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655            35         76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957              8         97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015            15       10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365            23         4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43000" y="2209680"/>
            <a:ext cx="15613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cc3300"/>
                </a:solidFill>
                <a:latin typeface="Times New Roman"/>
              </a:rPr>
              <a:t>41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057400"/>
            <a:ext cx="7391520" cy="380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4600" y="6060960"/>
            <a:ext cx="483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A-B)=A+int[r(0-1)*(B-A+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4560" y="2209680"/>
            <a:ext cx="15613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972-E7D5-4258-8736-4AC1A33BA5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mparación de métodos de selección 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382760" y="3360600"/>
                <a:ext cx="5780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4267080"/>
                <a:ext cx="15825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362320" y="5764320"/>
                <a:ext cx="3295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63600" y="685800"/>
            <a:ext cx="515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étodo de lista acumul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que i sea selecciona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867280" y="720720"/>
                <a:ext cx="144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80880" y="16351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étodo de lista no acumul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que i sea seleccionado en la primera tira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854680" y="1828800"/>
                <a:ext cx="1536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03200" y="297180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de seleccionar cualquier i en una tir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9240" y="42321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..y la de no seleccionar nigu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200" y="4724280"/>
            <a:ext cx="82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de seleccionar finalmente un i específico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752480" y="5084640"/>
                <a:ext cx="56800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∞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6EB-6062-43AA-B93F-2C5CF9A6E846}" type="slidenum">
              <a:t>4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dores 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8400" y="1143000"/>
            <a:ext cx="76010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blacion con N individuos que poseen atributos x y z.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tal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i=1,N) son conocidos, luego tambien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ne alta correlacion con el atribut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posible elaborar un procedimiento de selección z-propor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19320" y="3063960"/>
                <a:ext cx="29718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438800" y="3886200"/>
                <a:ext cx="2023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25640" y="4495680"/>
                <a:ext cx="67118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295280" y="5719680"/>
                <a:ext cx="27054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sub>
                        </m:sSub>
                      </m:num>
                      <m:den>
                        <m:r>
                          <m:t xml:space="preserve">Z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806760" y="2681280"/>
            <a:ext cx="699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imador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 En base a muestra de tamaño n, c/r, siendo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7120" y="3946680"/>
            <a:ext cx="29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nza del estim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2520" y="4403880"/>
            <a:ext cx="34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rror de Estimacion (EM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0440" y="6384960"/>
            <a:ext cx="696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PPS es mas eficiente que MAS cuan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z.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50360" y="4052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Pobl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3073320"/>
                <a:ext cx="35053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Z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76920" y="5546880"/>
                <a:ext cx="1447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196-F18F-4563-8872-34E75AFDE9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PS - Ejercic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838080"/>
          <a:ext cx="3809880" cy="33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3809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24120" y="838080"/>
            <a:ext cx="46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estreo PPS sobre Població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076800" y="1219320"/>
                <a:ext cx="30672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07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648320" y="129528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Z = 992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43600" y="2529000"/>
                <a:ext cx="1727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54680" y="3124080"/>
                <a:ext cx="3832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/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94" name=""/>
          <p:cNvGraphicFramePr/>
          <p:nvPr/>
        </p:nvGraphicFramePr>
        <p:xfrm>
          <a:off x="380880" y="4419720"/>
          <a:ext cx="4191120" cy="2151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419720"/>
                    <a:ext cx="419112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4343400"/>
                <a:ext cx="28195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num>
                      <m:den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876920" y="5257800"/>
                <a:ext cx="3809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00600" y="5943600"/>
                <a:ext cx="4267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%/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88160" y="26319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07.0 m</a:t>
            </a:r>
            <a:r>
              <a:rPr b="1" lang="es-MX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22E-0A8E-401A-981D-A08B4EE56B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uestreo PPS en F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1143000"/>
          <a:ext cx="682020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682020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584360" y="4232160"/>
            <a:ext cx="64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i se seleccionan partidas solo sobre eje x, se emplean estimadores ERM (sesg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84360" y="522288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i se seleccionan pares aleatorios (x,y), se emplean estimadores PPS (EMR) (insesg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4FB-422A-42C8-9B1E-DD32720786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762120"/>
            <a:ext cx="769608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so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: Cuando se dan las condiciones para un PPS pero los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      (i = 1,N) se conocen solo al concluir el muestre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lanificac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estima Z 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y z máximo 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establece un n deseable (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y un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tal      que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i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&lt;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, se divide la poblacion  en 2 subpob. P1: todos los i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; P2: todos i 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&gt;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(censa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uestreo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956720" y="4869000"/>
          <a:ext cx="904680" cy="144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4869000"/>
                    <a:ext cx="9046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70720" y="5877000"/>
            <a:ext cx="7551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i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-&gt; Z y 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n es grande: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=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-&gt; E[n](= Z/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Z/n y p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(Z/n) = n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 Z) (prob. P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812000" y="2492280"/>
                <a:ext cx="10112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31840" y="3089160"/>
            <a:ext cx="81565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repara lista de R(1-Z0) con al menos 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cada i se determina zi y se compara con Ri(1-Z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zi=&gt;Ri , i es seleccionado y se mide xi ; de lo contrario      solo se registra 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í se continua hasta el individu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 f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e tienen n pares (xi , zi) y N valores z , lueg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= zi/ Z0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n es aleatorio con E[n] = Z/ Z0 y V(n) » n-n2/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D7F-C6CC-4586-B8BB-BF71F12CAC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dores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08320" y="1432080"/>
            <a:ext cx="6795720" cy="1387440"/>
            <a:chOff x="508320" y="1432080"/>
            <a:chExt cx="6795720" cy="1387440"/>
          </a:xfrm>
        </p:grpSpPr>
        <p:sp>
          <p:nvSpPr>
            <p:cNvPr id="114" name=""/>
            <p:cNvSpPr/>
            <p:nvPr/>
          </p:nvSpPr>
          <p:spPr>
            <a:xfrm>
              <a:off x="508320" y="1432080"/>
              <a:ext cx="539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imadores insesgados pero ineficien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047600" y="1976400"/>
                  <a:ext cx="250524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4484520" y="1969920"/>
                  <a:ext cx="2819520" cy="84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198360" y="2971800"/>
            <a:ext cx="7727040" cy="1790640"/>
            <a:chOff x="198360" y="2971800"/>
            <a:chExt cx="7727040" cy="179064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1582560" y="3986280"/>
                  <a:ext cx="177012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4110120" y="3943440"/>
                  <a:ext cx="244296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198360" y="2971800"/>
              <a:ext cx="77270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imadores eficientes pero sesgad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Si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/Z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/(Z/n)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ntonces p(PPP)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(PPS) y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71760" y="4994280"/>
            <a:ext cx="83638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maño Muest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a variabilidad de r = x/z es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y el error maximo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: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 Conviene agregar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-n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N) a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920" y="6113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7EE-E874-49B5-A5D5-E5252189D6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6T13:18:04Z</dcterms:created>
  <dc:creator>FERNANDO  COX   Z.</dc:creator>
  <dc:description/>
  <dc:language>en-US</dc:language>
  <cp:lastModifiedBy>Fernando Cox</cp:lastModifiedBy>
  <cp:lastPrinted>1998-06-16T14:33:18Z</cp:lastPrinted>
  <dcterms:modified xsi:type="dcterms:W3CDTF">2009-10-27T09:48:46Z</dcterms:modified>
  <cp:revision>22</cp:revision>
  <dc:subject/>
  <dc:title>Selección con Probabilidad Variable</dc:title>
</cp:coreProperties>
</file>