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792-78CB-43B9-9B9B-8F8338EF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182-F094-4124-914D-8A120C17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665-5A85-4BF1-AC57-38E3E697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794-3E26-4145-AF59-67036B86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CE6-40E8-4C13-B1A0-85832C59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51F-9B16-4F95-805D-9D130E4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EF8-B993-4379-8163-DFA5A059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59E-609C-415D-B92F-175CC97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A54-125D-4E38-8662-476E6E71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21B-530F-456C-B0C2-10F9E14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DF1-C38E-4838-9657-294126C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1CB-143E-4200-BDE8-FF96EA5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BF0459-4AE9-4B97-9388-F0FAE398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blación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5400" y="152280"/>
            <a:ext cx="55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 árboles de la especie Eucaliptus (z= d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733320"/>
          <a:ext cx="6934320" cy="58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33320"/>
                    <a:ext cx="693432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4E8-7F46-4A58-AFB8-42C90543D2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760" y="0"/>
            <a:ext cx="2361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28600"/>
          <a:ext cx="731520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7315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29400" y="2362320"/>
          <a:ext cx="2003400" cy="30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362320"/>
                    <a:ext cx="2003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09520" y="4267080"/>
            <a:ext cx="61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omparación de estimación PPS y PPP con estimadores 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9960" y="4648320"/>
          <a:ext cx="4324320" cy="2286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960" y="4648320"/>
                    <a:ext cx="4324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14800" y="5486400"/>
                <a:ext cx="4876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P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114800" y="6095880"/>
                <a:ext cx="4876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imador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PS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398640" y="1766880"/>
            <a:ext cx="25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Qué pasaría si n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= 2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5840" y="468936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5160" y="4689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59840" y="10429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6E2-CF84-4FA3-ADE5-2377FAF458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51240" y="3200400"/>
            <a:ext cx="41781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ción con Probabilidad Variable (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74880"/>
            <a:ext cx="88390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cada individuo (i) se asigna un valor z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: variable aux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 = Suma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un paso (Lista Acumulada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A.   entre 1-Z : Seleccionado individuo i tal que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-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 R(1-Z)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c,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4232160"/>
            <a:ext cx="8092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 de dos pasos (sin lista acumulada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genera par de N.A: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N) y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-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cualquier valor  mayor o igual al valor z más grande en la pobla (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viduo i=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eleccionado 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gt; 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e produce un nuevo par, et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3276720"/>
            <a:ext cx="474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D3C-C6E6-4B6B-B18A-9057E267C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lección PPS - 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200" y="80316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1: Lista acumulada. Z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7880" y="1219320"/>
            <a:ext cx="556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lección 2: Lista no acumulada. (N,Z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38680" y="1219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, 114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4880" y="838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000" y="2209680"/>
            <a:ext cx="19278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0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714   0.61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895   0.42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077   0.32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370   0.73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8786   0.47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0048   0.0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6817   0.6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1507   0.8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2319   0.95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0.4571   0.43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35560" y="2209680"/>
            <a:ext cx="382824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1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N) R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2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(1-Z</a:t>
            </a:r>
            <a:r>
              <a:rPr b="1" lang="es-MX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633            34         70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83              5         4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613            12         37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597              7         83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196            44         54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7              1          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655            35         7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957              8         97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015            15       10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365            23         4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300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cc3300"/>
                </a:solidFill>
                <a:latin typeface="Times New Roman"/>
              </a:rPr>
              <a:t>41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057400"/>
            <a:ext cx="739152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4600" y="6060960"/>
            <a:ext cx="483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-B)=A+int[r(0-1)*(B-A+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560" y="2209680"/>
            <a:ext cx="1561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79F-01AA-48CE-A84B-6CC8E4C778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mparación de métodos de selección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82760" y="3360600"/>
                <a:ext cx="5780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4267080"/>
                <a:ext cx="1582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362320" y="5764320"/>
                <a:ext cx="3295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63600" y="685800"/>
            <a:ext cx="51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867280" y="72072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16351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étodo de lista no acumul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que i sea seleccionado en la primera tira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54680" y="1828800"/>
                <a:ext cx="1536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03200" y="297180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cualquier i en una ti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240" y="42321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..y la de no seleccionar nigu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200" y="4724280"/>
            <a:ext cx="82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babilidad de seleccionar finalmente un i específico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5084640"/>
                <a:ext cx="5680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B95-7B2C-4572-ABCE-65D1829FDA85}" type="slidenum">
              <a:t>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8400" y="1143000"/>
            <a:ext cx="76010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blacion con N individuos que poseen atributos x y z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i=1,N) son conocidos, luego tambien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ne alta correlacion con el atribut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posible elaborar un procedimiento de selección z-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3063960"/>
                <a:ext cx="2971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38800" y="3886200"/>
                <a:ext cx="2023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25640" y="4495680"/>
                <a:ext cx="67118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95280" y="5719680"/>
                <a:ext cx="2705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sub>
                        </m:sSub>
                      </m:num>
                      <m:den>
                        <m:r>
                          <m:t xml:space="preserve">Z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806760" y="2681280"/>
            <a:ext cx="699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imado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En base a muestra de tamaño n, c/r, siendo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120" y="394668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nza del estim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2520" y="440388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rror de Estimacion (EM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0440" y="6384960"/>
            <a:ext cx="696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PPS es mas eficiente que MAS 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z.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0360" y="4052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Pobl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3073320"/>
                <a:ext cx="35053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76920" y="5546880"/>
                <a:ext cx="1447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14F-FDE8-4653-A45C-AFE2202E9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PS - Ejerci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838080"/>
          <a:ext cx="380988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3809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24120" y="83808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estreo PPS sobre Població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76800" y="1219320"/>
                <a:ext cx="3067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07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648320" y="12952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Z = 992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43600" y="2529000"/>
                <a:ext cx="1727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4680" y="3124080"/>
                <a:ext cx="3832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380880" y="4419720"/>
          <a:ext cx="4191120" cy="215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419720"/>
                    <a:ext cx="419112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4343400"/>
                <a:ext cx="2819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876920" y="5257800"/>
                <a:ext cx="3809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5943600"/>
                <a:ext cx="4267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%/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88160" y="2631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7.0 m</a:t>
            </a:r>
            <a:r>
              <a:rPr b="1" lang="es-MX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2F2-9763-49F4-8B44-0446D208E4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estreo PPS en F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1143000"/>
          <a:ext cx="68202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8202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84360" y="4232160"/>
            <a:ext cx="64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tidas solo sobre eje x, se emplean estimadores ERM (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4360" y="522288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se seleccionan pares aleatorios (x,y), se emplean estimadores PPS (EMR) (insesg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94F-7BCB-465C-8B9E-C35216CA93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2120"/>
            <a:ext cx="769608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so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uando se dan las condiciones para un PPS pero los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      (i = 1,N) se conocen solo al concluir el muestr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ficac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ima Z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z máximo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establece un n deseable (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y un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tal      que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lt;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, se divide la poblacion  en 2 subpob. P1: todos los i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; P2: todos i 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&gt;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(cens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uestreo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956720" y="4869000"/>
          <a:ext cx="904680" cy="144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4869000"/>
                    <a:ext cx="904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70720" y="5877000"/>
            <a:ext cx="7551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i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-&gt; Z y 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 es grande: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=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-&gt; E[n](= Z/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/n y p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(Z/n) = n(z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/ Z) (prob. P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812000" y="2492280"/>
                <a:ext cx="10112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31840" y="3089160"/>
            <a:ext cx="8156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epara lista de R(1-Z0) con al menos 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cada i se determina zi y se compara con Ri(1-Z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zi=&gt;Ri , i es seleccionado y se mide xi ; de lo contrario      solo se registra 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í se continua hasta el individu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 f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tienen n pares (xi , zi) y N valores z , luego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i= zi/ Z0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n es aleatorio con E[n] = Z/ Z0 y V(n) » n-n2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494-0260-4348-9186-0760BA50CD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dores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8320" y="1432080"/>
            <a:ext cx="6795720" cy="1387440"/>
            <a:chOff x="508320" y="1432080"/>
            <a:chExt cx="6795720" cy="1387440"/>
          </a:xfrm>
        </p:grpSpPr>
        <p:sp>
          <p:nvSpPr>
            <p:cNvPr id="114" name=""/>
            <p:cNvSpPr/>
            <p:nvPr/>
          </p:nvSpPr>
          <p:spPr>
            <a:xfrm>
              <a:off x="508320" y="1432080"/>
              <a:ext cx="539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insesgados pero ineficie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047600" y="1976400"/>
                  <a:ext cx="25052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484520" y="1969920"/>
                  <a:ext cx="281952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198360" y="2971800"/>
            <a:ext cx="7727040" cy="1790640"/>
            <a:chOff x="198360" y="2971800"/>
            <a:chExt cx="7727040" cy="179064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582560" y="3986280"/>
                  <a:ext cx="177012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110120" y="3943440"/>
                  <a:ext cx="24429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198360" y="2971800"/>
              <a:ext cx="77270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imadores eficientes pero sesgad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Si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Z/n)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ntonces p(PPP)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(PPS) y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1760" y="4994280"/>
            <a:ext cx="8363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maño Muest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variabilidad de r = x/z 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y el error maxim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: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 Conviene agregar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-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N) a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920" y="611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606-384D-408D-B316-E9D8205D74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3:18:04Z</dcterms:created>
  <dc:creator>FERNANDO  COX   Z.</dc:creator>
  <dc:description/>
  <dc:language>en-US</dc:language>
  <cp:lastModifiedBy>Fernando Cox</cp:lastModifiedBy>
  <cp:lastPrinted>1998-06-16T14:33:18Z</cp:lastPrinted>
  <dcterms:modified xsi:type="dcterms:W3CDTF">2009-10-27T09:48:46Z</dcterms:modified>
  <cp:revision>22</cp:revision>
  <dc:subject/>
  <dc:title>Selección con Probabilidad Variable</dc:title>
</cp:coreProperties>
</file>