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636-3658-4577-96E3-BAE87F1C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D96-EE05-4548-A49E-AAC4B05D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B58-DC1B-43D0-80C7-5B2A45C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285-157B-496F-AB8F-5D26E7F8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329-ECDC-41DD-8F18-2271BD52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3BE-07DC-4E94-8892-BC933D4B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96F-D6C4-4B66-8E77-DBBE7070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422-F341-4474-9E8B-9B343131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48A-302B-4974-A483-3811454C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873-8F8C-47F7-9D58-9170824B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C94-2550-4985-B623-5B4D7D88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64F-FDEB-4352-B2AE-8BA1408B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4347-531A-4A6B-8205-AB215EB85C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37280" y="2205000"/>
            <a:ext cx="3006720" cy="262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11600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a ArcGIS 9.2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ime Hernández - M. Paz A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1341360"/>
            <a:ext cx="6408720" cy="1224000"/>
          </a:xfrm>
          <a:prstGeom prst="rect">
            <a:avLst/>
          </a:prstGeom>
          <a:solidFill>
            <a:srgbClr val="99cc00">
              <a:alpha val="54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ática Aplicada a Recurso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134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67640" y="0"/>
            <a:ext cx="1476360" cy="96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24039" r="45408" b="52429"/>
          <a:stretch/>
        </p:blipFill>
        <p:spPr>
          <a:xfrm>
            <a:off x="0" y="4394160"/>
            <a:ext cx="9144000" cy="246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37280" t="46206" r="17063" b="20206"/>
          <a:stretch/>
        </p:blipFill>
        <p:spPr>
          <a:xfrm>
            <a:off x="3708360" y="0"/>
            <a:ext cx="25192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GIS es un sistema de información geográfica (SIG o GIS en inglés) integrado que consta de tres partes clav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oftware ArcGI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sktop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un conjunto integrado de aplicaciones SIG avan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rcS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atewa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a interfaz para administrar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eodatabas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ase de datos geográfica) en un sistema de administración de bases de datos (DBM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oftware ArcIMS es un SIG orientado a Internet para distribuir datos y servic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3204" r="43300" b="52429"/>
          <a:stretch/>
        </p:blipFill>
        <p:spPr>
          <a:xfrm>
            <a:off x="-34920" y="0"/>
            <a:ext cx="9144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calable system of software for geographic data creation, management, integration, analysis, and dissemination for every organization, from an individual to a globally distributed network of peop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832720" cy="371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3805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384720" cy="792360"/>
          </a:xfrm>
          <a:prstGeom prst="rect">
            <a:avLst/>
          </a:prstGeom>
          <a:solidFill>
            <a:srgbClr val="008080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sktop G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541188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cGIS Desktop de ESRI tiene una estructura modular compuesta de tres aplicaciones principales: ArcMap, ArcCatalog, ArcToo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42274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oductos de ArcGIS Desktop incluyen ArcInfo®,ArcEditor™, ArcView®, ArcReader™, y extensiones ArcGIS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5717" t="40315" r="26250" b="34482"/>
          <a:stretch/>
        </p:blipFill>
        <p:spPr>
          <a:xfrm>
            <a:off x="3059280" y="1484280"/>
            <a:ext cx="5795640" cy="190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60383" t="54613" r="22825" b="14315"/>
          <a:stretch/>
        </p:blipFill>
        <p:spPr>
          <a:xfrm>
            <a:off x="468360" y="1197000"/>
            <a:ext cx="2303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2268360" cy="792360"/>
          </a:xfrm>
          <a:prstGeom prst="rect">
            <a:avLst/>
          </a:prstGeom>
          <a:solidFill>
            <a:srgbClr val="99cc00">
              <a:alpha val="5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cM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cMap, es el componente primario del software y es utilizado para todas las tareas que involucren cartografía digital en forma directa, su análisis y edición. Se utiliza para desplegar mapas y efectuar consultas sobre ellos, crear mapas imprimibles de alta calidad, desarrollar aplicaciones personalizadas, y desarrollar una gran variedad de operaciones basadas en álgebra de map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905"/>
          <a:stretch/>
        </p:blipFill>
        <p:spPr>
          <a:xfrm>
            <a:off x="6534000" y="0"/>
            <a:ext cx="2610000" cy="15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4716"/>
          <a:stretch/>
        </p:blipFill>
        <p:spPr>
          <a:xfrm>
            <a:off x="1476360" y="2781360"/>
            <a:ext cx="640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6360" y="274680"/>
            <a:ext cx="2232000" cy="706320"/>
          </a:xfrm>
          <a:prstGeom prst="rect">
            <a:avLst/>
          </a:prstGeom>
          <a:solidFill>
            <a:srgbClr val="99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cC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322"/>
          <a:stretch/>
        </p:blipFill>
        <p:spPr>
          <a:xfrm>
            <a:off x="1187280" y="2421000"/>
            <a:ext cx="7056720" cy="4043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125360"/>
            <a:ext cx="867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Calalog, se ocupa de permitir en forma simple el acceso y manejo de los archivos de datos geoespaciales. Permite poder crear nuevas coberturas, encontrar los datos que se necesitan, rápidamente visualizarlos, y crear o modificar sus metadatos (información que describen a los datos). También se puede definir la forma en que los datos se almacenan en las carpetas, discos duros, o bases de datos relacionales que pueden estar disponibles en la red (intranet o internet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Toolbox provee un ambiente de trabajo para desarrollar operaciones de geoprocesamiento. Estas operaciones se encuentran disponibles en librerías ordenadas por temas y en general cuentan con menús de ayuda (Wizards) y herramientas paso a paso para que las operaciones tanto de geoproceso como de conversión de datos sean simples de utiliz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6360" y="274680"/>
            <a:ext cx="2808000" cy="706320"/>
          </a:xfrm>
          <a:prstGeom prst="rect">
            <a:avLst/>
          </a:prstGeom>
          <a:solidFill>
            <a:srgbClr val="99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cTool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60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0" r="0" b="5375"/>
          <a:stretch/>
        </p:blipFill>
        <p:spPr>
          <a:xfrm>
            <a:off x="250920" y="2637000"/>
            <a:ext cx="5721120" cy="338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51045" t="4907" r="0" b="56993"/>
          <a:stretch/>
        </p:blipFill>
        <p:spPr>
          <a:xfrm>
            <a:off x="5413320" y="4626000"/>
            <a:ext cx="3730680" cy="223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237360"/>
            <a:ext cx="48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toolbox además permite crear nuevos modelos automatizados a partir de las herramientas existe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4560" y="1279440"/>
            <a:ext cx="388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en extensiones opcionales que pueden ser utilizadas si se cuenta con las licencias necesarias. Algunas de las más importantes s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5920"/>
            <a:ext cx="3995640" cy="1009440"/>
          </a:xfrm>
          <a:prstGeom prst="rect">
            <a:avLst/>
          </a:prstGeom>
          <a:solidFill>
            <a:srgbClr val="00808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ones de Desktop G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9920" t="15129" r="27038" b="4224"/>
          <a:stretch/>
        </p:blipFill>
        <p:spPr>
          <a:xfrm>
            <a:off x="4067280" y="0"/>
            <a:ext cx="4956120" cy="580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30973" t="15129" r="29652" b="68910"/>
          <a:stretch/>
        </p:blipFill>
        <p:spPr>
          <a:xfrm>
            <a:off x="4140360" y="5734080"/>
            <a:ext cx="460836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6:12:24Z</dcterms:created>
  <dc:creator>UNIVERSIDAD DE CHILE</dc:creator>
  <dc:description/>
  <dc:language>en-US</dc:language>
  <cp:lastModifiedBy>UNIVERSIDAD DE CHILE</cp:lastModifiedBy>
  <dcterms:modified xsi:type="dcterms:W3CDTF">2009-08-25T19:36:51Z</dcterms:modified>
  <cp:revision>12</cp:revision>
  <dc:subject/>
  <dc:title>Introducción a ArcGIS 9.2   Jaime Hernández - M. Paz Acuña</dc:title>
</cp:coreProperties>
</file>