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8529-5B32-45F3-8D38-B1BFDE42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2B1-4858-4150-8425-689694C0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944-BB44-4910-BD89-6837ED49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422F-FECF-43C7-A2E6-A27EA367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8DF1-A193-422B-B113-4205213D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7E8-14D1-4D9D-BEFF-206FE1B0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B41F-D693-494D-9298-7A51B859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2FE7-213A-4C79-99F6-B4435D7F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FBA-F09A-4424-BF29-75CEBF30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35A3-D646-4A11-A982-259945A7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7B7-1E34-493F-BEA7-59E69062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ABE-1A13-4642-9AA2-D3D3A26A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F1BA-D04B-443E-B65C-D0085332759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37280" y="2205000"/>
            <a:ext cx="3006720" cy="2621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111600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roducción a ArcGIS 9.2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aime Hernández - M. Paz Acu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360" y="1341360"/>
            <a:ext cx="6408720" cy="1224000"/>
          </a:xfrm>
          <a:prstGeom prst="rect">
            <a:avLst/>
          </a:prstGeom>
          <a:solidFill>
            <a:srgbClr val="99cc00">
              <a:alpha val="54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ática Aplicada a Recursos Na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1341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667640" y="0"/>
            <a:ext cx="1476360" cy="961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rcRect l="0" t="24039" r="45408" b="52429"/>
          <a:stretch/>
        </p:blipFill>
        <p:spPr>
          <a:xfrm>
            <a:off x="0" y="4394160"/>
            <a:ext cx="9144000" cy="2463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rcRect l="37280" t="46206" r="17063" b="20206"/>
          <a:stretch/>
        </p:blipFill>
        <p:spPr>
          <a:xfrm>
            <a:off x="3708360" y="0"/>
            <a:ext cx="251928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GIS es un sistema de información geográfica (SIG o GIS en inglés) integrado que consta de tres partes clav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oftware ArcGI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esktop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o un conjunto integrado de aplicaciones SIG avanz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rcS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ateway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una interfaz para administrar 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geodatabas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base de datos geográfica) en un sistema de administración de bases de datos (DBM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software ArcIMS es un SIG orientado a Internet para distribuir datos y servici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23204" r="43300" b="52429"/>
          <a:stretch/>
        </p:blipFill>
        <p:spPr>
          <a:xfrm>
            <a:off x="-34920" y="0"/>
            <a:ext cx="91440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calable system of software for geographic data creation, management, integration, analysis, and dissemination for every organization, from an individual to a globally distributed network of peop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5832720" cy="3711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38052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3384720" cy="792360"/>
          </a:xfrm>
          <a:prstGeom prst="rect">
            <a:avLst/>
          </a:prstGeom>
          <a:solidFill>
            <a:srgbClr val="008080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sktop G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5411880"/>
            <a:ext cx="640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rcGIS Desktop de ESRI tiene una estructura modular compuesta de tres aplicaciones principales: ArcMap, ArcCatalog, ArcTool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42274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roductos de ArcGIS Desktop incluyen ArcInfo®,ArcEditor™, ArcView®, ArcReader™, y extensiones ArcGIS Desk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25717" t="40315" r="26250" b="34482"/>
          <a:stretch/>
        </p:blipFill>
        <p:spPr>
          <a:xfrm>
            <a:off x="3059280" y="1484280"/>
            <a:ext cx="5795640" cy="1900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60383" t="54613" r="22825" b="14315"/>
          <a:stretch/>
        </p:blipFill>
        <p:spPr>
          <a:xfrm>
            <a:off x="468360" y="1197000"/>
            <a:ext cx="23032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2268360" cy="792360"/>
          </a:xfrm>
          <a:prstGeom prst="rect">
            <a:avLst/>
          </a:prstGeom>
          <a:solidFill>
            <a:srgbClr val="99cc00">
              <a:alpha val="5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cMa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cMap, es el componente primario del software y es utilizado para todas las tareas que involucren cartografía digital en forma directa, su análisis y edición. Se utiliza para desplegar mapas y efectuar consultas sobre ellos, crear mapas imprimibles de alta calidad, desarrollar aplicaciones personalizadas, y desarrollar una gran variedad de operaciones basadas en álgebra de map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0" b="905"/>
          <a:stretch/>
        </p:blipFill>
        <p:spPr>
          <a:xfrm>
            <a:off x="6534000" y="0"/>
            <a:ext cx="2610000" cy="155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0" b="4716"/>
          <a:stretch/>
        </p:blipFill>
        <p:spPr>
          <a:xfrm>
            <a:off x="1476360" y="2781360"/>
            <a:ext cx="640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36360" y="274680"/>
            <a:ext cx="2232000" cy="706320"/>
          </a:xfrm>
          <a:prstGeom prst="rect">
            <a:avLst/>
          </a:prstGeom>
          <a:solidFill>
            <a:srgbClr val="99cc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cCat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8322"/>
          <a:stretch/>
        </p:blipFill>
        <p:spPr>
          <a:xfrm>
            <a:off x="1187280" y="2421000"/>
            <a:ext cx="7056720" cy="4043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1125360"/>
            <a:ext cx="8675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rcCalalog, se ocupa de permitir en forma simple el acceso y manejo de los archivos de datos geoespaciales. Permite poder crear nuevas coberturas, encontrar los datos que se necesitan, rápidamente visualizarlos, y crear o modificar sus metadatos (información que describen a los datos). También se puede definir la forma en que los datos se almacenan en las carpetas, discos duros, o bases de datos relacionales que pueden estar disponibles en la red (intranet o internet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rcToolbox provee un ambiente de trabajo para desarrollar operaciones de geoprocesamiento. Estas operaciones se encuentran disponibles en librerías ordenadas por temas y en general cuentan con menús de ayuda (Wizards) y herramientas paso a paso para que las operaciones tanto de geoproceso como de conversión de datos sean simples de utiliz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36360" y="274680"/>
            <a:ext cx="2808000" cy="706320"/>
          </a:xfrm>
          <a:prstGeom prst="rect">
            <a:avLst/>
          </a:prstGeom>
          <a:solidFill>
            <a:srgbClr val="99cc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cTool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606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rcRect l="0" t="0" r="0" b="5375"/>
          <a:stretch/>
        </p:blipFill>
        <p:spPr>
          <a:xfrm>
            <a:off x="250920" y="2637000"/>
            <a:ext cx="5721120" cy="3382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rcRect l="51045" t="4907" r="0" b="56993"/>
          <a:stretch/>
        </p:blipFill>
        <p:spPr>
          <a:xfrm>
            <a:off x="5413320" y="4626000"/>
            <a:ext cx="3730680" cy="223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920" y="6237360"/>
            <a:ext cx="489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rctoolbox además permite crear nuevos modelos automatizados a partir de las herramientas existent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4560" y="1279440"/>
            <a:ext cx="388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sten extensiones opcionales que pueden ser utilizadas si se cuenta con las licencias necesarias. Algunas de las más importantes s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5920"/>
            <a:ext cx="3995640" cy="1009440"/>
          </a:xfrm>
          <a:prstGeom prst="rect">
            <a:avLst/>
          </a:prstGeom>
          <a:solidFill>
            <a:srgbClr val="00808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tensiones de Desktop GI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29920" t="15129" r="27038" b="4224"/>
          <a:stretch/>
        </p:blipFill>
        <p:spPr>
          <a:xfrm>
            <a:off x="4067280" y="0"/>
            <a:ext cx="4956120" cy="5805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30973" t="15129" r="29652" b="68910"/>
          <a:stretch/>
        </p:blipFill>
        <p:spPr>
          <a:xfrm>
            <a:off x="4140360" y="5734080"/>
            <a:ext cx="460836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6:12:24Z</dcterms:created>
  <dc:creator>UNIVERSIDAD DE CHILE</dc:creator>
  <dc:description/>
  <dc:language>en-US</dc:language>
  <cp:lastModifiedBy>UNIVERSIDAD DE CHILE</cp:lastModifiedBy>
  <dcterms:modified xsi:type="dcterms:W3CDTF">2009-08-25T19:36:51Z</dcterms:modified>
  <cp:revision>12</cp:revision>
  <dc:subject/>
  <dc:title>Introducción a ArcGIS 9.2   Jaime Hernández - M. Paz Acuña</dc:title>
</cp:coreProperties>
</file>