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6501"/>
            </a:gs>
            <a:gs pos="100000">
              <a:srgbClr val="1831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6501"/>
            </a:gs>
            <a:gs pos="100000">
              <a:srgbClr val="1831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304920" y="1782720"/>
            <a:ext cx="8605800" cy="16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STITUCIONALIDAD Y LEGISLACION FORESTAL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" descr=""/>
          <p:cNvPicPr/>
          <p:nvPr/>
        </p:nvPicPr>
        <p:blipFill>
          <a:blip r:embed="rId1"/>
          <a:stretch/>
        </p:blipFill>
        <p:spPr>
          <a:xfrm>
            <a:off x="7182000" y="5105520"/>
            <a:ext cx="1638000" cy="1638360"/>
          </a:xfrm>
          <a:prstGeom prst="rect">
            <a:avLst/>
          </a:prstGeom>
          <a:ln w="0">
            <a:noFill/>
          </a:ln>
        </p:spPr>
      </p:pic>
      <p:sp>
        <p:nvSpPr>
          <p:cNvPr id="40" name=""/>
          <p:cNvSpPr/>
          <p:nvPr/>
        </p:nvSpPr>
        <p:spPr>
          <a:xfrm>
            <a:off x="900000" y="4705200"/>
            <a:ext cx="698688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Times New Roman"/>
              </a:rPr>
              <a:t>MINISTERIO DE AGRICULTUR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6501"/>
            </a:gs>
            <a:gs pos="100000">
              <a:srgbClr val="1831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"/>
          <p:cNvGraphicFramePr/>
          <p:nvPr/>
        </p:nvGraphicFramePr>
        <p:xfrm>
          <a:off x="3143160" y="1009800"/>
          <a:ext cx="5124600" cy="535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43160" y="1009800"/>
                    <a:ext cx="5124600" cy="53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3464640" y="2478240"/>
            <a:ext cx="2280960" cy="51732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SUBSECRETARI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ESARROLLO FOREST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116760" y="2503440"/>
            <a:ext cx="8820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1" i="1" lang="en-US" sz="1300" spc="-1" strike="noStrike">
                <a:solidFill>
                  <a:srgbClr val="fafd00"/>
                </a:solidFill>
                <a:latin typeface="Arial"/>
              </a:rPr>
              <a:t>Polític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1" i="1" lang="en-US" sz="1300" spc="-1" strike="noStrike">
                <a:solidFill>
                  <a:srgbClr val="fafd00"/>
                </a:solidFill>
                <a:latin typeface="Arial"/>
              </a:rPr>
              <a:t>Forest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505200" y="4800600"/>
            <a:ext cx="245484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1" i="1" lang="en-US" sz="1300" spc="-1" strike="noStrike">
                <a:solidFill>
                  <a:srgbClr val="fafd00"/>
                </a:solidFill>
                <a:latin typeface="Arial"/>
              </a:rPr>
              <a:t>Administración SNASP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1" i="1" lang="en-US" sz="1300" spc="-1" strike="noStrike">
                <a:solidFill>
                  <a:srgbClr val="fafd00"/>
                </a:solidFill>
                <a:latin typeface="Arial"/>
              </a:rPr>
              <a:t>Protección (Fuego y Plagas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99720" y="4921200"/>
            <a:ext cx="817920" cy="31932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CONA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 rot="16200000">
            <a:off x="4307400" y="3281400"/>
            <a:ext cx="568440" cy="190440"/>
          </a:xfrm>
          <a:prstGeom prst="rightArrow">
            <a:avLst>
              <a:gd name="adj1" fmla="val 75000"/>
              <a:gd name="adj2" fmla="val 149257"/>
            </a:avLst>
          </a:prstGeom>
          <a:gradFill rotWithShape="0">
            <a:gsLst>
              <a:gs pos="0">
                <a:srgbClr val="ffffff"/>
              </a:gs>
              <a:gs pos="100000">
                <a:srgbClr val="a8a8a8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956600" y="3887640"/>
            <a:ext cx="753840" cy="319320"/>
          </a:xfrm>
          <a:prstGeom prst="rect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1300" spc="-1" strike="noStrike">
                <a:solidFill>
                  <a:srgbClr val="00ff00"/>
                </a:solidFill>
                <a:latin typeface="Arial"/>
              </a:rPr>
              <a:t>INFO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80880" y="3809880"/>
            <a:ext cx="148284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0600" rIns="120600" tIns="60480" bIns="60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1" i="1" lang="en-US" sz="1300" spc="-1" strike="noStrike">
                <a:solidFill>
                  <a:srgbClr val="00ff00"/>
                </a:solidFill>
                <a:latin typeface="Arial"/>
              </a:rPr>
              <a:t>Investigació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1" i="1" lang="en-US" sz="1300" spc="-1" strike="noStrike">
                <a:solidFill>
                  <a:srgbClr val="00ff00"/>
                </a:solidFill>
                <a:latin typeface="Arial"/>
              </a:rPr>
              <a:t>Forest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2913840" y="3978360"/>
            <a:ext cx="839880" cy="177840"/>
          </a:xfrm>
          <a:prstGeom prst="rightArrow">
            <a:avLst>
              <a:gd name="adj1" fmla="val 75000"/>
              <a:gd name="adj2" fmla="val 236155"/>
            </a:avLst>
          </a:prstGeom>
          <a:solidFill>
            <a:srgbClr val="00ff00"/>
          </a:solidFill>
          <a:ln w="12600">
            <a:solidFill>
              <a:srgbClr val="3165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954160" y="4919760"/>
            <a:ext cx="744840" cy="319320"/>
          </a:xfrm>
          <a:prstGeom prst="rect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1300" spc="-1" strike="noStrike">
                <a:solidFill>
                  <a:srgbClr val="00ff00"/>
                </a:solidFill>
                <a:latin typeface="Arial"/>
              </a:rPr>
              <a:t>INDAP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8920" y="4800600"/>
            <a:ext cx="20433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1" i="1" lang="en-US" sz="1300" spc="-1" strike="noStrike">
                <a:solidFill>
                  <a:srgbClr val="00ff00"/>
                </a:solidFill>
                <a:latin typeface="Arial"/>
              </a:rPr>
              <a:t>Apoyo 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1" i="1" lang="en-US" sz="1300" spc="-1" strike="noStrike">
                <a:solidFill>
                  <a:srgbClr val="00ff00"/>
                </a:solidFill>
                <a:latin typeface="Arial"/>
              </a:rPr>
              <a:t>Pequeños Productor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3276720" y="1066680"/>
            <a:ext cx="1908720" cy="690840"/>
            <a:chOff x="3276720" y="1066680"/>
            <a:chExt cx="1908720" cy="690840"/>
          </a:xfrm>
        </p:grpSpPr>
        <p:sp>
          <p:nvSpPr>
            <p:cNvPr id="103" name=""/>
            <p:cNvSpPr/>
            <p:nvPr/>
          </p:nvSpPr>
          <p:spPr>
            <a:xfrm>
              <a:off x="3485520" y="1110960"/>
              <a:ext cx="148104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080" rIns="100080" tIns="50760" bIns="50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07920"/>
                  <a:tab algn="l" pos="1816200"/>
                  <a:tab algn="l" pos="2724120"/>
                  <a:tab algn="l" pos="3632040"/>
                  <a:tab algn="l" pos="4540320"/>
                  <a:tab algn="l" pos="5448240"/>
                  <a:tab algn="l" pos="6356520"/>
                  <a:tab algn="l" pos="7264440"/>
                  <a:tab algn="l" pos="8172360"/>
                  <a:tab algn="l" pos="9080640"/>
                  <a:tab algn="l" pos="9988560"/>
                  <a:tab algn="l" pos="10896480"/>
                </a:tabLst>
              </a:pPr>
              <a:r>
                <a:rPr b="1" i="1" lang="en-US" sz="1200" spc="-1" strike="noStrike">
                  <a:solidFill>
                    <a:srgbClr val="fc0128"/>
                  </a:solidFill>
                  <a:latin typeface="Arial"/>
                </a:rPr>
                <a:t>BOSQUE NATIV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276720" y="1066680"/>
              <a:ext cx="1844640" cy="388800"/>
            </a:xfrm>
            <a:prstGeom prst="ellipse">
              <a:avLst/>
            </a:prstGeom>
            <a:noFill/>
            <a:ln w="255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389040" y="1473120"/>
              <a:ext cx="179640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080" rIns="100080" tIns="50760" bIns="50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07920"/>
                  <a:tab algn="l" pos="1816200"/>
                  <a:tab algn="l" pos="2724120"/>
                  <a:tab algn="l" pos="3632040"/>
                  <a:tab algn="l" pos="4540320"/>
                  <a:tab algn="l" pos="5448240"/>
                  <a:tab algn="l" pos="6356520"/>
                  <a:tab algn="l" pos="7264440"/>
                  <a:tab algn="l" pos="8172360"/>
                  <a:tab algn="l" pos="9080640"/>
                  <a:tab algn="l" pos="9988560"/>
                  <a:tab algn="l" pos="10896480"/>
                </a:tabLst>
              </a:pPr>
              <a:r>
                <a:rPr b="1" i="1" lang="en-US" sz="1200" spc="-1" strike="noStrike">
                  <a:solidFill>
                    <a:srgbClr val="ffffff"/>
                  </a:solidFill>
                  <a:latin typeface="Arial"/>
                </a:rPr>
                <a:t>Ley de Bosque Nativ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609480" y="2057400"/>
            <a:ext cx="2314440" cy="827280"/>
            <a:chOff x="609480" y="2057400"/>
            <a:chExt cx="2314440" cy="827280"/>
          </a:xfrm>
        </p:grpSpPr>
        <p:sp>
          <p:nvSpPr>
            <p:cNvPr id="107" name=""/>
            <p:cNvSpPr/>
            <p:nvPr/>
          </p:nvSpPr>
          <p:spPr>
            <a:xfrm>
              <a:off x="879120" y="2103480"/>
              <a:ext cx="1728000" cy="46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080" rIns="100080" tIns="50760" bIns="507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07920"/>
                  <a:tab algn="l" pos="1816200"/>
                  <a:tab algn="l" pos="2724120"/>
                  <a:tab algn="l" pos="3632040"/>
                  <a:tab algn="l" pos="4540320"/>
                  <a:tab algn="l" pos="5448240"/>
                  <a:tab algn="l" pos="6356520"/>
                  <a:tab algn="l" pos="7264440"/>
                  <a:tab algn="l" pos="8172360"/>
                  <a:tab algn="l" pos="9080640"/>
                  <a:tab algn="l" pos="9988560"/>
                  <a:tab algn="l" pos="10896480"/>
                </a:tabLst>
              </a:pPr>
              <a:r>
                <a:rPr b="1" i="1" lang="en-US" sz="1200" spc="-1" strike="noStrike">
                  <a:solidFill>
                    <a:srgbClr val="fc0128"/>
                  </a:solidFill>
                  <a:latin typeface="Arial"/>
                </a:rPr>
                <a:t>AREAS SILVESTR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07920"/>
                  <a:tab algn="l" pos="1816200"/>
                  <a:tab algn="l" pos="2724120"/>
                  <a:tab algn="l" pos="3632040"/>
                  <a:tab algn="l" pos="4540320"/>
                  <a:tab algn="l" pos="5448240"/>
                  <a:tab algn="l" pos="6356520"/>
                  <a:tab algn="l" pos="7264440"/>
                  <a:tab algn="l" pos="8172360"/>
                  <a:tab algn="l" pos="9080640"/>
                  <a:tab algn="l" pos="9988560"/>
                  <a:tab algn="l" pos="10896480"/>
                </a:tabLst>
              </a:pPr>
              <a:r>
                <a:rPr b="1" i="1" lang="en-US" sz="1200" spc="-1" strike="noStrike">
                  <a:solidFill>
                    <a:srgbClr val="fc0128"/>
                  </a:solidFill>
                  <a:latin typeface="Arial"/>
                </a:rPr>
                <a:t>PROTEGID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9480" y="2057400"/>
              <a:ext cx="2314440" cy="501480"/>
            </a:xfrm>
            <a:prstGeom prst="ellipse">
              <a:avLst/>
            </a:prstGeom>
            <a:noFill/>
            <a:ln w="255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53840" y="2600280"/>
              <a:ext cx="207972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080" rIns="100080" tIns="50760" bIns="507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07920"/>
                  <a:tab algn="l" pos="1816200"/>
                  <a:tab algn="l" pos="2724120"/>
                  <a:tab algn="l" pos="3632040"/>
                  <a:tab algn="l" pos="4540320"/>
                  <a:tab algn="l" pos="5448240"/>
                  <a:tab algn="l" pos="6356520"/>
                  <a:tab algn="l" pos="7264440"/>
                  <a:tab algn="l" pos="8172360"/>
                  <a:tab algn="l" pos="9080640"/>
                  <a:tab algn="l" pos="9988560"/>
                  <a:tab algn="l" pos="10896480"/>
                </a:tabLst>
              </a:pPr>
              <a:r>
                <a:rPr b="1" i="1" lang="en-US" sz="1200" spc="-1" strike="noStrike">
                  <a:solidFill>
                    <a:srgbClr val="ffffff"/>
                  </a:solidFill>
                  <a:latin typeface="Arial"/>
                </a:rPr>
                <a:t>Ley  SNASPE y SNASP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6324480" y="1066680"/>
            <a:ext cx="1655640" cy="733680"/>
            <a:chOff x="6324480" y="1066680"/>
            <a:chExt cx="1655640" cy="733680"/>
          </a:xfrm>
        </p:grpSpPr>
        <p:sp>
          <p:nvSpPr>
            <p:cNvPr id="111" name=""/>
            <p:cNvSpPr/>
            <p:nvPr/>
          </p:nvSpPr>
          <p:spPr>
            <a:xfrm>
              <a:off x="6464880" y="1135080"/>
              <a:ext cx="140328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080" rIns="100080" tIns="50760" bIns="50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07920"/>
                  <a:tab algn="l" pos="1816200"/>
                  <a:tab algn="l" pos="2724120"/>
                  <a:tab algn="l" pos="3632040"/>
                  <a:tab algn="l" pos="4540320"/>
                  <a:tab algn="l" pos="5448240"/>
                  <a:tab algn="l" pos="6356520"/>
                  <a:tab algn="l" pos="7264440"/>
                  <a:tab algn="l" pos="8172360"/>
                  <a:tab algn="l" pos="9080640"/>
                  <a:tab algn="l" pos="9988560"/>
                  <a:tab algn="l" pos="10896480"/>
                </a:tabLst>
              </a:pPr>
              <a:r>
                <a:rPr b="1" i="1" lang="en-US" sz="1200" spc="-1" strike="noStrike">
                  <a:solidFill>
                    <a:srgbClr val="fc0128"/>
                  </a:solidFill>
                  <a:latin typeface="Arial"/>
                </a:rPr>
                <a:t>PLANTACION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24480" y="1066680"/>
              <a:ext cx="1655640" cy="393840"/>
            </a:xfrm>
            <a:prstGeom prst="ellipse">
              <a:avLst/>
            </a:prstGeom>
            <a:noFill/>
            <a:ln w="255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646680" y="1515960"/>
              <a:ext cx="103032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080" rIns="100080" tIns="50760" bIns="507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07920"/>
                  <a:tab algn="l" pos="1816200"/>
                  <a:tab algn="l" pos="2724120"/>
                  <a:tab algn="l" pos="3632040"/>
                  <a:tab algn="l" pos="4540320"/>
                  <a:tab algn="l" pos="5448240"/>
                  <a:tab algn="l" pos="6356520"/>
                  <a:tab algn="l" pos="7264440"/>
                  <a:tab algn="l" pos="8172360"/>
                  <a:tab algn="l" pos="9080640"/>
                  <a:tab algn="l" pos="9988560"/>
                  <a:tab algn="l" pos="10896480"/>
                </a:tabLst>
              </a:pPr>
              <a:r>
                <a:rPr b="1" i="1" lang="en-US" sz="1200" spc="-1" strike="noStrike">
                  <a:solidFill>
                    <a:srgbClr val="ffffff"/>
                  </a:solidFill>
                  <a:latin typeface="Arial"/>
                </a:rPr>
                <a:t>DL 70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 rot="3840000">
            <a:off x="2535480" y="4487760"/>
            <a:ext cx="469800" cy="196560"/>
          </a:xfrm>
          <a:prstGeom prst="rightArrow">
            <a:avLst>
              <a:gd name="adj1" fmla="val 75000"/>
              <a:gd name="adj2" fmla="val 119516"/>
            </a:avLst>
          </a:prstGeom>
          <a:solidFill>
            <a:srgbClr val="00ff00"/>
          </a:solidFill>
          <a:ln w="12600">
            <a:solidFill>
              <a:srgbClr val="3165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 rot="16200000">
            <a:off x="4028040" y="4975200"/>
            <a:ext cx="1066680" cy="196920"/>
          </a:xfrm>
          <a:prstGeom prst="rightArrow">
            <a:avLst>
              <a:gd name="adj1" fmla="val 75000"/>
              <a:gd name="adj2" fmla="val 270866"/>
            </a:avLst>
          </a:prstGeom>
          <a:solidFill>
            <a:srgbClr val="00ff00"/>
          </a:solidFill>
          <a:ln w="12600">
            <a:solidFill>
              <a:srgbClr val="3165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45280" y="5638680"/>
            <a:ext cx="289368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1" i="1" lang="en-US" sz="1300" spc="-1" strike="noStrike">
                <a:solidFill>
                  <a:srgbClr val="00ff00"/>
                </a:solidFill>
                <a:latin typeface="Arial"/>
              </a:rPr>
              <a:t>Apoyo a Productores Mediano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1" i="1" lang="en-US" sz="1300" spc="-1" strike="noStrike">
                <a:solidFill>
                  <a:srgbClr val="00ff00"/>
                </a:solidFill>
                <a:latin typeface="Arial"/>
              </a:rPr>
              <a:t>y Pequeños (PROFOS, FAT, FIDE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150440" y="5775480"/>
            <a:ext cx="839880" cy="320760"/>
          </a:xfrm>
          <a:prstGeom prst="rect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2400" rIns="122400" tIns="61200" bIns="61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1300" spc="-1" strike="noStrike">
                <a:solidFill>
                  <a:srgbClr val="00ff00"/>
                </a:solidFill>
                <a:latin typeface="Arial"/>
              </a:rPr>
              <a:t>CORF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044240" y="3749760"/>
            <a:ext cx="1110600" cy="51732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SERVICI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FOREST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414760" y="3784680"/>
            <a:ext cx="20160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1" i="1" lang="en-US" sz="1300" spc="-1" strike="noStrike">
                <a:solidFill>
                  <a:srgbClr val="fafd00"/>
                </a:solidFill>
                <a:latin typeface="Arial"/>
              </a:rPr>
              <a:t>Fomento Forest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309680"/>
                <a:tab algn="l" pos="2619360"/>
                <a:tab algn="l" pos="3929040"/>
                <a:tab algn="l" pos="5238720"/>
                <a:tab algn="l" pos="6548400"/>
                <a:tab algn="l" pos="7858080"/>
                <a:tab algn="l" pos="9167760"/>
                <a:tab algn="l" pos="10477440"/>
              </a:tabLst>
            </a:pPr>
            <a:r>
              <a:rPr b="1" i="1" lang="en-US" sz="1300" spc="-1" strike="noStrike">
                <a:solidFill>
                  <a:srgbClr val="fafd00"/>
                </a:solidFill>
                <a:latin typeface="Arial"/>
              </a:rPr>
              <a:t>Fiscalización de la Le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 rot="17760000">
            <a:off x="3619800" y="4516200"/>
            <a:ext cx="470160" cy="196920"/>
          </a:xfrm>
          <a:prstGeom prst="rightArrow">
            <a:avLst>
              <a:gd name="adj1" fmla="val 75000"/>
              <a:gd name="adj2" fmla="val 119389"/>
            </a:avLst>
          </a:prstGeom>
          <a:solidFill>
            <a:srgbClr val="00ff00"/>
          </a:solidFill>
          <a:ln w="12600">
            <a:solidFill>
              <a:srgbClr val="3165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3840000">
            <a:off x="5077080" y="4506840"/>
            <a:ext cx="469800" cy="196560"/>
          </a:xfrm>
          <a:prstGeom prst="rightArrow">
            <a:avLst>
              <a:gd name="adj1" fmla="val 75000"/>
              <a:gd name="adj2" fmla="val 119516"/>
            </a:avLst>
          </a:prstGeom>
          <a:gradFill rotWithShape="0">
            <a:gsLst>
              <a:gs pos="0">
                <a:srgbClr val="ffffff"/>
              </a:gs>
              <a:gs pos="100000">
                <a:srgbClr val="a8a8a8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09440" y="239760"/>
            <a:ext cx="5072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Times New Roman"/>
              </a:rPr>
              <a:t>INSTITUCIONALIDAD Y LEGISLACION FORESTA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7520" y="628560"/>
            <a:ext cx="82994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6501"/>
            </a:gs>
            <a:gs pos="100000">
              <a:srgbClr val="1831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311040" y="768240"/>
            <a:ext cx="8369280" cy="55501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95400" y="768240"/>
            <a:ext cx="0" cy="5550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11040" y="1339920"/>
            <a:ext cx="8369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11040" y="5603760"/>
            <a:ext cx="8369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11040" y="4676760"/>
            <a:ext cx="8369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11040" y="3797280"/>
            <a:ext cx="8369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11040" y="3344760"/>
            <a:ext cx="8369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11040" y="2133720"/>
            <a:ext cx="8369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901880" y="1038240"/>
            <a:ext cx="6778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228840" y="1058760"/>
            <a:ext cx="0" cy="5259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95680" y="1058760"/>
            <a:ext cx="0" cy="5259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53360" y="1058760"/>
            <a:ext cx="0" cy="5259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924520" y="1058760"/>
            <a:ext cx="0" cy="5259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00600" y="963720"/>
            <a:ext cx="9907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INSTITUC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93040" y="1397160"/>
            <a:ext cx="1269720" cy="45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fc0128"/>
                </a:solidFill>
                <a:latin typeface="Arial"/>
              </a:rPr>
              <a:t>SUBSECRETAR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fc0128"/>
                </a:solidFill>
                <a:latin typeface="Arial"/>
              </a:rPr>
              <a:t>FOREST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fc0128"/>
                </a:solidFill>
                <a:latin typeface="Arial"/>
              </a:rPr>
              <a:t>SERVIC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fc0128"/>
                </a:solidFill>
                <a:latin typeface="Arial"/>
              </a:rPr>
              <a:t>FOREST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fc0128"/>
                </a:solidFill>
                <a:latin typeface="Arial"/>
              </a:rPr>
              <a:t>CONA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fc0128"/>
                </a:solidFill>
                <a:latin typeface="Arial"/>
              </a:rPr>
              <a:t>INF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fc0128"/>
                </a:solidFill>
                <a:latin typeface="Arial"/>
              </a:rPr>
              <a:t>IND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fc0128"/>
                </a:solidFill>
                <a:latin typeface="Arial"/>
              </a:rPr>
              <a:t>CORF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131920" y="1058760"/>
            <a:ext cx="62942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fafd00"/>
                </a:solidFill>
                <a:latin typeface="Arial"/>
              </a:rPr>
              <a:t>Fomento                     Patrimonio                  Investigación                  Protección                   Fiscaliza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256640" y="771480"/>
            <a:ext cx="2022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000" spc="-1" strike="noStrike">
                <a:solidFill>
                  <a:srgbClr val="ffffff"/>
                </a:solidFill>
                <a:latin typeface="Arial"/>
              </a:rPr>
              <a:t>A M B I T O    D E    A C C I O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43520" y="241200"/>
            <a:ext cx="47077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afd00"/>
                </a:solidFill>
                <a:latin typeface="Arial"/>
              </a:rPr>
              <a:t>INSTITUCIONALIDAD FORES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afd00"/>
                </a:solidFill>
                <a:latin typeface="Arial"/>
              </a:rPr>
              <a:t>PRINCIPALES AMBITOS DE ACCION SEGUN INSTITUCION   1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883160" y="1359000"/>
            <a:ext cx="1400760" cy="49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Arial"/>
              </a:rPr>
              <a:t>Diseña polític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Arial"/>
              </a:rPr>
              <a:t>Administra legisla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Arial"/>
              </a:rPr>
              <a:t>de fomento, incluyen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Arial"/>
              </a:rPr>
              <a:t>do monitoreo y gene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Arial"/>
              </a:rPr>
              <a:t>ración de recomen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Arial"/>
              </a:rPr>
              <a:t>daciones a ni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Arial"/>
              </a:rPr>
              <a:t>superior y 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Arial"/>
              </a:rPr>
              <a:t>ejecució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Arial"/>
              </a:rPr>
              <a:t>No tiene en estad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Arial"/>
              </a:rPr>
              <a:t>régimen permanent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Arial"/>
              </a:rPr>
              <a:t>Apoya esquema 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Arial"/>
              </a:rPr>
              <a:t>transferencia basad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Arial"/>
              </a:rPr>
              <a:t>en resultados de l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Arial"/>
              </a:rPr>
              <a:t>investigación q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Arial"/>
              </a:rPr>
              <a:t>desarroll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Arial"/>
              </a:rPr>
              <a:t>Opera a través d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Arial"/>
              </a:rPr>
              <a:t>esquema de trans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Arial"/>
              </a:rPr>
              <a:t>ferencia a pequeñ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Arial"/>
              </a:rPr>
              <a:t>productores. Otorg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Arial"/>
              </a:rPr>
              <a:t>apoyo creditici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Arial"/>
              </a:rPr>
              <a:t>Opera instrument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Arial"/>
              </a:rPr>
              <a:t>de apoyo a produ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Arial"/>
              </a:rPr>
              <a:t>tores medianos y 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Arial"/>
              </a:rPr>
              <a:t>"egresados" INDAP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227400" y="1359000"/>
            <a:ext cx="1397160" cy="45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Arial"/>
              </a:rPr>
              <a:t>Define política 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Arial"/>
              </a:rPr>
              <a:t>representa al paí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Arial"/>
              </a:rPr>
              <a:t>frente a organism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Arial"/>
              </a:rPr>
              <a:t>internacionale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Arial"/>
              </a:rPr>
              <a:t>Define directr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Arial"/>
              </a:rPr>
              <a:t>respecto de A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Arial"/>
              </a:rPr>
              <a:t>específica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Arial"/>
              </a:rPr>
              <a:t>Aprueba planes 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Arial"/>
              </a:rPr>
              <a:t>manejo de ASP pú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Arial"/>
              </a:rPr>
              <a:t>blicas y privada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Arial"/>
              </a:rPr>
              <a:t>Administra y ges- tiona ASP pública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Arial"/>
              </a:rPr>
              <a:t>Ejecuta los estudi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Arial"/>
              </a:rPr>
              <a:t>encargados por l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Arial"/>
              </a:rPr>
              <a:t>Subsecretaría y 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Arial"/>
              </a:rPr>
              <a:t>Servicio Forestal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Arial"/>
              </a:rPr>
              <a:t>No tien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Arial"/>
              </a:rPr>
              <a:t>No tien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484520" y="1359000"/>
            <a:ext cx="1403640" cy="48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Arial"/>
              </a:rPr>
              <a:t>Define áreas priorita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Arial"/>
              </a:rPr>
              <a:t>rias de investiga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Arial"/>
              </a:rPr>
              <a:t>forestal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Arial"/>
              </a:rPr>
              <a:t>Desarrolla contenid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Arial"/>
              </a:rPr>
              <a:t>específicos de inves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Arial"/>
              </a:rPr>
              <a:t>tigación encargad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Arial"/>
              </a:rPr>
              <a:t>Evalúa recomenda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Arial"/>
              </a:rPr>
              <a:t>ciones derivadas 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Arial"/>
              </a:rPr>
              <a:t>estudio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Arial"/>
              </a:rPr>
              <a:t>No tiene en estad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Arial"/>
              </a:rPr>
              <a:t>régimen permanent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Arial"/>
              </a:rPr>
              <a:t>Desarrolla proyect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Arial"/>
              </a:rPr>
              <a:t>de investiga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Arial"/>
              </a:rPr>
              <a:t>encargado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Arial"/>
              </a:rPr>
              <a:t>Transfiere investiga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Arial"/>
              </a:rPr>
              <a:t>ción a través 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Arial"/>
              </a:rPr>
              <a:t>sistema transferenc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Arial"/>
              </a:rPr>
              <a:t>tecnológic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Arial"/>
              </a:rPr>
              <a:t>Entrega apoyo finan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Arial"/>
              </a:rPr>
              <a:t>ciero a proyectos ví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Arial"/>
              </a:rPr>
              <a:t>FDI u otro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912640" y="1359000"/>
            <a:ext cx="1487520" cy="48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Arial"/>
              </a:rPr>
              <a:t>Define las políticas 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Arial"/>
              </a:rPr>
              <a:t>desarrollar por par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Arial"/>
              </a:rPr>
              <a:t>de las instituciones c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Arial"/>
              </a:rPr>
              <a:t>competenci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Arial"/>
              </a:rPr>
              <a:t>Fiscaliza cumplimien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Arial"/>
              </a:rPr>
              <a:t>de la ley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Arial"/>
              </a:rPr>
              <a:t>Ejecuta acciones 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Arial"/>
              </a:rPr>
              <a:t>áreas fuego y plaga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Arial"/>
              </a:rPr>
              <a:t>Ejecuta estudios en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Arial"/>
              </a:rPr>
              <a:t>cargados por Subse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Arial"/>
              </a:rPr>
              <a:t>cretaría y Servic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Arial"/>
              </a:rPr>
              <a:t>Forestal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Arial"/>
              </a:rPr>
              <a:t>Transfiere investiga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Arial"/>
              </a:rPr>
              <a:t>ción a través 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Arial"/>
              </a:rPr>
              <a:t>sistema transferenc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Arial"/>
              </a:rPr>
              <a:t>tecnológic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Arial"/>
              </a:rPr>
              <a:t>Entrega apoyo finan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Arial"/>
              </a:rPr>
              <a:t>ciero a proyectos ví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Arial"/>
              </a:rPr>
              <a:t>FDI u otro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341840" y="1349280"/>
            <a:ext cx="1388520" cy="45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Arial"/>
              </a:rPr>
              <a:t>Define la polític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Arial"/>
              </a:rPr>
              <a:t>Elabora normas es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Arial"/>
              </a:rPr>
              <a:t>pecífica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Arial"/>
              </a:rPr>
              <a:t>Fiscaliza cumplimien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Arial"/>
              </a:rPr>
              <a:t>to de la legisla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Arial"/>
              </a:rPr>
              <a:t>forestal, incluyendo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Arial"/>
              </a:rPr>
              <a:t>Fomento (DL 70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Arial"/>
              </a:rPr>
              <a:t>B. Nativo; Fuego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Arial"/>
              </a:rPr>
              <a:t>ASP; et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Arial"/>
              </a:rPr>
              <a:t>No tien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Arial"/>
              </a:rPr>
              <a:t>No tien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Arial"/>
              </a:rPr>
              <a:t>No tien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Arial"/>
              </a:rPr>
              <a:t>No tien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41920" y="6340320"/>
            <a:ext cx="58309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afd00"/>
                </a:solidFill>
                <a:latin typeface="Arial"/>
              </a:rPr>
              <a:t>1/      Los ámbitos de acción prioritarios no son exhaustivos, sólo reflejan la función objetivo principal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6501"/>
            </a:gs>
            <a:gs pos="100000">
              <a:srgbClr val="1831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762120"/>
            <a:ext cx="8275680" cy="53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400" rIns="122400" tIns="61200" bIns="61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800" spc="-1" strike="noStrike">
                <a:solidFill>
                  <a:srgbClr val="fc0128"/>
                </a:solidFill>
                <a:latin typeface="Arial"/>
              </a:rPr>
              <a:t>SECTOR FORESTAL CHILE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800" spc="-1" strike="noStrike">
                <a:solidFill>
                  <a:srgbClr val="fc0128"/>
                </a:solidFill>
                <a:latin typeface="Arial"/>
              </a:rPr>
              <a:t>Elementos del Diagnost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800" spc="-1" strike="noStrike">
                <a:solidFill>
                  <a:srgbClr val="fafd00"/>
                </a:solidFill>
                <a:latin typeface="Arial"/>
              </a:rPr>
              <a:t>1.  Modelo de desarrollo forestal centrado en las planta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800" spc="-1" strike="noStrike">
                <a:solidFill>
                  <a:srgbClr val="fafd00"/>
                </a:solidFill>
                <a:latin typeface="Arial"/>
              </a:rPr>
              <a:t>2.  Fuertemente concentrado en términos de la oferta export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800" spc="-1" strike="noStrike">
                <a:solidFill>
                  <a:srgbClr val="fafd00"/>
                </a:solidFill>
                <a:latin typeface="Arial"/>
              </a:rPr>
              <a:t>3.  Fuertemente concentrado en términos de merc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800" spc="-1" strike="noStrike">
                <a:solidFill>
                  <a:srgbClr val="fafd00"/>
                </a:solidFill>
                <a:latin typeface="Arial"/>
              </a:rPr>
              <a:t>4.  Fuertemente concentrado en el sector de la gran indust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800" spc="-1" strike="noStrike">
                <a:solidFill>
                  <a:srgbClr val="fafd00"/>
                </a:solidFill>
                <a:latin typeface="Arial"/>
              </a:rPr>
              <a:t>5.  Debilidades estructurales en el segmento de la mediana indust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800" spc="-1" strike="noStrike">
                <a:solidFill>
                  <a:srgbClr val="fafd00"/>
                </a:solidFill>
                <a:latin typeface="Arial"/>
              </a:rPr>
              <a:t>     </a:t>
            </a:r>
            <a:r>
              <a:rPr b="0" lang="es-ES" sz="1800" spc="-1" strike="noStrike">
                <a:solidFill>
                  <a:srgbClr val="fafd00"/>
                </a:solidFill>
                <a:latin typeface="Arial"/>
              </a:rPr>
              <a:t>(disponibilidad MP y limitaciones en la capacidad de endeudamient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800" spc="-1" strike="noStrike">
                <a:solidFill>
                  <a:srgbClr val="fafd00"/>
                </a:solidFill>
                <a:latin typeface="Arial"/>
              </a:rPr>
              <a:t>6.  Capacidad innovadora en el segmento de la mediana indust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800" spc="-1" strike="noStrike">
                <a:solidFill>
                  <a:srgbClr val="fafd00"/>
                </a:solidFill>
                <a:latin typeface="Arial"/>
              </a:rPr>
              <a:t>7.  Potencial de desarrollo del segmento de pequeños y medianos propietar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800" spc="-1" strike="noStrike">
                <a:solidFill>
                  <a:srgbClr val="fafd00"/>
                </a:solidFill>
                <a:latin typeface="Arial"/>
              </a:rPr>
              <a:t>8.  Potencial de desarrollo del sector de bosque nat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800" spc="-1" strike="noStrike">
                <a:solidFill>
                  <a:srgbClr val="fafd00"/>
                </a:solidFill>
                <a:latin typeface="Arial"/>
              </a:rPr>
              <a:t>9.  Potencial de desarrollo de las Areas Silvestres Protegi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800" spc="-1" strike="noStrike">
                <a:solidFill>
                  <a:srgbClr val="fafd00"/>
                </a:solidFill>
                <a:latin typeface="Arial"/>
              </a:rPr>
              <a:t>10. Alto potencial de ampliación de los mecanismos de financiamiento 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800" spc="-1" strike="noStrike">
                <a:solidFill>
                  <a:srgbClr val="fafd00"/>
                </a:solidFill>
                <a:latin typeface="Arial"/>
              </a:rPr>
              <a:t>      </a:t>
            </a:r>
            <a:r>
              <a:rPr b="0" lang="es-ES" sz="1800" spc="-1" strike="noStrike">
                <a:solidFill>
                  <a:srgbClr val="fafd00"/>
                </a:solidFill>
                <a:latin typeface="Arial"/>
              </a:rPr>
              <a:t>sistema de prevención y combate de incendios forest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6501"/>
            </a:gs>
            <a:gs pos="100000">
              <a:srgbClr val="1831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3817800" y="533520"/>
          <a:ext cx="4451400" cy="595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17800" y="533520"/>
                    <a:ext cx="4451400" cy="595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"/>
          <p:cNvSpPr/>
          <p:nvPr/>
        </p:nvSpPr>
        <p:spPr>
          <a:xfrm>
            <a:off x="757080" y="5846760"/>
            <a:ext cx="145764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 </a:t>
            </a:r>
            <a:br>
              <a:rPr sz="1600"/>
            </a:b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SNASP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SNASP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23120" y="6103800"/>
            <a:ext cx="2782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LEY DE  BOSQUE  NATI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002440" y="708120"/>
            <a:ext cx="8460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DL 7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93720" y="1596960"/>
            <a:ext cx="6840720" cy="38926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00000" y="1733400"/>
            <a:ext cx="1422360" cy="368784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476440" y="1733400"/>
            <a:ext cx="3686400" cy="368784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316560" y="1733400"/>
            <a:ext cx="1081080" cy="10810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Suel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Forest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248520" y="2994120"/>
            <a:ext cx="1217520" cy="66816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Area 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Transi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81240" y="1790640"/>
            <a:ext cx="2683080" cy="10368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Arial"/>
              </a:rPr>
              <a:t>BOSQUES DE PROTECC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0200" y="4675320"/>
            <a:ext cx="261756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Arial"/>
              </a:rPr>
              <a:t>BOSQUES DE PRODUCC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1265400" y="5618160"/>
            <a:ext cx="482400" cy="344520"/>
            <a:chOff x="1265400" y="5618160"/>
            <a:chExt cx="482400" cy="344520"/>
          </a:xfrm>
        </p:grpSpPr>
        <p:sp>
          <p:nvSpPr>
            <p:cNvPr id="55" name=""/>
            <p:cNvSpPr/>
            <p:nvPr/>
          </p:nvSpPr>
          <p:spPr>
            <a:xfrm>
              <a:off x="1677960" y="5710320"/>
              <a:ext cx="69840" cy="47520"/>
            </a:xfrm>
            <a:custGeom>
              <a:avLst/>
              <a:gdLst/>
              <a:ahLst/>
              <a:rect l="l" t="t" r="r" b="b"/>
              <a:pathLst>
                <a:path w="44" h="30">
                  <a:moveTo>
                    <a:pt x="0" y="0"/>
                  </a:moveTo>
                  <a:lnTo>
                    <a:pt x="43" y="0"/>
                  </a:lnTo>
                  <a:lnTo>
                    <a:pt x="43" y="29"/>
                  </a:lnTo>
                  <a:lnTo>
                    <a:pt x="0" y="29"/>
                  </a:lnTo>
                  <a:lnTo>
                    <a:pt x="0" y="0"/>
                  </a:lnTo>
                </a:path>
              </a:pathLst>
            </a:custGeom>
            <a:solidFill>
              <a:srgbClr val="8000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65400" y="5710320"/>
              <a:ext cx="72720" cy="47520"/>
            </a:xfrm>
            <a:custGeom>
              <a:avLst/>
              <a:gdLst/>
              <a:ahLst/>
              <a:rect l="l" t="t" r="r" b="b"/>
              <a:pathLst>
                <a:path w="46" h="30">
                  <a:moveTo>
                    <a:pt x="0" y="0"/>
                  </a:moveTo>
                  <a:lnTo>
                    <a:pt x="44" y="0"/>
                  </a:lnTo>
                  <a:lnTo>
                    <a:pt x="45" y="29"/>
                  </a:lnTo>
                  <a:lnTo>
                    <a:pt x="0" y="29"/>
                  </a:lnTo>
                  <a:lnTo>
                    <a:pt x="0" y="0"/>
                  </a:lnTo>
                </a:path>
              </a:pathLst>
            </a:custGeom>
            <a:solidFill>
              <a:srgbClr val="8000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266840" y="5618160"/>
              <a:ext cx="479520" cy="298440"/>
            </a:xfrm>
            <a:custGeom>
              <a:avLst/>
              <a:gdLst/>
              <a:ahLst/>
              <a:rect l="l" t="t" r="r" b="b"/>
              <a:pathLst>
                <a:path w="302" h="188">
                  <a:moveTo>
                    <a:pt x="149" y="0"/>
                  </a:moveTo>
                  <a:lnTo>
                    <a:pt x="0" y="58"/>
                  </a:lnTo>
                  <a:lnTo>
                    <a:pt x="43" y="58"/>
                  </a:lnTo>
                  <a:lnTo>
                    <a:pt x="14" y="187"/>
                  </a:lnTo>
                  <a:lnTo>
                    <a:pt x="287" y="187"/>
                  </a:lnTo>
                  <a:lnTo>
                    <a:pt x="258" y="58"/>
                  </a:lnTo>
                  <a:lnTo>
                    <a:pt x="301" y="58"/>
                  </a:lnTo>
                  <a:lnTo>
                    <a:pt x="149" y="0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289160" y="5915160"/>
              <a:ext cx="434880" cy="47520"/>
            </a:xfrm>
            <a:custGeom>
              <a:avLst/>
              <a:gdLst/>
              <a:ahLst/>
              <a:rect l="l" t="t" r="r" b="b"/>
              <a:pathLst>
                <a:path w="274" h="30">
                  <a:moveTo>
                    <a:pt x="0" y="0"/>
                  </a:moveTo>
                  <a:lnTo>
                    <a:pt x="273" y="0"/>
                  </a:lnTo>
                  <a:lnTo>
                    <a:pt x="273" y="29"/>
                  </a:lnTo>
                  <a:lnTo>
                    <a:pt x="0" y="29"/>
                  </a:lnTo>
                  <a:lnTo>
                    <a:pt x="0" y="0"/>
                  </a:lnTo>
                </a:path>
              </a:pathLst>
            </a:custGeom>
            <a:solidFill>
              <a:srgbClr val="8000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932280" y="5618160"/>
            <a:ext cx="482400" cy="344520"/>
            <a:chOff x="3932280" y="5618160"/>
            <a:chExt cx="482400" cy="344520"/>
          </a:xfrm>
        </p:grpSpPr>
        <p:sp>
          <p:nvSpPr>
            <p:cNvPr id="60" name=""/>
            <p:cNvSpPr/>
            <p:nvPr/>
          </p:nvSpPr>
          <p:spPr>
            <a:xfrm>
              <a:off x="4344840" y="5710320"/>
              <a:ext cx="69840" cy="47520"/>
            </a:xfrm>
            <a:custGeom>
              <a:avLst/>
              <a:gdLst/>
              <a:ahLst/>
              <a:rect l="l" t="t" r="r" b="b"/>
              <a:pathLst>
                <a:path w="44" h="30">
                  <a:moveTo>
                    <a:pt x="0" y="0"/>
                  </a:moveTo>
                  <a:lnTo>
                    <a:pt x="43" y="0"/>
                  </a:lnTo>
                  <a:lnTo>
                    <a:pt x="43" y="29"/>
                  </a:lnTo>
                  <a:lnTo>
                    <a:pt x="0" y="29"/>
                  </a:lnTo>
                  <a:lnTo>
                    <a:pt x="0" y="0"/>
                  </a:lnTo>
                </a:path>
              </a:pathLst>
            </a:custGeom>
            <a:solidFill>
              <a:srgbClr val="8000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932280" y="5710320"/>
              <a:ext cx="73080" cy="47520"/>
            </a:xfrm>
            <a:custGeom>
              <a:avLst/>
              <a:gdLst/>
              <a:ahLst/>
              <a:rect l="l" t="t" r="r" b="b"/>
              <a:pathLst>
                <a:path w="46" h="30">
                  <a:moveTo>
                    <a:pt x="0" y="0"/>
                  </a:moveTo>
                  <a:lnTo>
                    <a:pt x="44" y="0"/>
                  </a:lnTo>
                  <a:lnTo>
                    <a:pt x="45" y="29"/>
                  </a:lnTo>
                  <a:lnTo>
                    <a:pt x="0" y="29"/>
                  </a:lnTo>
                  <a:lnTo>
                    <a:pt x="0" y="0"/>
                  </a:lnTo>
                </a:path>
              </a:pathLst>
            </a:custGeom>
            <a:solidFill>
              <a:srgbClr val="8000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933720" y="5618160"/>
              <a:ext cx="479520" cy="298440"/>
            </a:xfrm>
            <a:custGeom>
              <a:avLst/>
              <a:gdLst/>
              <a:ahLst/>
              <a:rect l="l" t="t" r="r" b="b"/>
              <a:pathLst>
                <a:path w="302" h="188">
                  <a:moveTo>
                    <a:pt x="149" y="0"/>
                  </a:moveTo>
                  <a:lnTo>
                    <a:pt x="0" y="58"/>
                  </a:lnTo>
                  <a:lnTo>
                    <a:pt x="43" y="58"/>
                  </a:lnTo>
                  <a:lnTo>
                    <a:pt x="14" y="187"/>
                  </a:lnTo>
                  <a:lnTo>
                    <a:pt x="287" y="187"/>
                  </a:lnTo>
                  <a:lnTo>
                    <a:pt x="258" y="58"/>
                  </a:lnTo>
                  <a:lnTo>
                    <a:pt x="301" y="58"/>
                  </a:lnTo>
                  <a:lnTo>
                    <a:pt x="149" y="0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956040" y="5915160"/>
              <a:ext cx="434880" cy="47520"/>
            </a:xfrm>
            <a:custGeom>
              <a:avLst/>
              <a:gdLst/>
              <a:ahLst/>
              <a:rect l="l" t="t" r="r" b="b"/>
              <a:pathLst>
                <a:path w="274" h="30">
                  <a:moveTo>
                    <a:pt x="0" y="0"/>
                  </a:moveTo>
                  <a:lnTo>
                    <a:pt x="273" y="0"/>
                  </a:lnTo>
                  <a:lnTo>
                    <a:pt x="273" y="29"/>
                  </a:lnTo>
                  <a:lnTo>
                    <a:pt x="0" y="29"/>
                  </a:lnTo>
                  <a:lnTo>
                    <a:pt x="0" y="0"/>
                  </a:lnTo>
                </a:path>
              </a:pathLst>
            </a:custGeom>
            <a:solidFill>
              <a:srgbClr val="8000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7581960" y="1068480"/>
            <a:ext cx="615960" cy="536400"/>
            <a:chOff x="7581960" y="1068480"/>
            <a:chExt cx="615960" cy="536400"/>
          </a:xfrm>
        </p:grpSpPr>
        <p:sp>
          <p:nvSpPr>
            <p:cNvPr id="65" name=""/>
            <p:cNvSpPr/>
            <p:nvPr/>
          </p:nvSpPr>
          <p:spPr>
            <a:xfrm>
              <a:off x="7808760" y="1206360"/>
              <a:ext cx="52560" cy="117720"/>
            </a:xfrm>
            <a:custGeom>
              <a:avLst/>
              <a:gdLst/>
              <a:ahLst/>
              <a:rect l="l" t="t" r="r" b="b"/>
              <a:pathLst>
                <a:path w="33" h="74">
                  <a:moveTo>
                    <a:pt x="0" y="0"/>
                  </a:moveTo>
                  <a:lnTo>
                    <a:pt x="7" y="43"/>
                  </a:lnTo>
                  <a:lnTo>
                    <a:pt x="32" y="73"/>
                  </a:lnTo>
                  <a:lnTo>
                    <a:pt x="18" y="23"/>
                  </a:lnTo>
                  <a:lnTo>
                    <a:pt x="0" y="0"/>
                  </a:lnTo>
                </a:path>
              </a:pathLst>
            </a:custGeom>
            <a:solidFill>
              <a:srgbClr val="8000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581960" y="1068480"/>
              <a:ext cx="577800" cy="488880"/>
            </a:xfrm>
            <a:custGeom>
              <a:avLst/>
              <a:gdLst/>
              <a:ahLst/>
              <a:rect l="l" t="t" r="r" b="b"/>
              <a:pathLst>
                <a:path w="364" h="308">
                  <a:moveTo>
                    <a:pt x="142" y="86"/>
                  </a:moveTo>
                  <a:lnTo>
                    <a:pt x="0" y="307"/>
                  </a:lnTo>
                  <a:lnTo>
                    <a:pt x="174" y="289"/>
                  </a:lnTo>
                  <a:lnTo>
                    <a:pt x="165" y="247"/>
                  </a:lnTo>
                  <a:lnTo>
                    <a:pt x="363" y="98"/>
                  </a:lnTo>
                  <a:lnTo>
                    <a:pt x="321" y="0"/>
                  </a:lnTo>
                  <a:lnTo>
                    <a:pt x="150" y="129"/>
                  </a:lnTo>
                  <a:lnTo>
                    <a:pt x="142" y="86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581960" y="1527120"/>
              <a:ext cx="314280" cy="77760"/>
            </a:xfrm>
            <a:custGeom>
              <a:avLst/>
              <a:gdLst/>
              <a:ahLst/>
              <a:rect l="l" t="t" r="r" b="b"/>
              <a:pathLst>
                <a:path w="198" h="49">
                  <a:moveTo>
                    <a:pt x="0" y="17"/>
                  </a:moveTo>
                  <a:lnTo>
                    <a:pt x="174" y="0"/>
                  </a:lnTo>
                  <a:lnTo>
                    <a:pt x="197" y="32"/>
                  </a:lnTo>
                  <a:lnTo>
                    <a:pt x="22" y="48"/>
                  </a:lnTo>
                  <a:lnTo>
                    <a:pt x="0" y="17"/>
                  </a:lnTo>
                </a:path>
              </a:pathLst>
            </a:custGeom>
            <a:solidFill>
              <a:srgbClr val="8000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845480" y="1460520"/>
              <a:ext cx="50760" cy="117360"/>
            </a:xfrm>
            <a:custGeom>
              <a:avLst/>
              <a:gdLst/>
              <a:ahLst/>
              <a:rect l="l" t="t" r="r" b="b"/>
              <a:pathLst>
                <a:path w="32" h="74">
                  <a:moveTo>
                    <a:pt x="9" y="43"/>
                  </a:moveTo>
                  <a:lnTo>
                    <a:pt x="0" y="0"/>
                  </a:lnTo>
                  <a:lnTo>
                    <a:pt x="23" y="32"/>
                  </a:lnTo>
                  <a:lnTo>
                    <a:pt x="31" y="73"/>
                  </a:lnTo>
                  <a:lnTo>
                    <a:pt x="9" y="43"/>
                  </a:lnTo>
                </a:path>
              </a:pathLst>
            </a:custGeom>
            <a:solidFill>
              <a:srgbClr val="8000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845480" y="1224000"/>
              <a:ext cx="352440" cy="287280"/>
            </a:xfrm>
            <a:custGeom>
              <a:avLst/>
              <a:gdLst/>
              <a:ahLst/>
              <a:rect l="l" t="t" r="r" b="b"/>
              <a:pathLst>
                <a:path w="222" h="181">
                  <a:moveTo>
                    <a:pt x="0" y="148"/>
                  </a:moveTo>
                  <a:lnTo>
                    <a:pt x="23" y="180"/>
                  </a:lnTo>
                  <a:lnTo>
                    <a:pt x="221" y="32"/>
                  </a:lnTo>
                  <a:lnTo>
                    <a:pt x="197" y="0"/>
                  </a:lnTo>
                  <a:lnTo>
                    <a:pt x="0" y="148"/>
                  </a:lnTo>
                </a:path>
              </a:pathLst>
            </a:custGeom>
            <a:solidFill>
              <a:srgbClr val="8000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8091360" y="1068480"/>
              <a:ext cx="104760" cy="204840"/>
            </a:xfrm>
            <a:custGeom>
              <a:avLst/>
              <a:gdLst/>
              <a:ahLst/>
              <a:rect l="l" t="t" r="r" b="b"/>
              <a:pathLst>
                <a:path w="66" h="129">
                  <a:moveTo>
                    <a:pt x="0" y="0"/>
                  </a:moveTo>
                  <a:lnTo>
                    <a:pt x="42" y="98"/>
                  </a:lnTo>
                  <a:lnTo>
                    <a:pt x="65" y="128"/>
                  </a:lnTo>
                  <a:lnTo>
                    <a:pt x="23" y="31"/>
                  </a:lnTo>
                  <a:lnTo>
                    <a:pt x="0" y="0"/>
                  </a:lnTo>
                </a:path>
              </a:pathLst>
            </a:custGeom>
            <a:solidFill>
              <a:srgbClr val="8000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871200" y="2303640"/>
            <a:ext cx="14846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PARQU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RESERV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MONUMENT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rot="16200000">
            <a:off x="337320" y="3010680"/>
            <a:ext cx="2682720" cy="10364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Arial"/>
              </a:rPr>
              <a:t>BOSQUES DE PRESERVAC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724880" y="3414600"/>
            <a:ext cx="8460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Arial"/>
              </a:rPr>
              <a:t>Suel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042920" y="223920"/>
            <a:ext cx="648648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MARCO REGULATORIO SECTOR FORESTA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881640" y="1062000"/>
            <a:ext cx="6745680" cy="453960"/>
            <a:chOff x="881640" y="1062000"/>
            <a:chExt cx="6745680" cy="453960"/>
          </a:xfrm>
        </p:grpSpPr>
        <p:sp>
          <p:nvSpPr>
            <p:cNvPr id="76" name=""/>
            <p:cNvSpPr/>
            <p:nvPr/>
          </p:nvSpPr>
          <p:spPr>
            <a:xfrm>
              <a:off x="881640" y="1062000"/>
              <a:ext cx="122544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fd00"/>
                  </a:solidFill>
                  <a:latin typeface="Arial"/>
                </a:rPr>
                <a:t>VEGETACIÓN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fd00"/>
                  </a:solidFill>
                  <a:latin typeface="Arial"/>
                </a:rPr>
                <a:t>ÚNIC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515320" y="1062000"/>
              <a:ext cx="118116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fd00"/>
                  </a:solidFill>
                  <a:latin typeface="Arial"/>
                </a:rPr>
                <a:t>ALTAMENTE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fd00"/>
                  </a:solidFill>
                  <a:latin typeface="Arial"/>
                </a:rPr>
                <a:t>PRODUCTIV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809880" y="1062000"/>
              <a:ext cx="11066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fd00"/>
                  </a:solidFill>
                  <a:latin typeface="Arial"/>
                </a:rPr>
                <a:t>MEJORAB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029200" y="1062000"/>
              <a:ext cx="11476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fd00"/>
                  </a:solidFill>
                  <a:latin typeface="Arial"/>
                </a:rPr>
                <a:t>DEGRADAD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147360" y="1062000"/>
              <a:ext cx="14799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fd00"/>
                  </a:solidFill>
                  <a:latin typeface="Arial"/>
                </a:rPr>
                <a:t>SIN VEGETA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2394000" y="690480"/>
            <a:ext cx="3627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Arial"/>
              </a:rPr>
              <a:t>Categoría Recursos Vegetacion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678800" y="1946160"/>
            <a:ext cx="1311120" cy="11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d00"/>
                </a:solidFill>
                <a:latin typeface="Arial"/>
              </a:rPr>
              <a:t>SUELOS C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d00"/>
                </a:solidFill>
                <a:latin typeface="Arial"/>
              </a:rPr>
              <a:t>LIMITACIÓ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d00"/>
                </a:solidFill>
                <a:latin typeface="Arial"/>
              </a:rPr>
              <a:t>- Pdte. &gt;4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d00"/>
                </a:solidFill>
                <a:latin typeface="Arial"/>
              </a:rPr>
              <a:t>- Erosiona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d00"/>
                </a:solidFill>
                <a:latin typeface="Arial"/>
              </a:rPr>
              <a:t>- Frági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709040" y="3903840"/>
            <a:ext cx="1263600" cy="13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d00"/>
                </a:solidFill>
                <a:latin typeface="Arial"/>
              </a:rPr>
              <a:t>SUE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d00"/>
                </a:solidFill>
                <a:latin typeface="Arial"/>
              </a:rPr>
              <a:t>S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d00"/>
                </a:solidFill>
                <a:latin typeface="Arial"/>
              </a:rPr>
              <a:t>LIMITACIÓ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d00"/>
                </a:solidFill>
                <a:latin typeface="Arial"/>
              </a:rPr>
              <a:t>- Pdte.&lt;4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d00"/>
                </a:solidFill>
                <a:latin typeface="Arial"/>
              </a:rPr>
              <a:t>- Esta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afd00"/>
                </a:solidFill>
                <a:latin typeface="Arial"/>
              </a:rPr>
              <a:t>- Productiv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6501"/>
            </a:gs>
            <a:gs pos="100000">
              <a:srgbClr val="1831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457200" y="755640"/>
            <a:ext cx="8229600" cy="39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400" rIns="122400" tIns="61200" bIns="612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fc0128"/>
                </a:solidFill>
                <a:latin typeface="Times New Roman"/>
              </a:rPr>
              <a:t>PROYECTO DE LEY DE INSTITUCIONALIDAD FORES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fc0128"/>
                </a:solidFill>
                <a:latin typeface="Arial"/>
              </a:rPr>
              <a:t>SUBSECRETARIA DE DESARROLLO FORES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800" spc="-1" strike="noStrike" u="sng">
                <a:solidFill>
                  <a:srgbClr val="fafd00"/>
                </a:solidFill>
                <a:uFillTx/>
                <a:latin typeface="Times New Roman"/>
              </a:rPr>
              <a:t>Objetiv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800" spc="-1" strike="noStrike">
                <a:solidFill>
                  <a:srgbClr val="fafd00"/>
                </a:solidFill>
                <a:latin typeface="Arial"/>
              </a:rPr>
              <a:t>Proponer y evaluar las políticas y planes correspondientes al sector forestal.  Formular las normas que le son aplicables y controlar su cumplimien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1800" spc="-1" strike="noStrike">
                <a:solidFill>
                  <a:srgbClr val="fafd00"/>
                </a:solidFill>
                <a:latin typeface="Arial"/>
              </a:rPr>
              <a:t>Su objetivo es el velar por la conservación, protección y utilización de los ecosistemas naturales, dentro del principio de la sustentabilida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6501"/>
            </a:gs>
            <a:gs pos="100000">
              <a:srgbClr val="1831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533520" y="417600"/>
            <a:ext cx="8305560" cy="61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400" rIns="122400" tIns="61200" bIns="61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fc0128"/>
                </a:solidFill>
                <a:latin typeface="Arial"/>
              </a:rPr>
              <a:t>SUBSECRETARIA DE DESARROLLO FORES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CL" sz="1800" spc="-1" strike="noStrike" u="sng">
                <a:solidFill>
                  <a:srgbClr val="fafd00"/>
                </a:solidFill>
                <a:uFillTx/>
                <a:latin typeface="Times New Roman"/>
              </a:rPr>
              <a:t>Fun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1800" spc="-1" strike="noStrike">
                <a:solidFill>
                  <a:srgbClr val="fafd00"/>
                </a:solidFill>
                <a:latin typeface="Arial"/>
              </a:rPr>
              <a:t>Elaborar y proponer la política forestal nac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1800" spc="-1" strike="noStrike">
                <a:solidFill>
                  <a:srgbClr val="fafd00"/>
                </a:solidFill>
                <a:latin typeface="Arial"/>
              </a:rPr>
              <a:t>Proponer las normas necesarias para la ejecución de la política forestal y cautelar su cumplimien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800" spc="-1" strike="noStrike">
                <a:solidFill>
                  <a:srgbClr val="fafd00"/>
                </a:solidFill>
                <a:latin typeface="Arial"/>
              </a:rPr>
              <a:t>Orientar la actividad industrial hacia una utilización eficiente y sustentable de los recursos foresta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1800" spc="-1" strike="noStrike">
                <a:solidFill>
                  <a:srgbClr val="fafd00"/>
                </a:solidFill>
                <a:latin typeface="Arial"/>
              </a:rPr>
              <a:t>Promover el desarrollo y mejoramiento de la actividad productiv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1800" spc="-1" strike="noStrike">
                <a:solidFill>
                  <a:srgbClr val="fafd00"/>
                </a:solidFill>
                <a:latin typeface="Arial"/>
              </a:rPr>
              <a:t>Proponer la afectación y desafectación de las Areas Silvestr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1800" spc="-1" strike="noStrike">
                <a:solidFill>
                  <a:srgbClr val="fafd00"/>
                </a:solidFill>
                <a:latin typeface="Arial"/>
              </a:rPr>
              <a:t>Coordinar actividades de fomento al desarrollo forestal y los programas de impulso a la investigación, capacitación y transferencia tecnológic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1800" spc="-1" strike="noStrike">
                <a:solidFill>
                  <a:srgbClr val="fafd00"/>
                </a:solidFill>
                <a:latin typeface="Arial"/>
              </a:rPr>
              <a:t>Proponer la declaración de cumplimiento obligatorio de normas sobre protección forest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6501"/>
            </a:gs>
            <a:gs pos="100000">
              <a:srgbClr val="1831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87440" y="528480"/>
            <a:ext cx="8275680" cy="39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400" rIns="122400" tIns="61200" bIns="612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fc0128"/>
                </a:solidFill>
                <a:latin typeface="Times New Roman"/>
              </a:rPr>
              <a:t>PROYECTO DE LEY DE INSTITUCIONALIDAD FORES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fc0128"/>
                </a:solidFill>
                <a:latin typeface="Arial"/>
              </a:rPr>
              <a:t>SERVICIO NACIONAL FORES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CL" sz="1800" spc="-1" strike="noStrike" u="sng">
                <a:solidFill>
                  <a:srgbClr val="fafd00"/>
                </a:solidFill>
                <a:uFillTx/>
                <a:latin typeface="Times New Roman"/>
              </a:rPr>
              <a:t>Objetiv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1800" spc="-1" strike="noStrike">
                <a:solidFill>
                  <a:srgbClr val="fafd00"/>
                </a:solidFill>
                <a:latin typeface="Arial"/>
              </a:rPr>
              <a:t>Contribuir al incremento y manejo sostenible de los recursos forestales del país; propender a la preservación y conservación de los ecosistemas naturales terrestres y acuáticos asociados; fiscalizar el cumplimiento de las normas legales y reglamentarias que regulan al sector; y llevar a cabo las acciones que aseguren la ejecución de la política forestal del Esta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6501"/>
            </a:gs>
            <a:gs pos="100000">
              <a:srgbClr val="1831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487440" y="528480"/>
            <a:ext cx="8275680" cy="58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400" rIns="122400" tIns="61200" bIns="61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fc0128"/>
                </a:solidFill>
                <a:latin typeface="Arial"/>
              </a:rPr>
              <a:t>SERVICIO NACIONAL FORES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CL" sz="1800" spc="-1" strike="noStrike" u="sng">
                <a:solidFill>
                  <a:srgbClr val="fafd00"/>
                </a:solidFill>
                <a:uFillTx/>
                <a:latin typeface="Times New Roman"/>
              </a:rPr>
              <a:t>Fun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800" spc="-1" strike="noStrike">
                <a:solidFill>
                  <a:srgbClr val="fafd00"/>
                </a:solidFill>
                <a:latin typeface="Arial"/>
              </a:rPr>
              <a:t>Aplicar y fiscalizar las normas legales y reglamentari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1800" spc="-1" strike="noStrike">
                <a:solidFill>
                  <a:srgbClr val="fafd00"/>
                </a:solidFill>
                <a:latin typeface="Arial"/>
              </a:rPr>
              <a:t>Ejercer la tuición y administración del Sistema Nacional de Areas Silvestres Protegidas del Estado (SNASPE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1800" spc="-1" strike="noStrike">
                <a:solidFill>
                  <a:srgbClr val="fafd00"/>
                </a:solidFill>
                <a:latin typeface="Arial"/>
              </a:rPr>
              <a:t>Proponer e informar la afectación y desafectación de áreas silvestres protegida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1800" spc="-1" strike="noStrike">
                <a:solidFill>
                  <a:srgbClr val="fafd00"/>
                </a:solidFill>
                <a:latin typeface="Arial"/>
              </a:rPr>
              <a:t>Aprobar y fiscalizar los planes de manejo de las unidades del SNASPE y SNASPP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1800" spc="-1" strike="noStrike">
                <a:solidFill>
                  <a:srgbClr val="fafd00"/>
                </a:solidFill>
                <a:latin typeface="Arial"/>
              </a:rPr>
              <a:t>Otorgar concesiones en las unidades del SNASPE, siempre que sean compatibles con los fines de las misma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1800" spc="-1" strike="noStrike">
                <a:solidFill>
                  <a:srgbClr val="fafd00"/>
                </a:solidFill>
                <a:latin typeface="Arial"/>
              </a:rPr>
              <a:t>Programar acciones que propendan a la protección de los recursos forestales (incendios, plagas, etc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6501"/>
            </a:gs>
            <a:gs pos="100000">
              <a:srgbClr val="1831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39720" y="452520"/>
            <a:ext cx="7894800" cy="45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400" rIns="122400" tIns="61200" bIns="61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fc0128"/>
                </a:solidFill>
                <a:latin typeface="Arial"/>
              </a:rPr>
              <a:t>SERVICIO NACIONAL FORES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CL" sz="1800" spc="-1" strike="noStrike" u="sng">
                <a:solidFill>
                  <a:srgbClr val="fafd00"/>
                </a:solidFill>
                <a:uFillTx/>
                <a:latin typeface="Times New Roman"/>
              </a:rPr>
              <a:t>Funciones</a:t>
            </a:r>
            <a:r>
              <a:rPr b="0" i="1" lang="es-CL" sz="1800" spc="-1" strike="noStrike">
                <a:solidFill>
                  <a:srgbClr val="fafd00"/>
                </a:solidFill>
                <a:latin typeface="Times New Roman"/>
              </a:rPr>
              <a:t> (continuació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1800" spc="-1" strike="noStrike">
                <a:solidFill>
                  <a:srgbClr val="fafd00"/>
                </a:solidFill>
                <a:latin typeface="Arial"/>
              </a:rPr>
              <a:t>Encomendar la ejecución de programas especiales (p.ej.  manejo de cuencas, protección de zonas áridas y semiáridas, etc.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1800" spc="-1" strike="noStrike">
                <a:solidFill>
                  <a:srgbClr val="fafd00"/>
                </a:solidFill>
                <a:latin typeface="Arial"/>
              </a:rPr>
              <a:t>Emitir su opinión en materia de estudios de impacto ambiental (Ley 19.300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1800" spc="-1" strike="noStrike">
                <a:solidFill>
                  <a:srgbClr val="fafd00"/>
                </a:solidFill>
                <a:latin typeface="Arial"/>
              </a:rPr>
              <a:t>Encomendar la ejecución de programas destinados a fomentar el desarrollo forestal, impulsando actividades de investigación, asistencia técnica, capacitación y transferencia tecnológic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6501"/>
            </a:gs>
            <a:gs pos="100000">
              <a:srgbClr val="1831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563400" y="452520"/>
            <a:ext cx="8047080" cy="64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400" rIns="122400" tIns="61200" bIns="61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fc0128"/>
                </a:solidFill>
                <a:latin typeface="Arial"/>
              </a:rPr>
              <a:t>SERVICIO NACIONAL FORES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800" spc="-1" strike="noStrike" u="sng">
                <a:solidFill>
                  <a:srgbClr val="fafd00"/>
                </a:solidFill>
                <a:uFillTx/>
                <a:latin typeface="Times New Roman"/>
              </a:rPr>
              <a:t>Atribu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800" spc="-1" strike="noStrike">
                <a:solidFill>
                  <a:srgbClr val="fafd00"/>
                </a:solidFill>
                <a:latin typeface="Arial"/>
              </a:rPr>
              <a:t>Los funcionarios del Servicio que tengan la calidad de inspectores podrán ingresar a los predios forestales, centros de acopio o de transformación industri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1800" spc="-1" strike="noStrike">
                <a:solidFill>
                  <a:srgbClr val="fafd00"/>
                </a:solidFill>
                <a:latin typeface="Arial"/>
              </a:rPr>
              <a:t>El Servicio podrá requerir el auxilio de la fuerza públic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800" spc="-1" strike="noStrike">
                <a:solidFill>
                  <a:srgbClr val="fafd00"/>
                </a:solidFill>
                <a:latin typeface="Arial"/>
              </a:rPr>
              <a:t>Los hechos consignados en las denuncias se presumirán verdaderos, sin perjuicio de la actividad probatoria del denunciado y del Tribunal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1800" spc="-1" strike="noStrike">
                <a:solidFill>
                  <a:srgbClr val="fafd00"/>
                </a:solidFill>
                <a:latin typeface="Arial"/>
              </a:rPr>
              <a:t>Las fotografías aéreas, sensores remotos, imágenes satelitales, cartografía georeferenciada y demás medios de percepción remota sobre los predios forestales, tendrán el mérito probatorio de un informe de perito, respecto de los hechos que se constaten en ell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1800" spc="-1" strike="noStrike">
                <a:solidFill>
                  <a:srgbClr val="fafd00"/>
                </a:solidFill>
                <a:latin typeface="Arial"/>
              </a:rPr>
              <a:t>La declaración de una norma de aplicación obligatoria en materia de prevención y de protección de incendios forestales, impondrá la obligación de poner en práctica las medidas que la resolución indiqu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6T16:45:20Z</dcterms:created>
  <dc:creator/>
  <dc:description/>
  <dc:language>en-US</dc:language>
  <cp:lastModifiedBy>Corporación Nacional Forestal</cp:lastModifiedBy>
  <cp:lastPrinted>1998-12-01T16:23:26Z</cp:lastPrinted>
  <dcterms:modified xsi:type="dcterms:W3CDTF">1999-04-28T02:51:28Z</dcterms:modified>
  <cp:revision>78</cp:revision>
  <dc:subject/>
  <dc:title>Sin título de diapositiva</dc:title>
</cp:coreProperties>
</file>