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A19-2AE6-4F2C-8A9C-127E5311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4B4-EF93-447F-ACF1-B3E43B8E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7DA-2616-4D59-A03B-062576B3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762-943C-40A8-ACD5-F58DF06E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736-734C-4015-9497-4A4E1960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554-F970-4799-9802-7CBD65F8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818-27A0-48E6-B31B-B4E55FFB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E91-240A-4639-8D1B-C6863C7E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7A8-6630-4AEF-A4DD-3B847AF4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471-62CE-4DA8-BC38-0105A5E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0E1-B142-411F-A017-5BE61626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D7D-BC01-4D99-A9A6-240BDA2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F763-5C11-4D14-A7A1-032ECF522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TICA 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osque un Servido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r a la Comunidad Ru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tivos y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ociatividad PYMPF y PYM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ferir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adación de Suelos y Desert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Nacional Luch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tilidad , Erosión, Compac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Áreas Mediante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Internacional Cono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stro de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ntari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nitoreo Infor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Plagas y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ón Flora y Fauna en Peligro de Con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 Instituciones 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dos para Investi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onalizar Recursos para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 de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gurar una Producción Limp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dades de Apo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raestructura ( Vial, Ferroviaria y Portua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laciones Internacionales ( Organismos, Convenciones ,Paneles, Fo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mbito o Marco Legal ( Implementar Legislación Forest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ducación ,Capacitación y Estabilidad Laboral ( nivel de vida , ambiente de trabajo, org. gremi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ector público debe ser representado den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 Estado mediante una organización de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y estable en el tiempo, la cual perm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ar al país, a través  de proyecto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 y fomento de la actividad, la 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áreas silvestres, la protección de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y la fiscalización de la normativa v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ios Manejo Suste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ción Madera y Bienes No Mad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Ciclo Hidr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ción y Conservación de Su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Gaseoso, Purificación del Aire y Fijación del Carb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de la Temperatura Terr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guardo de la Biodiver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eación y Belleza Esc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ión Socio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ol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velar por el derecho de la población a vivir en medio libre de contaminación y tutelar por la conservación de la natural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preocuparse porque las actividades económicas se realicen sin comprometer la sustentabilidad de los ecosistemas forestales, teniendo presente que está frente a recursos finitos y a una demanda cre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anejo Sostenible de los Ecosistemas Foresta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La Vis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N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Pla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rotección de los Recursos Fores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de Suelos y Lucha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ción y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orte al Desarrollo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Temas Fundamen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servación y Pre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ar las Plantaciones Forestales y Uso Integral de la Cap. de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de los Ecosistemas Forestales ante Agentes Destr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orporar a la Comunidad Rural al Desarrollo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degradación de los Suelos y el Combate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tastro Permanente de los Recursos Forestales y el Estado de Con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ción y Preserv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ar el SNA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de las Reserva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ción de Áreas Silvestres Protegidas Priv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 del Ecotu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ejo Bosques Templados y Bo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 de Planes de Mane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 Pequeños Propie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mento Plantaciones y Uso Integral del Si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entivos a la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Contra Plagas y Enferm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ódigos de Man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ción de los Ecosistemas Forestal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dio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imales y 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iesgo de Introducción Pla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4:36:21Z</dcterms:created>
  <dc:creator>uco2002</dc:creator>
  <dc:description/>
  <dc:language>en-US</dc:language>
  <cp:lastModifiedBy>uco2002</cp:lastModifiedBy>
  <dcterms:modified xsi:type="dcterms:W3CDTF">2004-09-04T08:25:06Z</dcterms:modified>
  <cp:revision>9</cp:revision>
  <dc:subject/>
  <dc:title>POLITICA FORESTAL</dc:title>
</cp:coreProperties>
</file>