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A64-B435-4969-87DC-AA231D90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B94-0F9B-4E3D-9947-05089F6E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8DA-9E54-4582-8340-8BAA29FE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C79-1220-43B3-A102-F2E5DE01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3BC-79C7-4A36-8705-9B8F13D8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31B-74A1-4198-A1A2-19789597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14A-964D-4679-BEA7-06308926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E7C-DC00-4E70-B0FB-772C0BDF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826-ABD2-454E-BE44-F955DB8B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0A0-A211-4D40-9E51-9526CC33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927-BBD4-41E0-AD0E-D006A2C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C0B-1730-4103-B95B-E9B79128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4171-7133-4424-8DCD-18A95BCFF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TICA 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osque un Servido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r a la Comunidad Ru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tivos y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ociatividad PYMPF y PYM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nsferir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adación de Suelos y Desert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Nacional Luch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tilidad , Erosión, Compac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Áreas Mediante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Internacional Cono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stro de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ntari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nitoreo Infor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Plagas y 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ón Flora y Fauna en Peligro de Con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 Instituciones 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dos para Investi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onalizar Recursos para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 del Sector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gurar una Producción Limp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dades de Apo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raestructura ( Vial, Ferroviaria y Portua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laciones Internacionales ( Organismos, Convenciones ,Paneles, Fo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mbito o Marco Legal ( Implementar Legislación Forest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ducación ,Capacitación y Estabilidad Laboral ( nivel de vida , ambiente de trabajo, org. gremi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ector público debe ser representado den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 Estado mediante una organización de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y estable en el tiempo, la cual perm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ar al país, a través  de proyecto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 y fomento de la actividad, la 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áreas silvestres, la protección de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s y la fiscalización de la normativa v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ios Manejo Suste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ción Madera y Bienes No Mad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Ciclo Hidr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ción y Conservación de Su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ambio Gaseoso, Purificación del Aire y Fijación del Carb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ión de la Temperatura Terr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guardo de la Biodiver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eación y Belleza Esc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ión Socio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ol del Es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velar por el derecho de la población a vivir en medio libre de contaminación y tutelar por la conservación de la natural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stado debe preocuparse porque las actividades económicas se realicen sin comprometer la sustentabilidad de los ecosistemas forestales, teniendo presente que está frente a recursos finitos y a una demanda cre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anejo Sostenible de los Ecosistemas Foresta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La Vis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N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Bosques Pla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rotección de los Recursos Fores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peración de Suelos y Lucha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ción y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orte al Desarrollo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Temas Fundamen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servación y Preservación de la Diversidad Bi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ar las Plantaciones Forestales y Uso Integral de la Cap. de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de los Ecosistemas Forestales ante Agentes Destr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orporar a la Comunidad Rural al Desarrollo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degradación de los Suelos y el Combate Contra la Deser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tastro Permanente de los Recursos Forestales y el Estado de Con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investigación Fore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Desarrollo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ción y Preservación 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ar el SNAS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de las Reserva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ción de Áreas Silvestres Protegidas Priv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 del Ecotu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ción Sostenible del Bosque N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ejo Bosques Templados y Bo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 de Planes de Mane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tación Pequeños Propie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mento Plantaciones y Uso Integral del Si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entivos a la For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 Contra Plagas y Enferm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ódigos de Man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mento de la Invest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ción de los Ecosistemas Forestal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endios Fores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imales y 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iesgo de Introducción Pla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4:36:21Z</dcterms:created>
  <dc:creator>uco2002</dc:creator>
  <dc:description/>
  <dc:language>en-US</dc:language>
  <cp:lastModifiedBy>uco2002</cp:lastModifiedBy>
  <dcterms:modified xsi:type="dcterms:W3CDTF">2004-09-04T08:25:06Z</dcterms:modified>
  <cp:revision>9</cp:revision>
  <dc:subject/>
  <dc:title>POLITICA FORESTAL</dc:title>
</cp:coreProperties>
</file>