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A64-5AF4-4E89-88FA-8427D221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3F1-52ED-423B-9410-771F19D8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817-DFD6-4680-B3CA-0C213654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CD60-98C1-43D5-B61D-2B4DFA9D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576-1052-4EFB-886E-0862048A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C81-3B2A-429C-BD1C-F8B736DC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447B-77D4-424E-9787-7FE4676D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CE5-009E-46C8-914D-098625C2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E03-AECB-4201-AE2A-1FB3B3DA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F74A-5B93-40DB-AAC2-2A4C4151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1E2-CF46-4C47-89C2-35610C2D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B8D-899A-4BF6-8CF0-559A23EF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1B2B-B3AC-48CE-B4ED-2ACFEC1D4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TICA 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bosque un Servidor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r a la Comunidad Ru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entivos y Finan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ociatividad PYMPF y PYM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nsferir Tecnolog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adación de Suelos y Desert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Nacional Luch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rtilidad , Erosión, Compac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peración Áreas Mediante For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ambio Internacional Cono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stro de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ventari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nitoreo Infor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cción de Plagas y Enferm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ción Flora y Fauna en Peligro de Con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vestigación Fores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 Instituciones  de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dos para Investi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onalizar Recursos para la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Desarrollo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abilidad del Sector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egurar una Producción Limp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dades de Apo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raestructura ( Vial, Ferroviaria y Portua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laciones Internacionales ( Organismos, Convenciones ,Paneles, Fo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mbito o Marco Legal ( Implementar Legislación Foresta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ducación ,Capacitación y Estabilidad Laboral ( nivel de vida , ambiente de trabajo, org. gremia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ituci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sector público debe ser representado den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 Estado mediante una organización de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el y estable en el tiempo, la cual permi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ar al país, a través  de proyecto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 y fomento de la actividad, la 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áreas silvestres, la protección de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os y la fiscalización de la normativa v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ios Manejo Suste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ción Madera y Bienes No Mad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ción Ciclo Hidr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ción y Conservación de Su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ambio Gaseoso, Purificación del Aire y Fijación del Carb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ción de la Temperatura Terr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guardo de la Biodiver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eación y Belleza Escé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ión Socioeconó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ol del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stado debe velar por el derecho de la población a vivir en medio libre de contaminación y tutelar por la conservación de la natural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stado debe preocuparse porque las actividades económicas se realicen sin comprometer la sustentabilidad de los ecosistemas forestales, teniendo presente que está frente a recursos finitos y a una demanda cre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anejo Sostenible de los Ecosistemas Foresta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La Vis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rvación de la Diversidad Bi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Bosques N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Bosques Plan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Protección de los Recursos Fores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peración de Suelos y Lucha contra l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ción y Di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orte al Desarrollo R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str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Temas Fundament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servación y Preservación de la Diversidad Bi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tilización Sostenible del Bosque N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mentar las Plantaciones Forestales y Uso Integral de la Cap. de Si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tección de los Ecosistemas Forestales ante Agentes Destr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orporar a la Comunidad Rural al Desarrollo Fore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degradación de los Suelos y el Combate Contra l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tastro Permanente de los Recursos Forestales y el Estado de Cons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investigación Fore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Desarrollo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ción y Preservación 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ar el SNAS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jo de las Reservas Fores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ción de Áreas Silvestres Protegidas Priv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  del Ecotu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ción Sostenible del Bosque N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ejo Bosques Templados y Bo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 de Planes de Mane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tación Pequeños Propiet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mento Plantaciones y Uso Integral del Si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entivos a la For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tección Contra Plagas y Enferme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ódigos de Mane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ción de los Ecosistemas Forestal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endios Fores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s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imales y 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iesgo de Introducción Pla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04:36:21Z</dcterms:created>
  <dc:creator>uco2002</dc:creator>
  <dc:description/>
  <dc:language>en-US</dc:language>
  <cp:lastModifiedBy>uco2002</cp:lastModifiedBy>
  <dcterms:modified xsi:type="dcterms:W3CDTF">2004-09-04T08:25:06Z</dcterms:modified>
  <cp:revision>9</cp:revision>
  <dc:subject/>
  <dc:title>POLITICA FORESTAL</dc:title>
</cp:coreProperties>
</file>