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4B75-ACE8-4062-AD47-BED76454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740-092A-41D3-B6D3-FE71E085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93E-62CC-45AF-B395-F8E2D4C8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2138-4885-4BEE-8FE1-16F2D5B5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8BBE-8FEB-4667-8F8F-B32CBB0D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8E7-5D0C-4080-B1A1-66B565E1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57D-95BD-4BAF-8ACE-F9F498BC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D70-D8C6-4B18-81EB-9CE63C82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50F-A880-40FE-8E51-B990F933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9C1B-3C35-43F7-90F4-61C915B6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495-E263-46B4-B2A3-FEA492DD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2553-6974-4E0C-B365-85A0A442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C614-FF10-4C00-A408-0568AD947FAC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LITICA AMBIENTAL CHILEN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ROMOVER LA SUSTENTABILIDAD AMBIENTA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CIONALIDA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forzar la institucionalidad para lograr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Potenciar dimensión region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Capacidad de coordinación de servicios público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Fortalecer capacidad fiscalizadora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Implementar sistema información ambient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GISLACIÓ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visar y modificar la legislación ambiental para lograr un código, integrador, coherente y eficaz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gualmente, incorporar nuevos instrumentos de gestión, como incentivos económicos y mecanismos de auto regulació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TIVO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EJORAR LA CALIDAD DE VIDA DE LOS CIUDADANOS, GARANTIZANDO UN AMBIENTE LIBRE DE CONTAMINACIÓ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 PROTECCIÓN DEL MEDIO AMBIENT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 PRESERVACIÓN DE LA NATURALEZ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 CONSERVACIÓN DEL PATRIMONIO AMBIENTAL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BJETIVOS ESPECIFIC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on siete los objetivos específico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os primeros tres resguardan la salud y calidad de vida de las personas y protegen el medio ambiente y los otros cuatros son esenciales en procesos: sociales, productivos, institucionales y legales para alcanzar el gran objetivo genera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Recuperar y Mejorar la Calidad Ambienta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Prevenir el Deterioro Ambienta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omentar el Uso Sustentable de los Recursos  Naturale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corporar  Consideraciones Ambientales en el Sector Productiv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volucrar a la Ciudadanía  en la Gestión Ambienta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ortalecer la Institucionalidad Ambiental Nacional y Regiona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Perfeccionar  la Legislación y Desarrollo de Nuevos Instrumentos de Gestión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CUPERAR Y MEJORAR LA CALIDAD AMBIENT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os principales instrumentos son 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NORMAS DE CALIDAD AMBIENT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PLANES DE DESCONTAMINACIÓ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POLÍTICAS AMBIENTALES ESPECÍFICA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VENIR EL DETERIORO AMBIENT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Los principales instrumentos son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Sistema de evaluación impacto ambient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Educación ambient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Componente ambiental en políticas pública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Normas de calidad y de emisione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Planes de prevenció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Investigación científica- tecnológica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TECCIÓN PATRIMONIO 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SO SUSTENTABLE DE LOS RECURSOS NATURAL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Los principales instrumentos son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-- Marco regulatorio de la ley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-- Medidas de conservació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-- Manejo sustentable del territorio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-- Estudio de ecosistema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DUCTIV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teresa introducir consideraciones ambientales mediante diseño e implementación de certificación y fomento de la producción limpia, contribuyendo a la inserción competitiva en los mercados internacionale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IUDADAN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nducir procesos  de participación ciudadana en el ámbito de la #19300,ponderando adecuadamente sus planteamiento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demás, generar programas para la modificación de conductas y prácticas conducentes al cuidado del medio ambiente por el ciudadano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7:33:44Z</dcterms:created>
  <dc:creator>uco2002</dc:creator>
  <dc:description/>
  <dc:language>en-US</dc:language>
  <cp:lastModifiedBy>uco2002</cp:lastModifiedBy>
  <dcterms:modified xsi:type="dcterms:W3CDTF">2004-08-28T02:09:35Z</dcterms:modified>
  <cp:revision>2</cp:revision>
  <dc:subject/>
  <dc:title>POLITICA AMBIENTAL CHILENA</dc:title>
</cp:coreProperties>
</file>