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9EA-0968-4E41-93D9-7BBF8D07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F95-7612-49C5-B99B-AF338E1F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5A3-FC23-43E4-991C-536079F7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6C2-31C3-4647-ACD3-0671E1A8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C303-29F8-4DDA-A998-B9392848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752-1DB0-4DC5-B4EB-535DD629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407-07CC-4EDB-A6B2-C7C3A5A3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BA9-70A3-4D73-9CD8-FB7860C9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AF2-85D4-4CE3-9E4E-EB5FFDAE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861-A32A-4166-A32D-5003D55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05E-4235-448C-AD9C-85EEA96A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324-14C7-4D66-BAEB-33017306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2DB4-6150-4E79-BE14-8FE11EA7E4D4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TICA AMBIENTAL CHILE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MOVER LA SUSTENTABILIDAD AMBIENT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CIONALID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forzar la institucionalidad para lograr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tenciar dimensión region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apacidad de coordinación de servicios públic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Fortalecer capacidad fiscalizador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mplementar sistema inform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SL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visar y modificar la legislación ambiental para lograr un código, integrador, coherente y efica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gualmente, incorporar nuevos instrumentos de gestión, como incentivos económicos y mecanismos de auto regulació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EJORAR LA CALIDAD DE VIDA DE LOS CIUDADANOS, GARANTIZANDO UN AMBIENTE LIBRE DE CONTAMINACIÓ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OTECCIÓN DEL MEDIO AMBIEN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ESERVACIÓN DE LA NATURALEZ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CONSERVACIÓN DEL PATRIMONIO AMBIENTA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BJETIVOS ESPECIFIC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on siete los objetivos específico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meros tres resguardan la salud y calidad de vida de las personas y protegen el medio ambiente y los otros cuatros son esenciales en procesos: sociales, productivos, institucionales y legales para alcanzar el gran objetivo gener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ecuperar y Mejorar la Calidad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revenir el Deterioro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mentar el Uso Sustentable de los Recursos  Natural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corporar  Consideraciones Ambientales en el Sector Productiv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volucrar a la Ciudadanía  en la Gestión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rtalecer la Institucionalidad Ambiental Nacional y Region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erfeccionar  la Legislación y Desarrollo de Nuevos Instrumentos de Gestió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UPERAR Y MEJORAR LA CALIDAD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ncipales instrumentos son 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DESCONTAMIN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LÍTICAS AMBIENTALES ESPECÍF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VENIR EL DETERIORO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s principales instrumentos so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Sistema de evaluación impacto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Educ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omponente ambiental en políticas públ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y de emision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preven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nvestigación científica- tecnológica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TECCIÓN PATRIMONIO 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O SUSTENTABLE DE LOS RECURSOS NATUR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Los principales instrumentos son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rco regulatorio de la le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edidas de conserv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nejo sustentable del territori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Estudio de ecosistem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DUCTIV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teresa introducir consideraciones ambientales mediante diseño e implementación de certificación y fomento de la producción limpia, contribuyendo a la inserción competitiva en los mercados internacional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IUDADA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ducir procesos  de participación ciudadana en el ámbito de la #19300,ponderando adecuadamente sus planteamient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demás, generar programas para la modificación de conductas y prácticas conducentes al cuidado del medio ambiente por el ciudadan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7:33:44Z</dcterms:created>
  <dc:creator>uco2002</dc:creator>
  <dc:description/>
  <dc:language>en-US</dc:language>
  <cp:lastModifiedBy>uco2002</cp:lastModifiedBy>
  <dcterms:modified xsi:type="dcterms:W3CDTF">2004-08-28T02:09:35Z</dcterms:modified>
  <cp:revision>2</cp:revision>
  <dc:subject/>
  <dc:title>POLITICA AMBIENTAL CHILENA</dc:title>
</cp:coreProperties>
</file>