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A15A-E7D7-41F9-AC91-A26998536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F4B-8A85-412C-BBDD-AD108BB6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11E-FE4B-488E-86B8-AD85A54F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D0-3ED5-4507-B09A-C1948AF5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1376-7C1C-428A-AB9D-6251305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49E-56AD-4483-A96A-CD243A05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57DE-C86A-47C6-BC36-C7DD6332F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D82-1D0F-4F83-ADAE-8CCCA0DC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6BA2-6F24-4FE5-9238-F94719D95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0E81-A451-406A-AF84-A2597354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0A5-66BD-4DE0-A0B7-6DAA3FD9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4A6C-785B-4965-A2D1-BF223E33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6428-0CFE-45FE-A9B1-473D97B48705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LITICA AMBIENTAL CHILEN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OMOVER LA SUSTENTABILIDAD AMBIENT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CIONALIDAD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forzar la institucionalidad para lograr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tenciar dimensión region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apacidad de coordinación de servicios públic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Fortalecer capacidad fiscalizadora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mplementar sistema inform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GISLACIÓN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visar y modificar la legislación ambiental para lograr un código, integrador, coherente y efica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gualmente, incorporar nuevos instrumentos de gestión, como incentivos económicos y mecanismos de auto regulación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MEJORAR LA CALIDAD DE VIDA DE LOS CIUDADANOS, GARANTIZANDO UN AMBIENTE LIBRE DE CONTAMINACIÓN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OTECCIÓN DEL MEDIO AMBIEN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PRESERVACIÓN DE LA NATURALEZ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LA CONSERVACIÓN DEL PATRIMONIO AMBIENT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BJETIVOS ESPECIFIC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on siete los objetivos específico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meros tres resguardan la salud y calidad de vida de las personas y protegen el medio ambiente y los otros cuatros son esenciales en procesos: sociales, productivos, institucionales y legales para alcanzar el gran objetivo genera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ecuperar y Mejorar la Calidad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revenir el Deterioro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mentar el Uso Sustentable de los Recursos  Natural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corporar  Consideraciones Ambientales en el Sector Productivo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Involucrar a la Ciudadanía  en la Gestión Ambient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ortalecer la Institucionalidad Ambiental Nacional y Regional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Perfeccionar  la Legislación y Desarrollo de Nuevos Instrumentos de Gestió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ECUPERAR Y MEJORAR LA CALIDAD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s principales instrumentos son 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DESCONTAMIN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OLÍTICAS AMBIENTALES ESPECÍF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EVENIR EL DETERIORO AMBIENTAL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Los principales instrumentos son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Sistema de evaluación impacto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Educación ambiental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Componente ambiental en políticas públic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Normas de calidad y de emision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Planes de preven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-- Investigación científica- tecnológica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TECCIÓN PATRIMONIO Y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O SUSTENTABLE DE LOS RECURSOS NATURAL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Los principales instrumentos son: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rco regulatorio de la ley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edidas de conservació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Manejo sustentable del territori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-- Estudio de ecosistema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RODUC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nteresa introducir consideraciones ambientales mediante diseño e implementación de certificación y fomento de la producción limpia, contribuyendo a la inserción competitiva en los mercados internacionale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IUDADAN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onducir procesos  de participación ciudadana en el ámbito de la #19300,ponderando adecuadamente sus planteamientos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demás, generar programas para la modificación de conductas y prácticas conducentes al cuidado del medio ambiente por el ciudadano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07:33:44Z</dcterms:created>
  <dc:creator>uco2002</dc:creator>
  <dc:description/>
  <dc:language>en-US</dc:language>
  <cp:lastModifiedBy>uco2002</cp:lastModifiedBy>
  <dcterms:modified xsi:type="dcterms:W3CDTF">2004-08-28T02:09:35Z</dcterms:modified>
  <cp:revision>2</cp:revision>
  <dc:subject/>
  <dc:title>POLITICA AMBIENTAL CHILENA</dc:title>
</cp:coreProperties>
</file>