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03F-0767-4935-97AE-BFA0EE5A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5C3-27A4-4E1A-884E-4AADF652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F1F-0075-49D1-8844-7FE1EC7E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7EE-B003-4057-80D0-1B4AF962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318-D6E8-4369-980A-DB700F73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2E3-1772-4B4E-B2E1-EF66BBB8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681-22A9-4C4A-BC8F-AD9391C2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91C-A9FF-46F0-8FD7-ABA4AB3B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3A2-8385-44A2-9A89-B9C6010F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8406-B46E-4602-AA60-64105CA9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45F6-F1CE-4569-906D-7B7C800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E9B-10E3-417E-8570-7AC3B457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261A-9DBD-439F-A7CD-1D7C9D0D80D6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TICA AMBIENTAL CHILE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OMOVER LA SUSTENTABILIDAD AMBIENTA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CIONALID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forzar la institucionalidad para lograr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otenciar dimensión region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Capacidad de coordinación de servicios público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Fortalecer capacidad fiscalizador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Implementar sistema información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ISL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visar y modificar la legislación ambiental para lograr un código, integrador, coherente y eficaz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gualmente, incorporar nuevos instrumentos de gestión, como incentivos económicos y mecanismos de auto regulació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EJORAR LA CALIDAD DE VIDA DE LOS CIUDADANOS, GARANTIZANDO UN AMBIENTE LIBRE DE CONTAMINACIÓ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PROTECCIÓN DEL MEDIO AMBIEN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PRESERVACIÓN DE LA NATURALEZ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CONSERVACIÓN DEL PATRIMONIO AMBIENTA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BJETIVOS ESPECIFIC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on siete los objetivos específico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s primeros tres resguardan la salud y calidad de vida de las personas y protegen el medio ambiente y los otros cuatros son esenciales en procesos: sociales, productivos, institucionales y legales para alcanzar el gran objetivo genera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ecuperar y Mejorar la Calidad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revenir el Deterioro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mentar el Uso Sustentable de los Recursos  Natural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corporar  Consideraciones Ambientales en el Sector Productiv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volucrar a la Ciudadanía  en la Gestión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rtalecer la Institucionalidad Ambiental Nacional y Region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erfeccionar  la Legislación y Desarrollo de Nuevos Instrumentos de Gestió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CUPERAR Y MEJORAR LA CALIDAD AMBIEN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s principales instrumentos son 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NORMAS DE CALIDAD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LANES DE DESCONTAMINA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OLÍTICAS AMBIENTALES ESPECÍFIC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VENIR EL DETERIORO AMBIEN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os principales instrumentos so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Sistema de evaluación impacto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Educación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Componente ambiental en políticas públic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Normas de calidad y de emision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lanes de preven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Investigación científica- tecnológica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TECCIÓN PATRIMONIO 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O SUSTENTABLE DE LOS RECURSOS NATUR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Los principales instrumentos son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arco regulatorio de la ley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edidas de conserva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anejo sustentable del territori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Estudio de ecosistem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DUCTIV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teresa introducir consideraciones ambientales mediante diseño e implementación de certificación y fomento de la producción limpia, contribuyendo a la inserción competitiva en los mercados internacional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IUDADA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ducir procesos  de participación ciudadana en el ámbito de la #19300,ponderando adecuadamente sus planteamiento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demás, generar programas para la modificación de conductas y prácticas conducentes al cuidado del medio ambiente por el ciudadan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7:33:44Z</dcterms:created>
  <dc:creator>uco2002</dc:creator>
  <dc:description/>
  <dc:language>en-US</dc:language>
  <cp:lastModifiedBy>uco2002</cp:lastModifiedBy>
  <dcterms:modified xsi:type="dcterms:W3CDTF">2004-08-28T02:09:35Z</dcterms:modified>
  <cp:revision>2</cp:revision>
  <dc:subject/>
  <dc:title>POLITICA AMBIENTAL CHILENA</dc:title>
</cp:coreProperties>
</file>