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5DA-1E2E-46B9-A342-AFE804AF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439-3B77-4E00-8EAC-9582CD6B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2AB-15FA-436D-AB5F-C718042C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97B-F8B7-4081-895D-58F54D12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EB8-14B9-420F-B789-AB743FC0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B6E-C723-40A4-A6BA-904B996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4C2-C7A5-4E3D-8EFD-B1A9C22D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EC3-1556-4004-89A9-441C97B2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96F-89EE-4BF9-9BE4-ABD12A5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4E4-52AD-45BF-BB19-5715E53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E86-A803-44E2-8301-43AB9A46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056-AE3A-437B-9435-90DCC05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11DB-7C8E-4D18-940D-D4DB97CA27E0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ICA AMBIENTAL CHILE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MOVER LA SUSTENTABILIDAD AMBIENT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CION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forzar la institucionalidad para lograr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tenciar dimensión region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apacidad de coordinación de servicios públic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Fortalecer capacidad fiscalizador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mplementar sistema inform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SL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sar y modificar la legislación ambiental para lograr un código, integrador, coherente y efica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gualmente, incorporar nuevos instrumentos de gestión, como incentivos económicos y mecanismos de auto regulació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EJORAR LA CALIDAD DE VIDA DE LOS CIUDADANOS, GARANTIZANDO UN AMBIENTE LIBRE DE CONTAMINACIÓ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OTECCIÓN DEL MEDIO AMBIEN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ESERVACIÓN DE LA NATURALEZ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CONSERVACIÓN DEL PATRIMONIO AMBIENT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TIVOS ESPECIF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on siete los objetivos específico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meros tres resguardan la salud y calidad de vida de las personas y protegen el medio ambiente y los otros cuatros son esenciales en procesos: sociales, productivos, institucionales y legales para alcanzar el gran objetivo gener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ecuperar y Mejorar la Calidad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revenir el Deterioro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mentar el Uso Sustentable de los Recursos  Natural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corporar  Consideraciones Ambientales en el Sector Productiv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volucrar a la Ciudadanía  en la Gestión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rtalecer la Institucionalidad Ambiental Nacional y Region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erfeccionar  la Legislación y Desarrollo de Nuevos Instrumentos de Gestió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UPERAR Y MEJORAR LA CALIDAD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ncipales instrumentos son 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DESCONTAMIN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LÍTICAS AMBIENTALES ESPECÍF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NIR EL DETERIORO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s principales instrumentos so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Sistema de evaluación impacto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Educ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omponente ambiental en políticas públ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y de emision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preven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nvestigación científica- tecnológica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TECCIÓN PATRIMONIO 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O SUSTENTABLE DE LOS RECURSOS NATUR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Los principales instrumentos son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rco regulatorio de la le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edidas de conserv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nejo sustentable del territori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Estudio de ecosistem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TIV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teresa introducir consideraciones ambientales mediante diseño e implementación de certificación y fomento de la producción limpia, contribuyendo a la inserción competitiva en los mercados internacional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IUDADA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ducir procesos  de participación ciudadana en el ámbito de la #19300,ponderando adecuadamente sus planteamient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demás, generar programas para la modificación de conductas y prácticas conducentes al cuidado del medio ambiente por el ciudadan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7:33:44Z</dcterms:created>
  <dc:creator>uco2002</dc:creator>
  <dc:description/>
  <dc:language>en-US</dc:language>
  <cp:lastModifiedBy>uco2002</cp:lastModifiedBy>
  <dcterms:modified xsi:type="dcterms:W3CDTF">2004-08-28T02:09:35Z</dcterms:modified>
  <cp:revision>2</cp:revision>
  <dc:subject/>
  <dc:title>POLITICA AMBIENTAL CHILENA</dc:title>
</cp:coreProperties>
</file>