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109-F88B-41D7-BC76-9285D7BD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73B-54EA-4EBD-AE52-2B3AB4AE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2E6-9F91-4B57-9EF9-0C0A7385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442-CADD-4F25-815D-30851C3D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0DD-6E87-42F6-BA0C-DDC0D8A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C5A-1029-4065-B036-433373B4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406-2C92-4406-985E-543DDB7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C9D-50E2-42FE-A6B7-3284A1A1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8B0-8CCD-4E42-9193-3B8E8A09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FD3-2173-4F2C-AECB-72252D53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421-BB12-4372-86C2-AFB63DB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F45-8960-43A3-98ED-76A61167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BB44-CA8E-40F3-A9CB-4597F40B73F2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l Sector Forest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líticas de Desarrollo – Fomento e  Institucionalida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ección Ejecutiv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scal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Secretaria de Comunicacione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Secretaria de Relaciones Internacionale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de Estudios y Planifica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Control de Gest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de Coordinación Ambien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ecciones Regionales (15 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Forestal ( DEFOR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Protección (GEPRIF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Patrimonio y MA(GEPMA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Control ( DAF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Administración y Finanz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Unidades Asesoras (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egal - Comunicaciones- Control Gestión - Estudios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M. Ambiente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TITUTO FOREST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. Ejecutiva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Asesoria Legal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Unidad Plan.Contro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Sub.Dirección                Unidad Inform y Doc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Unidad Informát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Ad y Fi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Sede Santiago        Sede Concepción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Sede Valdivia Sede Coyhaique   Sede La Seren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PROYECTOS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PROYECTOS           PROYECTOS     PROYECTOS  PROYECTO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2895480" y="1371600"/>
            <a:ext cx="31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sejo Direc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1905120"/>
            <a:ext cx="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69" name=""/>
          <p:cNvSpPr/>
          <p:nvPr/>
        </p:nvSpPr>
        <p:spPr>
          <a:xfrm flipH="1">
            <a:off x="2438280" y="2286000"/>
            <a:ext cx="91440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666520" y="2590920"/>
            <a:ext cx="68580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29200" y="2971440"/>
            <a:ext cx="8380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761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429000"/>
            <a:ext cx="8380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75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4191120" y="243828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572000"/>
            <a:ext cx="7696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3505320"/>
            <a:ext cx="0" cy="1066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4952880"/>
            <a:ext cx="75960" cy="381240"/>
          </a:xfrm>
          <a:prstGeom prst="down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PRIVADAS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( Con fines de lucro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dustrias Forestales ( Industria Primaria y Secundaria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pietarios de Bosques y Terrenos Fores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 Personas naturales y jurídicas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mpresas de Servicios   ( Contratistas – Transportistas- Consultoras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de Educación y Capacita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 PRIVADAS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( Sin fines de lucro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Asociaciones Gremiales ( Corma-  Asimad- Asexma – Cif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Sindicales ( CTF- FSC-CUT 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No Gubernamentales (CIDERE – IMPROA- IER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Ambientales ( CODEFF- CIPMA 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creto Regulación Corta Alerce 1859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creto Protección de Bosque  187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ódigo Penal ( roce a fuego )  187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Ley de Municipalidades 189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eserva de Malleco 1907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S Nº4363 Ley de Bosques 193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réditos Corfo Forestación 1965-1969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venios Coref y Conaf Forestación 69-8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L-701 Fomento Forestal Forestación74-94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rédito Bco.Central Reforestación 75-8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ograma PEFOR 1983-1985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ograma Fondo Solidario Social Fosis 91/95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L- 701 Modificado ( Nº19. 561) 1998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reación de Institucion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versidades  1952 y 1954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Forestal 1961 INF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de Reforestación 1969 CORE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 1972 CONA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AGRICULTUR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bsecretaria Agricul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 ( CONAF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rvicio Agrícola y Ganadero ( SAG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de Desarrollo Agropecu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ficina de Estudios y Políticas Agrari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ndación Innovación Tecnológica ( FIA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de Investigaciones Agropecuari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ECONOMÍ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DE FOMENTO DE LA PRODUC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NTEC Y FDI  ( Estudios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GERENCIA FOMENTO (  Incentivos Desarrollo Productiv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INSTITUTOS FILIALES ( INFOR- CIREN- INTEC – INN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FUNDACIÓN CH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EDUCACIÓ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VERSIDAD DE CHIL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 FACULTA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 CIENCIAS FORESTALES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ISIÓN NACIONAL DE INVESTIGACIÓ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IENTÍFICA  Y TECNLÓGIC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NDECYT – FONDEF 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GPR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ISIÓN NACIONAL DEL MEDIO AMBIENTE (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AMA 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DESARROLLO Y FOMENTO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Manejo y Desarrollo – Fomento – Prospecciones Sectoriales y  Centro de Semillas, Genética e Investigaciones Entomológicas) GEDEF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PROTECCIÓN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 Dpto : Manejo del Fuego, unidad de prevención, unidad operaciones aéreas ) GEPRI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PATRIMONIO Y M.AMBIENTE ( Dptos: Äreas Protegidas y Comunidades- Diversidad Biológica – Gestión ambiental) GEPM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NORMATIVA Y FISCALIZACIÓN FORESTAL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Normativa – Fiscalización ) GENO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ADMINISTRACION Y FINANZAS (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Finanzas- Administración- Informática- ) GEF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.    GERENCIA DE DESARROLLO DE PERSONAS( Dpto recursos humanos y Servicio de bienestar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0:02:16Z</dcterms:created>
  <dc:creator>uco2002</dc:creator>
  <dc:description/>
  <dc:language>en-US</dc:language>
  <cp:lastModifiedBy>GGUERRA</cp:lastModifiedBy>
  <dcterms:modified xsi:type="dcterms:W3CDTF">2008-10-23T21:03:50Z</dcterms:modified>
  <cp:revision>24</cp:revision>
  <dc:subject/>
  <dc:title>El Sector Forestal</dc:title>
</cp:coreProperties>
</file>