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7C8-FD6C-4662-8A58-917CE5A3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132-9ECB-4037-95D6-9195284B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E2A-0307-461C-A56D-BBC455D8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D7D-43E5-49C2-92B0-E912CF59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9B2-D639-4A37-871D-7E1640EA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160-1727-4EA0-ABEA-32F2897A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427-8B61-41F9-B174-DC9FD19F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FB4-ABEA-4F63-BB53-0967AAD5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968-C27D-4043-990B-0C5754E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EB1-96B7-42A1-BAFF-ADDFB739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5D0-5C9A-4477-A684-54B1B1C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C82-AB95-40E7-89DE-62C1452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928A-0D76-42DF-A718-943206AB56DA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l Sector Forest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líticas de Desarrollo – Fomento e  Institucionalida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rección Ejecutiv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iscali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Secretaria de Comunicacione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Secretaria de Relaciones Internacionale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ficina de Estudios y Planificac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ficina Control de Gest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ficina de Coordinación Ambient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recciones Regionales (15 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Forestal ( DEFOR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Protección (GEPRIF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Patrimonio y MA(GEPMA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Control ( DAF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Administración y Finanz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Unidades Asesoras (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egal - Comunicaciones- Control Gestión - Estudios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 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M. Ambiente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STITUTO FOREST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. Ejecutiva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Asesoria Legal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                                  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Unidad Plan.Contro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Sub.Dirección                Unidad Inform y Doc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Unidad Informát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Ad y Fi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Sede Santiago        Sede Concepción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Sede Valdivia Sede Coyhaique   Sede La Serena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PROYECTOS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PROYECTOS           PROYECTOS     PROYECTOS  PROYECTO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2895480" y="1371600"/>
            <a:ext cx="31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sejo Direc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1905120"/>
            <a:ext cx="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69" name=""/>
          <p:cNvSpPr/>
          <p:nvPr/>
        </p:nvSpPr>
        <p:spPr>
          <a:xfrm flipH="1">
            <a:off x="2438280" y="2286000"/>
            <a:ext cx="91440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666520" y="2590920"/>
            <a:ext cx="685800" cy="11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029200" y="2971440"/>
            <a:ext cx="8380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352680"/>
            <a:ext cx="761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429000"/>
            <a:ext cx="8380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75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4191120" y="2438280"/>
            <a:ext cx="75960" cy="685800"/>
          </a:xfrm>
          <a:prstGeom prst="downArrow">
            <a:avLst>
              <a:gd name="adj1" fmla="val 50000"/>
              <a:gd name="adj2" fmla="val 225711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572000"/>
            <a:ext cx="7696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3505320"/>
            <a:ext cx="0" cy="1066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49528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4952880"/>
            <a:ext cx="75960" cy="381240"/>
          </a:xfrm>
          <a:prstGeom prst="down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9528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49528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CIONES PRIVADAS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( Con fines de lucro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dustrias Forestales ( Industria Primaria y Secundaria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pietarios de Bosques y Terrenos Forest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 Personas naturales y jurídicas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mpresas de Servicios   ( Contratistas – Transportistas- Consultoras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ciones de Educación y Capacitac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CIONES  PRIVADAS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( Sin fines de lucro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Asociaciones Gremiales ( Corma-  Asimad- Asexma – Cif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rganizaciones Sindicales ( CTF- FSC-CUT 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rganizaciones No Gubernamentales (CIDERE – IMPROA- IER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rganizaciones Ambientales ( CODEFF- CIPMA 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álisis Históric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creto Regulación Corta Alerce 1859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creto Protección de Bosque  187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ódigo Penal ( roce a fuego )  187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Ley de Municipalidades 189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eserva de Malleco 1907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S Nº4363 Ley de Bosques 193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álisis Históric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réditos Corfo Forestación 1965-1969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venios Coref y Conaf Forestación 69-8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L-701 Fomento Forestal Forestación74-94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rédito Bco.Central Reforestación 75-8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ograma PEFOR 1983-1985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ograma Fondo Solidario Social Fosis 91/95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álisis Históric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L- 701 Modificado ( Nº19. 561) 1998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reación de Institucion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iversidades  1952 y 1954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to Forestal 1961 INF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de Reforestación 1969 CORE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Nacional Forestal 1972 CONA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NISTERIO DE AGRICULTUR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bsecretaria Agricul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Nacional Forestal ( CONAF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rvicio Agrícola y Ganadero ( SAG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to de Desarrollo Agropecua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ficina de Estudios y Políticas Agrari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undación Innovación Tecnológica ( FIA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to de Investigaciones Agropecuari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NISTERIO DE ECONOMÍ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DE FOMENTO DE LA PRODUCC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NTEC Y FDI  ( Estudios 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GERENCIA FOMENTO (  Incentivos Desarrollo Productiv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INSTITUTOS FILIALES ( INFOR- CIREN- INTEC – INN 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FUNDACIÓN CH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NISTERIO DE EDUCACIÓ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IVERSIDAD DE CHIL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 FACULTAD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 CIENCIAS FORESTALES 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ISIÓN NACIONAL DE INVESTIGACIÓ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IENTÍFICA  Y TECNLÓGIC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NDECYT – FONDEF 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GPR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ISIÓN NACIONAL DEL MEDIO AMBIENTE (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AMA 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NACIONAL FOREST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DESARROLLO Y FOMENTO (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Dptos : Manejo y Desarrollo – Fomento – Prospecciones Sectoriales y  Centro de Semillas, Genética e Investigaciones Entomológicas) GEDEFF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PROTECCIÓN (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 Dpto : Manejo del Fuego, unidad de prevención, unidad operaciones aéreas ) GEPRIF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PATRIMONIO Y M.AMBIENTE ( Dptos: Äreas Protegidas y Comunidades- Diversidad Biológica – Gestión ambiental) GEPM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NORMATIVA Y FISCALIZACIÓN FORESTAL (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Dptos : Normativa – Fiscalización ) GENOF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ADMINISTRACION Y FINANZAS (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Dptos : Finanzas- Administración- Informática- ) GEFA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.    GERENCIA DE DESARROLLO DE PERSONAS( Dpto recursos humanos y Servicio de bienestar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0:02:16Z</dcterms:created>
  <dc:creator>uco2002</dc:creator>
  <dc:description/>
  <dc:language>en-US</dc:language>
  <cp:lastModifiedBy>GGUERRA</cp:lastModifiedBy>
  <dcterms:modified xsi:type="dcterms:W3CDTF">2008-10-23T21:03:50Z</dcterms:modified>
  <cp:revision>24</cp:revision>
  <dc:subject/>
  <dc:title>El Sector Forestal</dc:title>
</cp:coreProperties>
</file>