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30E-CB12-46AE-8658-CC9E123A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55C-2BE3-4451-B885-B947C3F0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D75F-17D2-46B1-9A78-D17C0D88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4DE8-CCFA-4936-A7BE-43EF3D98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844E-ADD3-46CB-8486-F859BBE0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E47-7D42-46DD-BB66-96591870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F992-9C87-4EDA-9642-97C29F5B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5CAB-4FE7-4DFA-88B9-DBE80A71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755-6D3A-48FA-9707-DDFC4B64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1FD-7534-4F9C-B42F-31A7C35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2DB-8B67-43C3-8CAF-1F20F201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D27-5CAA-4BCA-8399-C632456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05EA-D6E5-4590-B3F9-AD8C32701C4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l Sector Forestal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olíticas de Desarrollo – Fomento e  Institucionalidad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ección Ejecutiv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Fiscali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Secretaria de Comunicacione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Secretaria de Relaciones Internacionales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de Estudios y Planifica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Control de Gest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ficina de Coordinación Ambien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recciones Regionales (15 )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Forestal ( DEFOR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Protección (GEPRIF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Patrimonio y MA(GEPMA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Control ( DA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partamento Administración y Finanz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Unidades Asesoras (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Legal - Comunicaciones- Control Gestión - Estudios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</a:rPr>
              <a:t>M. Ambiente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TITUTO FORESTA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. Ejecutiva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Asesoria Legal</a:t>
            </a: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Unidad Plan.Contro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Sub.Dirección                Unidad Inform y Doc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Unidad Informát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Ad y Fi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Sede Santiago        Sede Concepción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Sede Valdivia Sede Coyhaique   Sede La Seren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PROYECTOS</a:t>
            </a: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PROYECTOS           PROYECTOS     PROYECTOS  PROYECTO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65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2895480" y="1371600"/>
            <a:ext cx="315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nsejo Directiv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43400" y="1905120"/>
            <a:ext cx="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69" name=""/>
          <p:cNvSpPr/>
          <p:nvPr/>
        </p:nvSpPr>
        <p:spPr>
          <a:xfrm flipH="1">
            <a:off x="2438280" y="2286000"/>
            <a:ext cx="914400" cy="533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666520" y="2590920"/>
            <a:ext cx="68580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029200" y="2971440"/>
            <a:ext cx="8380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3352680"/>
            <a:ext cx="76176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429000"/>
            <a:ext cx="8380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cxnSp>
        <p:nvCxnSpPr>
          <p:cNvPr id="75" name=""/>
          <p:cNvCxnSpPr>
            <a:stCxn id="64" idx="0"/>
            <a:endCxn id="64" idx="0"/>
          </p:cNvCxnSpPr>
          <p:nvPr/>
        </p:nvCxnSpPr>
        <p:spPr>
          <a:xfrm>
            <a:off x="4571640" y="1980720"/>
            <a:ext cx="1080" cy="1080"/>
          </a:xfrm>
          <a:prstGeom prst="straightConnector1">
            <a:avLst/>
          </a:prstGeom>
          <a:ln w="9360">
            <a:solidFill>
              <a:srgbClr val="0000ff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4191120" y="2438280"/>
            <a:ext cx="75960" cy="685800"/>
          </a:xfrm>
          <a:prstGeom prst="downArrow">
            <a:avLst>
              <a:gd name="adj1" fmla="val 50000"/>
              <a:gd name="adj2" fmla="val 225711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4572000"/>
            <a:ext cx="76960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3505320"/>
            <a:ext cx="0" cy="1066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4952880"/>
            <a:ext cx="75960" cy="381240"/>
          </a:xfrm>
          <a:prstGeom prst="down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7160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4952880"/>
            <a:ext cx="76320" cy="381240"/>
          </a:xfrm>
          <a:prstGeom prst="down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PRIVADAS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( Con fines de lucro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dustrias Forestales ( Industria Primaria y Secundaria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Propietarios de Bosques y Terrenos Fores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( Personas naturales y jurídicas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mpresas de Servicios   ( Contratistas – Transportistas- Consultoras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de Educación y Capacita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CIONES  PRIVADAS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( Sin fines de lucro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Asociaciones Gremiales ( Corma-  Asimad- Asexma – Cif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Sindicales ( CTF- FSC-CUT 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No Gubernamentales (CIDERE – IMPROA- IER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Organizaciones Ambientales ( CODEFF- CIPMA , etc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creto Regulación Corta Alerce 1859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ecreto Protección de Bosque  187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ódigo Penal ( roce a fuego )  1872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Ley de Municipalidades 189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Reserva de Malleco 1907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S Nº4363 Ley de Bosques 1931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réditos Corfo Forestación 1965-1969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onvenios Coref y Conaf Forestación 69-8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DL-701 Fomento Forestal Forestación74-94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Crédito Bco.Central Reforestación 75-83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ograma PEFOR 1983-1985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Times New Roman"/>
              </a:rPr>
              <a:t>Programa Fondo Solidario Social Fosis 91/95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Análisis Histórico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DL- 701 Modificado ( Nº19. 561) 1998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Creación de Institucione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versidades  1952 y 1954 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Forestal 1961 INFOR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de Reforestación 1969 CORE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 1972 CONAF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AGRICULTUR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ubsecretaria Agricultu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 ( CONAF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rvicio Agrícola y Ganadero ( SAG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de Desarrollo Agropecuario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Oficina de Estudios y Políticas Agrari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undación Innovación Tecnológica ( FIA 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Instituto de Investigaciones Agropecuarias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ECONOMÍA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DE FOMENTO DE LA PRODUCCIÓ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NTEC Y FDI  ( Estudios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GERENCIA FOMENTO (  Incentivos Desarrollo Productivo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INSTITUTOS FILIALES ( INFOR- CIREN- INTEC – INN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- FUNDACIÓN CHI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MINISTERIO DE EDUCACIÓN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NIVERSIDAD DE CHILE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 FACULTAD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E CIENCIAS FORESTALES 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MISIÓN NACIONAL DE INVESTIGACIÓN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IENTÍFICA  Y TECNLÓGIC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(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NDECYT – FONDEF 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SEGPRES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MISIÓN NACIONAL DEL MEDIO AMBIENTE (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AMA 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ORPORACIÓN NACIONAL FORESTA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DESARROLLO Y FOMENTO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Manejo y Desarrollo – Fomento – Prospecciones Sectoriales y  Centro de Semillas, Genética e Investigaciones Entomológicas) GEDEF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PROTECCIÓN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 Dpto : Manejo del Fuego, unidad de prevención, unidad operaciones aéreas ) GEPRI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PATRIMONIO Y M.AMBIENTE ( Dptos: Äreas Protegidas y Comunidades- Diversidad Biológica – Gestión ambiental) GEP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NORMATIVA Y FISCALIZACIÓN FORESTAL (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Normativa – Fiscalización ) GENOF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GERENCIA DE ADMINISTRACION Y FINANZAS ( 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</a:rPr>
              <a:t>Dptos : Finanzas- Administración- Informática- ) GEF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</a:rPr>
              <a:t>.    GERENCIA DE DESARROLLO DE PERSONAS( Dpto recursos humanos y Servicio de bienestar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20:02:16Z</dcterms:created>
  <dc:creator>uco2002</dc:creator>
  <dc:description/>
  <dc:language>en-US</dc:language>
  <cp:lastModifiedBy>GGUERRA</cp:lastModifiedBy>
  <dcterms:modified xsi:type="dcterms:W3CDTF">2008-10-23T21:03:50Z</dcterms:modified>
  <cp:revision>24</cp:revision>
  <dc:subject/>
  <dc:title>El Sector Forestal</dc:title>
</cp:coreProperties>
</file>