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6858000" cy="9144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4671E-1804-4064-9992-96FEABE88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5F53-9290-4BB0-A57B-98DDFC77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E1FA-D84F-4A2B-BEBC-99D08EDCA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8FB05-5CBB-4E2B-BD8D-59E9F1B25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68669-39BE-43EE-A53F-0D8E93261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57BD2-30C3-4E45-BC5D-04542C600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7FC2-8EED-465B-8D8A-9268ED1B1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D0802-11ED-46BC-BEF3-D17F3C192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9AC2B-FE11-48B2-B394-3A0721C7B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24E12-6C2C-4811-9197-A9C81DDEE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AEABC-E182-4E45-A0A4-2D100887C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240A2-0A9B-4354-A11E-1C02CB69B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EC36-3C17-43F4-93F4-06AEEFDAA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2973-9D42-41BF-B50E-B1DB3C513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514440" y="264168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0FE3C-861E-4D50-92D8-D347CC3D2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DDE13-F8A8-411E-97E1-5D758CBEE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514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248544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4456080" y="264168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514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248544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4456080" y="550764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D2BAB-BED6-471D-B2BC-FFEFB40FE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16E3-D652-41BE-A8D9-11E8BE788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A8E4-7C0A-456B-A3F3-DF3FA6E90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006D5-2821-4B75-B854-26EBB09E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E102-6C7F-4830-BA01-6C7E35AA0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6461-344F-498C-9D7E-FAB769788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8CD1-DE5E-4D17-9D9C-FDD0A50C1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7AF1-BE27-426F-B085-E85477354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0" name=""/>
          <p:cNvSpPr/>
          <p:nvPr/>
        </p:nvSpPr>
        <p:spPr>
          <a:xfrm>
            <a:off x="285840" y="0"/>
            <a:ext cx="1085760" cy="9142560"/>
          </a:xfrm>
          <a:prstGeom prst="rect">
            <a:avLst/>
          </a:prstGeom>
          <a:gradFill rotWithShape="0">
            <a:gsLst>
              <a:gs pos="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14480" y="2336760"/>
            <a:ext cx="354312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514440" y="8839080"/>
            <a:ext cx="2628720" cy="30348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1680" y="1015920"/>
            <a:ext cx="628488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514440" y="2641680"/>
            <a:ext cx="5829120" cy="548640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1996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16000" indent="-22392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45" name=""/>
          <p:cNvSpPr/>
          <p:nvPr/>
        </p:nvSpPr>
        <p:spPr>
          <a:xfrm>
            <a:off x="285840" y="0"/>
            <a:ext cx="1085760" cy="9142560"/>
          </a:xfrm>
          <a:prstGeom prst="rect">
            <a:avLst/>
          </a:prstGeom>
          <a:gradFill rotWithShape="0">
            <a:gsLst>
              <a:gs pos="0">
                <a:srgbClr val="1f5e1f"/>
              </a:gs>
              <a:gs pos="50000">
                <a:srgbClr val="339933">
                  <a:alpha val="50196"/>
                </a:srgbClr>
              </a:gs>
              <a:gs pos="100000">
                <a:srgbClr val="1f5e1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514440" y="3251160"/>
            <a:ext cx="6342120" cy="1015920"/>
          </a:xfrm>
          <a:prstGeom prst="rect">
            <a:avLst/>
          </a:prstGeom>
          <a:gradFill rotWithShape="0">
            <a:gsLst>
              <a:gs pos="0">
                <a:srgbClr val="071707"/>
              </a:gs>
              <a:gs pos="100000">
                <a:srgbClr val="33993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514440" y="3047760"/>
            <a:ext cx="5829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514080" y="8229240"/>
            <a:ext cx="14288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2343240" y="8229240"/>
            <a:ext cx="21715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4915080" y="8229240"/>
            <a:ext cx="1428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4673520"/>
            <a:ext cx="3543480" cy="20340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981080"/>
            <a:ext cx="6248520" cy="3200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Rol de la Corporación Nacional Forestal</a:t>
            </a:r>
            <a:r>
              <a:rPr b="1" lang="es-ES" sz="3600" spc="-1" strike="noStrike">
                <a:solidFill>
                  <a:srgbClr val="ffffff"/>
                </a:solidFill>
                <a:latin typeface="Arial"/>
              </a:rPr>
              <a:t> </a:t>
            </a:r>
            <a:br>
              <a:rPr sz="3600"/>
            </a:br>
            <a:r>
              <a:rPr b="1" lang="es-ES" sz="3200" spc="-1" strike="noStrike">
                <a:solidFill>
                  <a:srgbClr val="ffffff"/>
                </a:solidFill>
                <a:latin typeface="Arial"/>
              </a:rPr>
              <a:t>en la incorporación de los pequeños y medianos propietarios a la economía forestal nacional</a:t>
            </a:r>
            <a:endParaRPr b="0" lang="en-US" sz="3200" spc="-1" strike="noStrike">
              <a:solidFill>
                <a:srgbClr val="cbcbcb"/>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609624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RANSFERENCIA TECNOLÓGICA</a:t>
            </a:r>
            <a:endParaRPr b="0" lang="en-US" sz="3200" spc="-1" strike="noStrike">
              <a:solidFill>
                <a:srgbClr val="cbcbcb"/>
              </a:solidFill>
              <a:latin typeface="Times New Roman"/>
            </a:endParaRPr>
          </a:p>
        </p:txBody>
      </p:sp>
      <p:sp>
        <p:nvSpPr>
          <p:cNvPr id="106"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CONAF ha desarrollado y desarrolla un programa de forestación en pequeñas propiedades, cuyos resultados dependen de una buena plantación y manejo de el recurso creado, mediante la aplicación de una adecuada tecnología, cuyos objetivos son:</a:t>
            </a:r>
            <a:endParaRPr b="1" lang="en-US" sz="22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tener bosques manejados, maximizando el valor agregado de la madera en pie, de acuerdo a condiciones de mercad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teger el recurso contra agentes dañinos, plagas, enfermedades e incendios forestales</a:t>
            </a: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5829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OYECCIÓN DEL PROGRAMA</a:t>
            </a:r>
            <a:endParaRPr b="0" lang="en-US" sz="3200" spc="-1" strike="noStrike">
              <a:solidFill>
                <a:srgbClr val="cbcbcb"/>
              </a:solidFill>
              <a:latin typeface="Times New Roman"/>
            </a:endParaRPr>
          </a:p>
        </p:txBody>
      </p:sp>
      <p:sp>
        <p:nvSpPr>
          <p:cNvPr id="108" name="PlaceHolder 2"/>
          <p:cNvSpPr>
            <a:spLocks noGrp="1"/>
          </p:cNvSpPr>
          <p:nvPr>
            <p:ph/>
          </p:nvPr>
        </p:nvSpPr>
        <p:spPr>
          <a:xfrm>
            <a:off x="514440" y="1752480"/>
            <a:ext cx="5829120" cy="6375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Situación Actual</a:t>
            </a:r>
            <a:endParaRPr b="1" lang="en-US" sz="3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ampesinos ven en la forestación una buena alternativa, complementaria a la tradicional.</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1,6 a 2,0 millones de has de suelos APF y las actuales tasas de forestación no superan las 7.000 ha/año</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inanciamiento inicial es a través de: Créditos de enlace lNDAP, Convenios en Mediería, Aportes directos y Otros.</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oporte técnico, lo aportan CONAF, los operadores forestales y las  organizaciones campesina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80880"/>
            <a:ext cx="5829120" cy="457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Proyección Futura</a:t>
            </a:r>
            <a:endParaRPr b="0" lang="en-US" sz="3200" spc="-1" strike="noStrike">
              <a:solidFill>
                <a:srgbClr val="cbcbcb"/>
              </a:solidFill>
              <a:latin typeface="Times New Roman"/>
            </a:endParaRPr>
          </a:p>
        </p:txBody>
      </p:sp>
      <p:sp>
        <p:nvSpPr>
          <p:cNvPr id="110" name="PlaceHolder 2"/>
          <p:cNvSpPr>
            <a:spLocks noGrp="1"/>
          </p:cNvSpPr>
          <p:nvPr>
            <p:ph/>
          </p:nvPr>
        </p:nvSpPr>
        <p:spPr>
          <a:xfrm>
            <a:off x="514440" y="1218960"/>
            <a:ext cx="5829120" cy="690876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 la tasa actual, serían necesarios 200 años para cubrir la superficie APF, entre tanto, mantenemos suelos improductivos en proceso de degradación permanente.</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e aprobó en el Congreso un nuevo cuerpo legal de Fomento Forestal.</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 aplicación del DL. 701/74, demostró que no basta, para incorporar al pequeño propietario</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 indispensable para su incorporación, que el pequeño propietario pueda acceder a FINANCIAMIENTO Y TÉCNICA.</a:t>
            </a:r>
            <a:endParaRPr b="1" lang="en-US" sz="22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Financiamiento.</a:t>
            </a:r>
            <a:r>
              <a:rPr b="0" lang="es-ES_tradnl" sz="2400" spc="-1" strike="noStrike">
                <a:solidFill>
                  <a:srgbClr val="ffffff"/>
                </a:solidFill>
                <a:latin typeface="Arial"/>
              </a:rPr>
              <a:t> Perfeccionar la actual relación con las fuentes de financiamient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cceso a Técnica. </a:t>
            </a:r>
            <a:r>
              <a:rPr b="0" lang="es-ES_tradnl" sz="2400" spc="-1" strike="noStrike">
                <a:solidFill>
                  <a:srgbClr val="ffffff"/>
                </a:solidFill>
                <a:latin typeface="Arial"/>
              </a:rPr>
              <a:t>Debe ser traspasado paulatinamente al sector privado. (Operadores, Organizaciones) </a:t>
            </a:r>
            <a:endParaRPr b="1" lang="en-US" sz="24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480"/>
            <a:ext cx="58294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puestas para optimizar el usos de los recursos</a:t>
            </a:r>
            <a:endParaRPr b="0" lang="en-US" sz="2800" spc="-1" strike="noStrike">
              <a:solidFill>
                <a:srgbClr val="cbcbcb"/>
              </a:solidFill>
              <a:latin typeface="Times New Roman"/>
            </a:endParaRPr>
          </a:p>
        </p:txBody>
      </p:sp>
      <p:sp>
        <p:nvSpPr>
          <p:cNvPr id="112" name="PlaceHolder 2"/>
          <p:cNvSpPr>
            <a:spLocks noGrp="1"/>
          </p:cNvSpPr>
          <p:nvPr>
            <p:ph/>
          </p:nvPr>
        </p:nvSpPr>
        <p:spPr>
          <a:xfrm>
            <a:off x="514440" y="1905120"/>
            <a:ext cx="5829120" cy="622296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Cliente</a:t>
            </a:r>
            <a:endParaRPr b="1" lang="en-US" sz="24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liente está definido como Pequeño Propietario, lo que implica un amplio rango, susceptible de subdividir en:</a:t>
            </a:r>
            <a:endParaRPr b="1" lang="en-US" sz="24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s de 5 ha;</a:t>
            </a:r>
            <a:r>
              <a:rPr b="0" lang="es-ES_tradnl" sz="2400" spc="-1" strike="noStrike">
                <a:solidFill>
                  <a:srgbClr val="ffffff"/>
                </a:solidFill>
                <a:latin typeface="Arial"/>
              </a:rPr>
              <a:t>  Sin solución forestal, solo complemento</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5 a 20 ha;</a:t>
            </a:r>
            <a:r>
              <a:rPr b="0" lang="es-ES_tradnl" sz="2400" spc="-1" strike="noStrike">
                <a:solidFill>
                  <a:srgbClr val="ffffff"/>
                </a:solidFill>
                <a:latin typeface="Arial"/>
              </a:rPr>
              <a:t> Solución parcial, es un complemento importante.</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2O a 4O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143000" indent="-22860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De 40 a 300 ha;</a:t>
            </a:r>
            <a:r>
              <a:rPr b="0" lang="es-ES_tradnl" sz="2400" spc="-1" strike="noStrike">
                <a:solidFill>
                  <a:srgbClr val="ffffff"/>
                </a:solidFill>
                <a:latin typeface="Arial"/>
              </a:rPr>
              <a:t> Con solución forestal.</a:t>
            </a:r>
            <a:endParaRPr b="1" lang="en-US" sz="2400" spc="-1" strike="noStrike">
              <a:solidFill>
                <a:srgbClr val="ffffff"/>
              </a:solidFill>
              <a:latin typeface="Arial"/>
            </a:endParaRPr>
          </a:p>
          <a:p>
            <a:pPr lvl="2" marL="11430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ejoramiento de sus Ingresos</a:t>
            </a:r>
            <a:endParaRPr b="1" lang="en-US" sz="2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los ingresos en la actividad forestal, implic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boscosas de interés, que permitan optimizar las ventajas de la economía de escal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r el valor agregado con tecnología específica para pequeñas superficies.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propone:</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os insumos básic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millas, Plántulas, Fertilizante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erbicidas</a:t>
            </a:r>
            <a:endParaRPr b="1" lang="en-US" sz="2400" spc="-1" strike="noStrike">
              <a:solidFill>
                <a:srgbClr val="ffffff"/>
              </a:solidFill>
              <a:latin typeface="Arial"/>
            </a:endParaRPr>
          </a:p>
          <a:p>
            <a:pPr marL="343080" indent="-343080" algn="just">
              <a:spcBef>
                <a:spcPts val="601"/>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timizar la faena de plantación, mediante:</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ción, Supervisión direct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cutar mediante Consultores.</a:t>
            </a:r>
            <a:endParaRPr b="1" lang="en-US" sz="2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14440" y="761760"/>
            <a:ext cx="5829120" cy="7365960"/>
          </a:xfrm>
          <a:prstGeom prst="rect">
            <a:avLst/>
          </a:prstGeom>
          <a:noFill/>
          <a:ln w="0">
            <a:noFill/>
          </a:ln>
        </p:spPr>
        <p:txBody>
          <a:bodyPr lIns="92160" rIns="92160" tIns="46080" bIns="46080" anchor="t">
            <a:normAutofit fontScale="95000"/>
          </a:bodyPr>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acitar al pequeño propietario en el manejo del bosque.</a:t>
            </a:r>
            <a:endParaRPr b="1" lang="en-US" sz="2400" spc="-1" strike="noStrike">
              <a:solidFill>
                <a:srgbClr val="ffffff"/>
              </a:solidFill>
              <a:latin typeface="Arial"/>
            </a:endParaRPr>
          </a:p>
          <a:p>
            <a:pPr marL="325800" indent="-32580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enerar tecnología forestal para pequeñas superficies</a:t>
            </a:r>
            <a:endParaRPr b="1" lang="en-US" sz="24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Recuperación de suelos degradados</a:t>
            </a:r>
            <a:r>
              <a:rPr b="1" lang="es-ES_tradnl" sz="3200" spc="-1" strike="noStrike">
                <a:solidFill>
                  <a:srgbClr val="0000ff"/>
                </a:solidFill>
                <a:latin typeface="Arial"/>
              </a:rPr>
              <a:t>.</a:t>
            </a:r>
            <a:endParaRPr b="1" lang="en-US" sz="3200" spc="-1" strike="noStrike">
              <a:solidFill>
                <a:srgbClr val="ffffff"/>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No basta forestar, es importante la cobertura, la pendiente y las técnicas.  Para cumplir este objetivo se requiere:</a:t>
            </a:r>
            <a:endParaRPr b="1" lang="en-US" sz="2400" spc="-1" strike="noStrike">
              <a:solidFill>
                <a:srgbClr val="ffffff"/>
              </a:solidFill>
              <a:latin typeface="Arial"/>
            </a:endParaRPr>
          </a:p>
          <a:p>
            <a:pPr marL="32580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mar masas forestales que permitan controlar la erosión.</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restar con especies adecuadas al sitio.</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corporar prácticas de Conservación de suelos.</a:t>
            </a:r>
            <a:endParaRPr b="1" lang="en-US" sz="2400" spc="-1" strike="noStrike">
              <a:solidFill>
                <a:srgbClr val="ffffff"/>
              </a:solidFill>
              <a:latin typeface="Arial"/>
            </a:endParaRPr>
          </a:p>
          <a:p>
            <a:pPr lvl="2" marL="1085760" indent="-217080" algn="just">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udiar especies adecuadas a sectores que no cuentan con una alternativa forestal concreta</a:t>
            </a:r>
            <a:endParaRPr b="1"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68580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TECEDENTES GENERALES</a:t>
            </a:r>
            <a:endParaRPr b="0" lang="en-US" sz="3200" spc="-1" strike="noStrike">
              <a:solidFill>
                <a:srgbClr val="cbcbcb"/>
              </a:solidFill>
              <a:latin typeface="Times New Roman"/>
            </a:endParaRPr>
          </a:p>
        </p:txBody>
      </p:sp>
      <p:sp>
        <p:nvSpPr>
          <p:cNvPr id="91" name="PlaceHolder 2"/>
          <p:cNvSpPr>
            <a:spLocks noGrp="1"/>
          </p:cNvSpPr>
          <p:nvPr>
            <p:ph/>
          </p:nvPr>
        </p:nvSpPr>
        <p:spPr>
          <a:xfrm>
            <a:off x="533520" y="1294920"/>
            <a:ext cx="5829120" cy="69850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sector forestal chileno contó durante 20 años (1974 - 1995) con el DL.701/74, lo que le ha permitido mantener un continuo crecimiento,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in embargo, sus beneficios no alcanzaron a los pequeños propietarios. De 800.000 ha forestadas, solo 32.000 ha se plantaron por pequeños propietarios.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usas:</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existencia de una cultura forestal campesina </a:t>
            </a:r>
            <a:endParaRPr b="1" lang="en-US" sz="22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suficiencia financiera de los pequeños propietarios.</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l nuevo DL701/74 modificado por la ley 19.561, busca la incorporación masiva a la actividad forestal de pequeños y medianos propietarios, a través de sistemas de crédito de enlace e incentivos especiales para terrenos degradados.</a:t>
            </a:r>
            <a:endParaRPr b="1" lang="en-US" sz="2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533160"/>
            <a:ext cx="58291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ERFIL DEL PEQUEÑO PROPIETARIO</a:t>
            </a:r>
            <a:endParaRPr b="0" lang="en-US" sz="2800" spc="-1" strike="noStrike">
              <a:solidFill>
                <a:srgbClr val="cbcbcb"/>
              </a:solidFill>
              <a:latin typeface="Times New Roman"/>
            </a:endParaRPr>
          </a:p>
        </p:txBody>
      </p:sp>
      <p:sp>
        <p:nvSpPr>
          <p:cNvPr id="93" name="PlaceHolder 2"/>
          <p:cNvSpPr>
            <a:spLocks noGrp="1"/>
          </p:cNvSpPr>
          <p:nvPr>
            <p:ph/>
          </p:nvPr>
        </p:nvSpPr>
        <p:spPr>
          <a:xfrm>
            <a:off x="514440" y="1981080"/>
            <a:ext cx="5829120" cy="6096240"/>
          </a:xfrm>
          <a:prstGeom prst="rect">
            <a:avLst/>
          </a:prstGeom>
          <a:noFill/>
          <a:ln w="0">
            <a:noFill/>
          </a:ln>
        </p:spPr>
        <p:txBody>
          <a:bodyPr lIns="92160" rIns="92160" tIns="46080" bIns="460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Es la persona que, reuniendo los requisitos del pequeño productor agrícola, definido en el artículo 131 de la ley N° 18.910, </a:t>
            </a:r>
            <a:r>
              <a:rPr b="1" lang="es-ES_tradnl" sz="2800" spc="-1" strike="noStrike">
                <a:solidFill>
                  <a:srgbClr val="0000ff"/>
                </a:solidFill>
                <a:latin typeface="Arial"/>
              </a:rPr>
              <a:t>habita, trabaja y es propietaria</a:t>
            </a:r>
            <a:r>
              <a:rPr b="1" lang="es-ES_tradnl" sz="2800" spc="-1" strike="noStrike">
                <a:solidFill>
                  <a:srgbClr val="ffffff"/>
                </a:solidFill>
                <a:latin typeface="Arial"/>
              </a:rPr>
              <a:t> de uno o más predios rústicos, cuya </a:t>
            </a:r>
            <a:r>
              <a:rPr b="1" lang="es-ES_tradnl" sz="2800" spc="-1" strike="noStrike">
                <a:solidFill>
                  <a:srgbClr val="0000ff"/>
                </a:solidFill>
                <a:latin typeface="Arial"/>
              </a:rPr>
              <a:t>superficie predial no exceda</a:t>
            </a:r>
            <a:r>
              <a:rPr b="1" lang="es-ES_tradnl" sz="2800" spc="-1" strike="noStrike">
                <a:solidFill>
                  <a:srgbClr val="ffffff"/>
                </a:solidFill>
                <a:latin typeface="Arial"/>
              </a:rPr>
              <a:t>, en conjunto, de 200 hectáreas para las regiones desde la V a X y de un máximo de 500 hectáreas para las regiones 1 a IV, XI y XII y la provincia de Palena de la X región</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812880"/>
            <a:ext cx="5829120" cy="558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ISTORIA DEL PROYECTO</a:t>
            </a:r>
            <a:endParaRPr b="0" lang="en-US" sz="2800" spc="-1" strike="noStrike">
              <a:solidFill>
                <a:srgbClr val="cbcbcb"/>
              </a:solidFill>
              <a:latin typeface="Times New Roman"/>
            </a:endParaRPr>
          </a:p>
        </p:txBody>
      </p:sp>
      <p:sp>
        <p:nvSpPr>
          <p:cNvPr id="95" name="PlaceHolder 2"/>
          <p:cNvSpPr>
            <a:spLocks noGrp="1"/>
          </p:cNvSpPr>
          <p:nvPr>
            <p:ph/>
          </p:nvPr>
        </p:nvSpPr>
        <p:spPr>
          <a:xfrm>
            <a:off x="456840" y="1828440"/>
            <a:ext cx="5829480" cy="6553080"/>
          </a:xfrm>
          <a:prstGeom prst="rect">
            <a:avLst/>
          </a:prstGeom>
          <a:noFill/>
          <a:ln w="0">
            <a:noFill/>
          </a:ln>
        </p:spPr>
        <p:txBody>
          <a:bodyPr lIns="92160" rIns="92160" tIns="46080" bIns="46080" anchor="t">
            <a:normAutofit fontScale="99000"/>
          </a:bodyPr>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ntes de 1990, la forestación de pequeñas propiedades sólo constituía esfuerzos aislados de CONAF En 1991 CONAF inicia el Proyecto Forestación en Pequeñas Propiedades, en el que se utilizan diversas alternativas de financiamiento y el aporte técnico directo de CONAF.</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as modalidades de financiamiento utilizadas fueron: FOSIS, lNDAP, Gestión directa, Convenio Arroceros, Convenios en Mediería, FNDR y Otras.</a:t>
            </a:r>
            <a:endParaRPr b="1" lang="en-US" sz="2200" spc="-1" strike="noStrike">
              <a:solidFill>
                <a:srgbClr val="ffffff"/>
              </a:solidFill>
              <a:latin typeface="Arial"/>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 una tasa de forestación media de 7.000 has anuales, para un total de 70.000 has y 50.000 familias en el periodo.  La incorporación del campesino al desarrollo silvícola sigue siendo marginal</a:t>
            </a:r>
            <a:endParaRPr b="1" lang="en-US" sz="2200" spc="-1" strike="noStrike">
              <a:solidFill>
                <a:srgbClr val="ffffff"/>
              </a:solidFill>
              <a:latin typeface="Arial"/>
            </a:endParaRPr>
          </a:p>
          <a:p>
            <a:pPr lvl="2" marL="11314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456840"/>
            <a:ext cx="582912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OBJETIVOS DEL PROYECTO</a:t>
            </a:r>
            <a:endParaRPr b="0" lang="en-US" sz="3200" spc="-1" strike="noStrike">
              <a:solidFill>
                <a:srgbClr val="cbcbcb"/>
              </a:solidFill>
              <a:latin typeface="Times New Roman"/>
            </a:endParaRPr>
          </a:p>
        </p:txBody>
      </p:sp>
      <p:sp>
        <p:nvSpPr>
          <p:cNvPr id="97" name="PlaceHolder 2"/>
          <p:cNvSpPr>
            <a:spLocks noGrp="1"/>
          </p:cNvSpPr>
          <p:nvPr>
            <p:ph/>
          </p:nvPr>
        </p:nvSpPr>
        <p:spPr>
          <a:xfrm>
            <a:off x="514440" y="1447920"/>
            <a:ext cx="5829120" cy="66801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 general</a:t>
            </a:r>
            <a:endParaRPr b="1" lang="en-US" sz="3200" spc="-1" strike="noStrike">
              <a:solidFill>
                <a:srgbClr val="ffffff"/>
              </a:solidFill>
              <a:latin typeface="Arial"/>
            </a:endParaRPr>
          </a:p>
          <a:p>
            <a:pPr marL="343080" indent="-343080" algn="just">
              <a:lnSpc>
                <a:spcPct val="150000"/>
              </a:lnSpc>
              <a:spcBef>
                <a:spcPts val="1500"/>
              </a:spcBef>
              <a:spcAft>
                <a:spcPts val="1500"/>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corporar la actividad forestal en la economía del pequeño propietario, como complemento a su actividad agropecuaria o como ingreso principal, posibilitando la interrupción de procesos erosivos y la recuperación de los suelos degradado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4440" y="380520"/>
            <a:ext cx="573408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Objetivos específicos</a:t>
            </a:r>
            <a:endParaRPr b="0" lang="en-US" sz="3200" spc="-1" strike="noStrike">
              <a:solidFill>
                <a:srgbClr val="cbcbcb"/>
              </a:solidFill>
              <a:latin typeface="Times New Roman"/>
            </a:endParaRPr>
          </a:p>
        </p:txBody>
      </p:sp>
      <p:sp>
        <p:nvSpPr>
          <p:cNvPr id="99" name="PlaceHolder 2"/>
          <p:cNvSpPr>
            <a:spLocks noGrp="1"/>
          </p:cNvSpPr>
          <p:nvPr>
            <p:ph/>
          </p:nvPr>
        </p:nvSpPr>
        <p:spPr>
          <a:xfrm>
            <a:off x="514440" y="1523520"/>
            <a:ext cx="5829120" cy="660420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tribuir a la superación de la pobreza en el sector rur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sertar al pequeño propietario en el ámbito del conocimiento forestal</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antener un programa masivo de forestación que permita incorporar la superficie potencial del sector campesino.</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ner los procesos erosivos y recuperar suelos degradados.</a:t>
            </a:r>
            <a:endParaRPr b="1" lang="en-US" sz="24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enerar mecanismos o alternativas de gestión que permitan implementar plantaciones dendroenergéticas</a:t>
            </a:r>
            <a:endParaRPr b="1"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812880"/>
            <a:ext cx="6477120" cy="939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DENTIFICACIÓN DEL PROBLEMA</a:t>
            </a:r>
            <a:endParaRPr b="0" lang="en-US" sz="3200" spc="-1" strike="noStrike">
              <a:solidFill>
                <a:srgbClr val="cbcbcb"/>
              </a:solidFill>
              <a:latin typeface="Times New Roman"/>
            </a:endParaRPr>
          </a:p>
        </p:txBody>
      </p:sp>
      <p:sp>
        <p:nvSpPr>
          <p:cNvPr id="101" name="PlaceHolder 2"/>
          <p:cNvSpPr>
            <a:spLocks noGrp="1"/>
          </p:cNvSpPr>
          <p:nvPr>
            <p:ph/>
          </p:nvPr>
        </p:nvSpPr>
        <p:spPr>
          <a:xfrm>
            <a:off x="514440" y="2133360"/>
            <a:ext cx="5829120" cy="5994360"/>
          </a:xfrm>
          <a:prstGeom prst="rect">
            <a:avLst/>
          </a:prstGeom>
          <a:noFill/>
          <a:ln w="0">
            <a:noFill/>
          </a:ln>
        </p:spPr>
        <p:txBody>
          <a:bodyPr lIns="92160" rIns="92160" tIns="46080" bIns="46080" anchor="t">
            <a:normAutofit fontScale="97000"/>
          </a:bodyPr>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nivel de ingresos, sin excedentes que permitan capitalizar y efectuar mejoras tecnológicas</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ampesinos,  de más de 45 años, con bajo nivel educacional y fuerte tradición, cuyos hijos adultos han emigrado a centros poblados.</a:t>
            </a:r>
            <a:endParaRPr b="1" lang="en-US" sz="2200" spc="-1" strike="noStrike">
              <a:solidFill>
                <a:srgbClr val="ffffff"/>
              </a:solidFill>
              <a:latin typeface="Arial"/>
            </a:endParaRPr>
          </a:p>
          <a:p>
            <a:pPr marL="332640" indent="-33264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caso conocimiento y acceso a capacitación</a:t>
            </a:r>
            <a:r>
              <a:rPr b="0" lang="es-ES_tradnl" sz="2400" spc="-1" strike="noStrike">
                <a:solidFill>
                  <a:srgbClr val="ffffff"/>
                </a:solidFill>
                <a:latin typeface="Arial"/>
              </a:rPr>
              <a:t>.</a:t>
            </a:r>
            <a:endParaRPr b="1" lang="en-US" sz="2400" spc="-1" strike="noStrike">
              <a:solidFill>
                <a:srgbClr val="ffffff"/>
              </a:solidFill>
              <a:latin typeface="Arial"/>
            </a:endParaRPr>
          </a:p>
          <a:p>
            <a:pPr marL="332640" indent="-33264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Aislados, con gran desconocimiento del mercado, se guían por tradición o por ofertas de comerciantes ocasionales y oportunistas</a:t>
            </a:r>
            <a:endParaRPr b="1" lang="en-US" sz="2200" spc="-1" strike="noStrike">
              <a:solidFill>
                <a:srgbClr val="ffffff"/>
              </a:solidFill>
              <a:latin typeface="Arial"/>
            </a:endParaRPr>
          </a:p>
          <a:p>
            <a:pPr marL="332640" indent="-332640">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Su ingreso proviene de la ganadería extensiva, cultivo de granos básicos en terrenos de secano y venta de su propia mano de obra en predios de terceros.</a:t>
            </a:r>
            <a:endParaRPr b="1" lang="en-US" sz="2200" spc="-1" strike="noStrike">
              <a:solidFill>
                <a:srgbClr val="ffffff"/>
              </a:solidFill>
              <a:latin typeface="Arial"/>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14440" y="914400"/>
            <a:ext cx="5829120" cy="7213680"/>
          </a:xfrm>
          <a:prstGeom prst="rect">
            <a:avLst/>
          </a:prstGeom>
          <a:noFill/>
          <a:ln w="0">
            <a:noFill/>
          </a:ln>
        </p:spPr>
        <p:txBody>
          <a:bodyPr lIns="92160" rIns="92160" tIns="46080" bIns="46080" anchor="t">
            <a:normAutofit/>
          </a:bodyPr>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cuentemente, las propiedades tienen limitaciones legales de dominio.</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Bajo o nulo nivel de organización.</a:t>
            </a:r>
            <a:endParaRPr b="1" lang="en-US" sz="2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Frente a producciones de largo plazo, como la actividad forestal, sus principales limitaciones so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financiamiento para la inversión inicial y para la etapa de formación del recurso.</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gn="just">
              <a:spcBef>
                <a:spcPts val="55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isponer de conocimientos técnicos para la forestación, la formación y la comercialización de los productos del bosque.</a:t>
            </a:r>
            <a:endParaRPr b="1" lang="en-US" sz="22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ATEGIAS DE ACCIÓN</a:t>
            </a:r>
            <a:endParaRPr b="0" lang="en-US" sz="3200" spc="-1" strike="noStrike">
              <a:solidFill>
                <a:srgbClr val="cbcbcb"/>
              </a:solidFill>
              <a:latin typeface="Times New Roman"/>
            </a:endParaRPr>
          </a:p>
        </p:txBody>
      </p:sp>
      <p:sp>
        <p:nvSpPr>
          <p:cNvPr id="104" name="PlaceHolder 2"/>
          <p:cNvSpPr>
            <a:spLocks noGrp="1"/>
          </p:cNvSpPr>
          <p:nvPr>
            <p:ph/>
          </p:nvPr>
        </p:nvSpPr>
        <p:spPr>
          <a:xfrm>
            <a:off x="514440" y="1676520"/>
            <a:ext cx="5829120" cy="685800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	</a:t>
            </a:r>
            <a:r>
              <a:rPr b="0" lang="es-ES_tradnl" sz="2200" spc="-1" strike="noStrike">
                <a:solidFill>
                  <a:srgbClr val="ffffff"/>
                </a:solidFill>
                <a:latin typeface="Arial"/>
              </a:rPr>
              <a:t>Actualmente el programa se desarrolla en cuatro modalidades de acción:</a:t>
            </a:r>
            <a:endParaRPr b="1" lang="en-US" sz="2200" spc="-1" strike="noStrike">
              <a:solidFill>
                <a:srgbClr val="ffffff"/>
              </a:solidFill>
              <a:latin typeface="Arial"/>
            </a:endParaRPr>
          </a:p>
          <a:p>
            <a:pPr marL="3430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lgn="just">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CONAF/INDAP licitado: Donde actúan, CONAF como referente técnico, INDAP como fuente de financiamiento y como ejecutores directos, operadores y organizaciones campesinas.</a:t>
            </a:r>
            <a:endParaRPr b="1" lang="en-US" sz="22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AF/INDAP tradicional: Donde actúan, CONAF como captador, supervisor y respaldo técnico directo, INDAP como fuente de financiamiento y los usuarios como simples receptores.</a:t>
            </a:r>
            <a:endParaRPr b="1" lang="en-US" sz="2000" spc="-1" strike="noStrike">
              <a:solidFill>
                <a:srgbClr val="ffffff"/>
              </a:solidFill>
              <a:latin typeface="Arial"/>
            </a:endParaRPr>
          </a:p>
          <a:p>
            <a:pPr marL="343080" indent="0" algn="just">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venios en Mediería, donde participan, CONAF como captador, la empresa privada como ejecutor y el usuario quien aporta el terreno.</a:t>
            </a:r>
            <a:endParaRPr b="1" lang="en-US" sz="2000" spc="-1" strike="noStrike">
              <a:solidFill>
                <a:srgbClr val="ffffff"/>
              </a:solidFill>
              <a:latin typeface="Arial"/>
            </a:endParaRPr>
          </a:p>
          <a:p>
            <a:pPr lvl="1" marL="743040" indent="-28584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estión Subsidiaria participativa, donde participa CONAF que aporta asistencia técnica y las plantas y el usuario que aporta el terreno y su mano de obra.</a:t>
            </a:r>
            <a:endParaRPr b="1" lang="en-US" sz="20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21:57:02Z</dcterms:created>
  <dc:creator>José A. Cabello Medina.- JCM</dc:creator>
  <dc:description/>
  <dc:language>en-US</dc:language>
  <cp:lastModifiedBy>CONAF</cp:lastModifiedBy>
  <cp:lastPrinted>1999-11-03T19:25:20Z</cp:lastPrinted>
  <dcterms:modified xsi:type="dcterms:W3CDTF">1999-11-03T19:35:52Z</dcterms:modified>
  <cp:revision>18</cp:revision>
  <dc:subject/>
  <dc:title>Proyecto de Forestación de Pequeñas Propiedades</dc:title>
</cp:coreProperties>
</file>