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AF6-A3D6-4983-805F-0AE09103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ACC-2A41-4F52-9DA4-6908CA3B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CAA-262F-4040-B661-DE1F1FCB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70E-348A-4757-93C8-F508F47B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750-5D86-4774-85AA-71F63CC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9636-FADD-4504-B821-89A4C8D2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E4A6-512F-404C-8282-68BAC3D1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34E-3069-491D-8A4E-16719725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6AF-5DA2-4A8F-BD0D-90A619A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9751-C404-4521-A55B-48A619E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36F-03CC-4AEB-B684-A37077C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83E-9B90-4D04-B331-F79C0C0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BE36-7A60-4D97-9C92-E44238D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CAE-CB36-4C3E-B506-41B75C8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8A0-49B5-4AAE-BD92-1B596615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4192-50CD-446D-B7B3-7384B29A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D006-EEFA-4C4A-9A0F-F5F9E4CD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3BB-337C-4FCC-8AC3-B110C15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85B-F87B-44C7-96C5-D8378AA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215-6869-4D24-BBEB-99ACF2A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920-563C-4706-A914-DDEDAED9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809-27EE-4BD4-A487-CBE7EF5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B12-2E68-4B52-9D0F-CB4AEF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AD4-876C-40A8-BC70-2917351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31B-015E-4FC4-8206-A3281A53D34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BAC-2692-4AF7-A72A-E88458FF27A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FOMENTO Y DESARROLLO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 EN LA PEQUEÑA PROPIEDAD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114300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MBITOS DE AC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uelos descubiertos y Plantaciones existentes en pequeñas propiedades entre la IV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osque Nativo en pequeña propiedad entre la VII 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PLANT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5.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ERRAMIENTAS DE FO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nificacion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rest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cuperación de Sue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ansferencia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stablecimiento y Manejo de Plant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ejo de Cuencas y Sue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versificación de la Producción Silvícol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trol de Plagas y Enfermeda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u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puesta a la Soci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ptación de  Beneficiari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5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ecanismos de Financia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OL CONAF</a:t>
            </a: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Inducir y gestion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la creación de instrumen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de financiamiento</a:t>
            </a:r>
            <a:r>
              <a:rPr b="0" lang="es-ES_tradnl" sz="44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6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1 Mecanismos Vigen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AF - INDAP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VENIO DE MEDIE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BSIDIARIA PARTICIP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2 Mecanismos en Trámi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ución solidaria -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rédito Banco del Est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curitización Fundación C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3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mitantes para el desarrollo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 de Domin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pt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SQUE NATIV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  HERRAMIENTAS DE FOM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1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cen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nejo de Renov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forestación Bosques Degrad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rique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generación Natu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76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RANSFERENCIA TECN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nación del Bos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tensión Silvíco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EDUCACION Y CAPACITAC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ducación Ambient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pacitación Técnica - Form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-259308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ECANISMOS D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Vigen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A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operación Alemana KF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en Trám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y de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3 Limitantes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raestructu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mercializ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1. ANTECEDENTES GENERAL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1     Misión de CONAF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arantizar a al Sociedad el uso sostenible de 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cosistemas forestales, a objeto de contribuir 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miento de la calidad de vida de las actuales 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turas gen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OCALIZA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ribuye al ordenamiento territor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 la organización de los act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ucción de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tencia posibilidades de alianzas estratég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mite desarrollo integral de la comun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bilita creación de Centros Produc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2 DISPONIBILIDAD DE BOSQU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8487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9800" y="-6216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.3 LEYES DE FOMENTO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FORESTA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) Ley de Bosque de 193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bjetivo: Resguardar el patrimonio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forest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b) Ley de Fomento Forestal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de 1974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Modificado.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  Ley Nº   19.56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701:  Incorporar nuevas plantaciones al patrimonio forestal del paí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Modificado:  Incentivar plantaciones en pequeñas propiedades y recuperar suelos frágiles y degrad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DIAGNOSTICO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1 Propiedad de la Tierr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95680"/>
            <a:ext cx="8229600" cy="1828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240.000      Propietarios de superficie inferior a 200 ha,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elos de baja fert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160.000      Propiedades son de aptitud forestal, Propietarios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to índices de pobre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,00                3,6 millones de ha descubiert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llones de ha  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400.000 ha cubiertas con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952880"/>
            <a:ext cx="0" cy="1219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9528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6172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55627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1143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81280"/>
            <a:ext cx="0" cy="1524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3  Características del Pequeño Propietario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mitantes de financiamiento para la inversión inicial y para la etapa de formación del recur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conocimiento técnico para la forestación, la formación y la comercialización de los productos del bos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o nul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 OBJETIVO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BJETIVO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corporar la actividad forestal en la economía del pequeño propietario, junto con posibilitar la interrupción de procesos erosivos y la recuperación de suelos degrad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estar con especies de rápido             crecimiento terrenos descubiertos pertenecientes a pequeños productor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ejar el recurso nativo en manos de pequeños propietari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tección de las plantaciones y bosque nativo contra incendios y plagas foresta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2:12Z</dcterms:created>
  <dc:creator>CONAF</dc:creator>
  <dc:description/>
  <dc:language>en-US</dc:language>
  <cp:lastModifiedBy>CONAF</cp:lastModifiedBy>
  <cp:lastPrinted>1999-11-05T15:51:52Z</cp:lastPrinted>
  <dcterms:modified xsi:type="dcterms:W3CDTF">1999-11-08T14:49:31Z</dcterms:modified>
  <cp:revision>10</cp:revision>
  <dc:subject/>
  <dc:title>FOMENTO Y DESARROLLO   EN LA PEQUEÑA PROPIEDAD</dc:title>
</cp:coreProperties>
</file>