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B12E-3A70-4757-B505-0F011C725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58EA-2C8C-4FF0-80B7-04A71411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7AE3-500B-4D65-A722-EBFACDBD6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8AAF-FE25-4882-9AD5-5DBB96721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19A9-D6BE-41F2-8A01-8D22E72D5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C9B4-3E34-449C-BEC5-83452674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5A9E-75F7-4B78-8D2D-CC6926B3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B343-3FA0-44FE-B763-7F5A6AEF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6D97-ECC0-48F9-88C4-FD631FC5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1BE5-358F-4EC4-84BD-64E47E79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727D-F30D-4ECA-94BD-37862DE4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3BB9-02C9-45B6-9FDB-F6EEDD18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31BE-8A4B-4C17-A96D-E3439440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9330-5755-4DC2-8035-06CF8BD4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BC4C-758B-48A8-AE5F-9FD8E7F4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B0B6-BF5A-4223-A882-FBC3AFFFF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5572-6AC9-482A-BBEA-6F4CE7D17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4736-C772-4CB1-8D2E-FC6DC99A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21DF-2A98-4035-9B90-13C0C005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46EC-6EB5-4CBA-A214-F8C6FA5F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DDF6-1C81-4C83-B86E-6DBE5973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88A8-18F5-457D-AB98-EB77EFAF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D9A2-8A4C-446B-80A1-D61DA55A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18D7-535E-4523-B0FD-DCB0BCD1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939B-ACEF-4460-825C-72825C009EBC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B65A-D5EE-4DCD-BA0D-CC39480F6BD9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4c2b"/>
                </a:solidFill>
                <a:latin typeface="Times New Roman"/>
              </a:rPr>
              <a:t>FOMENTO Y DESARROLLO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4c2b"/>
                </a:solidFill>
                <a:latin typeface="Times New Roman"/>
              </a:rPr>
              <a:t> EN LA PEQUEÑA PROPIEDAD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-1143000" y="5867280"/>
            <a:ext cx="763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4.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AMBITOS DE ACC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Suelos descubiertos y Plantaciones existentes en pequeñas propiedades entre la IV y XI Región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Bosque Nativo en pequeña propiedad entre la VII  y XI Región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004c2b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4c2b"/>
                </a:solidFill>
                <a:latin typeface="Times New Roman"/>
              </a:rPr>
              <a:t>PLANTACIONES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5.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HERRAMIENTAS DE FOMENT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onificaciones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restació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Recuperación de Suelo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ransferencia Técnic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Establecimiento y Manejo de Plantacion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Manejo de Cuencas y Suel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iversificación de la Producción Silvícol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Control de Plagas y Enfermedad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7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ifusió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Respuesta a la Sociedad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Captación de  Beneficiario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c2b"/>
                </a:solidFill>
                <a:latin typeface="Times New Roman"/>
              </a:rPr>
              <a:t>5.2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4c2b"/>
                </a:solidFill>
                <a:latin typeface="Times New Roman"/>
              </a:rPr>
              <a:t>Mecanismos de Financiamiento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ROL CONAF</a:t>
            </a:r>
            <a:r>
              <a:rPr b="1" i="1" lang="es-ES_tradnl" sz="3200" spc="-1" strike="noStrike">
                <a:solidFill>
                  <a:srgbClr val="333333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1" i="1" lang="es-ES_tradnl" sz="4400" spc="-1" strike="noStrike">
                <a:solidFill>
                  <a:srgbClr val="333333"/>
                </a:solidFill>
                <a:latin typeface="Times New Roman"/>
              </a:rPr>
              <a:t>Inducir y gestionar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333333"/>
                </a:solidFill>
                <a:latin typeface="Times New Roman"/>
              </a:rPr>
              <a:t>la creación de instrumento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333333"/>
                </a:solidFill>
                <a:latin typeface="Times New Roman"/>
              </a:rPr>
              <a:t>de financiamiento</a:t>
            </a:r>
            <a:r>
              <a:rPr b="0" lang="es-ES_tradnl" sz="4400" spc="-1" strike="noStrike">
                <a:solidFill>
                  <a:srgbClr val="333333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 algn="ctr">
              <a:lnSpc>
                <a:spcPct val="16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 algn="ctr">
              <a:lnSpc>
                <a:spcPct val="1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5.2.1 Mecanismos Vigente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CONAF - INDAP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CONVENIO DE MEDIERI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SUBSIDIARIA PARTICIPATIV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ESPECIA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5.2.2 Mecanismos en Trámit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Caución solidaria - CORF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Crédito Banco del Estad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Securitización Fundación Chi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5.3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Limitantes para el desarrollo del Programa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ítulo de Domini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Bajo nivel de organizació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nanciamient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aptació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6.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BOSQUE NATIVO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6.1  HERRAMIENTAS DE FOMENT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6.1.1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Incentivo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lnSpc>
                <a:spcPct val="13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anejo de Renoval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Reforestación Bosques Degradad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Enriquecimient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lnSpc>
                <a:spcPct val="13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Regeneración Natur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-76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6.1.2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RANSFERENCIA TECNIC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rdenación del Bosqu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xtensión Silvícol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6.1.3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333333"/>
                </a:solidFill>
                <a:latin typeface="Times New Roman"/>
              </a:rPr>
              <a:t>EDUCACION Y CAPACITACION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lnSpc>
                <a:spcPct val="130000"/>
              </a:lnSpc>
              <a:spcBef>
                <a:spcPts val="700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ducación Ambienta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apacitación Técnica - Forma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-2593080"/>
            <a:ext cx="7086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6.2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MECANISMOS DE 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FINANCIAMIENTO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200000"/>
              </a:lnSpc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6.2.1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Mecanismos Vigent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A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operación Alemana KFW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6.2.2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Mecanismos en Trámi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lnSpc>
                <a:spcPct val="15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ey de Bosque Nativ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6.3 Limitantes del Programa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Financiamiento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Infraestructura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mercializació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1. ANTECEDENTES GENERALES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.1     Misión de CONAF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Garantizar a al Sociedad el uso sostenible de los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cosistemas forestales, a objeto de contribuir al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ejoramiento de la calidad de vida de las actuales 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uturas generacion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5.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FOCALIZAC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ontribuye al ordenamiento territoria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ejora la organización de los actor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educción de Cost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tencia posibilidades de alianzas estratégica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ermite desarrollo integral de la comunida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sibilita creación de Centros Productiv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1.2 DISPONIBILIDAD DE BOSQUE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9480" y="2286000"/>
            <a:ext cx="7848720" cy="3149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829800" y="-62161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1.3 LEYES DE FOMENTO 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FORESTAL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a) Ley de Bosque de 1931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Objetivo: Resguardar el patrimonio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              forestal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4c2b"/>
                </a:solidFill>
                <a:latin typeface="Times New Roman"/>
              </a:rPr>
              <a:t>b) Ley de Fomento Forestal </a:t>
            </a:r>
            <a:br>
              <a:rPr sz="4400"/>
            </a:br>
            <a:r>
              <a:rPr b="0" lang="es-ES_tradnl" sz="4400" spc="-1" strike="noStrike">
                <a:solidFill>
                  <a:srgbClr val="004c2b"/>
                </a:solidFill>
                <a:latin typeface="Times New Roman"/>
              </a:rPr>
              <a:t>    - DL 701 de 1974 </a:t>
            </a:r>
            <a:br>
              <a:rPr sz="4400"/>
            </a:br>
            <a:r>
              <a:rPr b="0" lang="es-ES_tradnl" sz="4400" spc="-1" strike="noStrike">
                <a:solidFill>
                  <a:srgbClr val="004c2b"/>
                </a:solidFill>
                <a:latin typeface="Times New Roman"/>
              </a:rPr>
              <a:t>    - DL 701 Modificado. </a:t>
            </a:r>
            <a:br>
              <a:rPr sz="4400"/>
            </a:br>
            <a:r>
              <a:rPr b="0" lang="es-ES_tradnl" sz="4400" spc="-1" strike="noStrike">
                <a:solidFill>
                  <a:srgbClr val="004c2b"/>
                </a:solidFill>
                <a:latin typeface="Times New Roman"/>
              </a:rPr>
              <a:t>      Ley Nº   19.561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bjetivo DL 701:  Incorporar nuevas plantaciones al patrimonio forestal del paí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880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88000" indent="-288000">
              <a:lnSpc>
                <a:spcPct val="12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bjetivo DL Modificado:  Incentivar plantaciones en pequeñas propiedades y recuperar suelos frágiles y degradado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2. DIAGNOSTICO</a:t>
            </a:r>
            <a:br>
              <a:rPr sz="1400"/>
            </a:br>
            <a:br>
              <a:rPr sz="1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2.1 Propiedad de la Tierra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752480"/>
            <a:ext cx="8534160" cy="480060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981080"/>
            <a:ext cx="8229600" cy="228600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4495680"/>
            <a:ext cx="8229600" cy="182880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4191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2057400"/>
            <a:ext cx="80769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240.000      Propietarios de superficie inferior a 200 ha, c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suelos de baja fertilida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160.000      Propiedades son de aptitud forestal, Propietarios c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alto índices de pobrez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4572000"/>
            <a:ext cx="8076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4,00                3,6 millones de ha descubierta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illones de ha   </a:t>
            </a:r>
            <a:r>
              <a:rPr b="0" lang="en-US" sz="2400" spc="-1" strike="noStrike" u="sng">
                <a:solidFill>
                  <a:srgbClr val="333333"/>
                </a:solidFill>
                <a:uFillTx/>
                <a:latin typeface="Times New Roman"/>
              </a:rPr>
              <a:t>400.000 ha cubiertas con bosque nativ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14600" y="4952880"/>
            <a:ext cx="0" cy="12193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14600" y="4952880"/>
            <a:ext cx="1522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6172200"/>
            <a:ext cx="1522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285640" y="5562720"/>
            <a:ext cx="2286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3581280"/>
            <a:ext cx="11430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676520" y="3428640"/>
            <a:ext cx="0" cy="152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33520" y="3428640"/>
            <a:ext cx="0" cy="152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81280"/>
            <a:ext cx="0" cy="152424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2.3  Características del Pequeño Propietario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Limitantes de financiamiento para la inversión inicial y para la etapa de formación del recurs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Bajo conocimiento técnico para la forestación, la formación y la comercialización de los productos del bos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Bajo o nulo nivel de organizació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3 OBJETIVOS: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3.1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OBJETIVO GENERA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ncorporar la actividad forestal en la economía del pequeño propietario, junto con posibilitar la interrupción de procesos erosivos y la recuperación de suelos degradados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3.2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Objetivos Específico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restar con especies de rápido             crecimiento terrenos descubiertos pertenecientes a pequeños productore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Manejar el recurso nativo en manos de pequeños propietario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rotección de las plantaciones y bosque nativo contra incendios y plagas forestale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9:52:12Z</dcterms:created>
  <dc:creator>CONAF</dc:creator>
  <dc:description/>
  <dc:language>en-US</dc:language>
  <cp:lastModifiedBy>CONAF</cp:lastModifiedBy>
  <cp:lastPrinted>1999-11-05T15:51:52Z</cp:lastPrinted>
  <dcterms:modified xsi:type="dcterms:W3CDTF">1999-11-08T14:49:31Z</dcterms:modified>
  <cp:revision>10</cp:revision>
  <dc:subject/>
  <dc:title>FOMENTO Y DESARROLLO   EN LA PEQUEÑA PROPIEDAD</dc:title>
</cp:coreProperties>
</file>