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E6E-DABC-4B2D-9E63-A67D203E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09D-926B-4C84-AA24-B53A2D17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51E-BAEE-4250-B7DB-8169A824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D3F-A37A-436C-8FFA-CA69BF9B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CF97-6499-4B02-A3BF-A35E824A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7653-EC8A-48BA-922C-33A8BDC8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257-4EFD-4615-A089-21BADFE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A130-6D2F-495D-92BE-FC05B68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89BE-7C97-47F0-9874-4BE72C6F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7DD6-8B44-477F-91E3-2755C7D6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8685-EFDF-4FCB-9311-6B54FE02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016-38F8-45A3-8166-61706EB8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CB4C-387C-46EF-BAC7-EEB4A4E1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75EE-4310-4116-A468-46A4633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F16B-DDA0-464C-8B6D-09345BE9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7A0E-C868-436C-A2D8-801CEC54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481E-B616-4DF2-A1D0-530BF855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992-4DA7-4D4E-B37E-D346D1C1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3C9-7A37-40AC-8366-03256715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5DD-EF92-4E79-AF41-FA204FB1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8ED-BDAE-409B-BB7B-9E8FF60C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7E7-E157-4476-B1A1-7F728F23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BD7-81EB-4849-A2FD-2C61A489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2FC-1D02-457A-876C-48305BBB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3DD8-6A7E-4EBC-A20B-34CB4C7AB47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706-EC00-4124-B892-D25D3329E06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FOMENTO Y DESARROLLO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 EN LA PEQUEÑA PROPIEDAD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1143000" y="5867280"/>
            <a:ext cx="76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MBITOS DE AC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uelos descubiertos y Plantaciones existentes en pequeñas propiedades entre la IV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Bosque Nativo en pequeña propiedad entre la VII 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PLANTACION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5.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ERRAMIENTAS DE FO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nificacion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rest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cuperación de Suel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ransferencia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stablecimiento y Manejo de Plantacion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Manejo de Cuencas y Suel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iversificación de la Producción Silvícol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trol de Plagas y Enfermeda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fus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puesta a la Socieda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aptación de  Beneficiari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5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Mecanismos de Financiamient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ROL CONAF</a:t>
            </a:r>
            <a:r>
              <a:rPr b="1" i="1" lang="es-ES_tradnl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Inducir y gestiona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la creación de instrument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de financiamiento</a:t>
            </a:r>
            <a:r>
              <a:rPr b="0" lang="es-ES_tradnl" sz="4400" spc="-1" strike="noStrike">
                <a:solidFill>
                  <a:srgbClr val="333333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6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1 Mecanismos Vigent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AF - INDAP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VENIO DE MEDIER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UBSIDIARIA PARTICIP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2 Mecanismos en Trámit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aución solidaria -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rédito Banco del Esta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curitización Fundación C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3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Limitantes para el desarrollo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ítulo de Domin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pt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OSQUE NATIV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  HERRAMIENTAS DE FOM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1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cen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nejo de Renov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forestación Bosques Degrada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riquecimi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generación Natu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76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RANSFERENCIA TECNI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rdenación del Bos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tensión Silvícol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3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EDUCACION Y CAPACITAC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ducación Ambient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pacitación Técnica - Form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-259308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ECANISMOS DE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2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Vigen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A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operación Alemana KF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2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en Trám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y de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3 Limitantes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fraestructur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mercializació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1. ANTECEDENTES GENERAL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.1     Misión de CONAF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arantizar a al Sociedad el uso sostenible de lo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cosistemas forestales, a objeto de contribuir 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miento de la calidad de vida de las actuales 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uturas gener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OCALIZA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tribuye al ordenamiento territor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 la organización de los acto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ducción de Cos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tencia posibilidades de alianzas estratégic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mite desarrollo integral de la comunid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ibilita creación de Centros Productiv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1.2 DISPONIBILIDAD DE BOSQU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78487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9800" y="-62161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1.3 LEYES DE FOMENTO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FORESTA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) Ley de Bosque de 193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Objetivo: Resguardar el patrimonio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        forest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b) Ley de Fomento Forestal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de 1974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Modificado.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  Ley Nº   19.561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701:  Incorporar nuevas plantaciones al patrimonio forestal del paí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Modificado:  Incentivar plantaciones en pequeñas propiedades y recuperar suelos frágiles y degradad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 DIAGNOSTICO</a:t>
            </a:r>
            <a:br>
              <a:rPr sz="1400"/>
            </a:br>
            <a:br>
              <a:rPr sz="1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1 Propiedad de la Tierr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2480"/>
            <a:ext cx="8534160" cy="48006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95680"/>
            <a:ext cx="8229600" cy="1828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191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8076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240.000      Propietarios de superficie inferior a 200 ha,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uelos de baja fertil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160.000      Propiedades son de aptitud forestal, Propietarios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lto índices de pobre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572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,00                3,6 millones de ha descubiert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llones de ha   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400.000 ha cubiertas con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952880"/>
            <a:ext cx="0" cy="1219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495288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617220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5640" y="5562720"/>
            <a:ext cx="228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581280"/>
            <a:ext cx="1143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676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3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81280"/>
            <a:ext cx="0" cy="1524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3  Características del Pequeño Propietario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imitantes de financiamiento para la inversión inicial y para la etapa de formación del recur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conocimiento técnico para la forestación, la formación y la comercialización de los productos del bos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o nul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 OBJETIVOS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1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OBJETIVO GENER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corporar la actividad forestal en la economía del pequeño propietario, junto con posibilitar la interrupción de procesos erosivos y la recuperación de suelos degradad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restar con especies de rápido             crecimiento terrenos descubiertos pertenecientes a pequeños productor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nejar el recurso nativo en manos de pequeños propietari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tección de las plantaciones y bosque nativo contra incendios y plagas forestal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2:12Z</dcterms:created>
  <dc:creator>CONAF</dc:creator>
  <dc:description/>
  <dc:language>en-US</dc:language>
  <cp:lastModifiedBy>CONAF</cp:lastModifiedBy>
  <cp:lastPrinted>1999-11-05T15:51:52Z</cp:lastPrinted>
  <dcterms:modified xsi:type="dcterms:W3CDTF">1999-11-08T14:49:31Z</dcterms:modified>
  <cp:revision>10</cp:revision>
  <dc:subject/>
  <dc:title>FOMENTO Y DESARROLLO   EN LA PEQUEÑA PROPIEDAD</dc:title>
</cp:coreProperties>
</file>