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0A0-B9A7-47C7-919B-7C0BF3AC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F41-8142-4F4B-86EF-63A9ADA0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7F3-8E1A-47CB-BB81-F4EA013F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568-379A-4650-A15E-88185E0A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6AC0-D1B5-4B17-90B6-AA69D71B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45B3-8026-4DC5-B836-8053BEE8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0F7B-9398-4864-A433-FDFE4851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7018-BCFE-4961-8B95-9E259713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F6A7-1B3E-4662-BD84-12B0CA3B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6B68-07A7-4993-A108-315B5B33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BA39-29A7-46A4-928B-5AEC185D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0CA0-439C-45D3-935E-13C587DF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3D05-7F33-4F18-8255-ABEA4938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6B8B-4078-45BD-80E5-B3BC9B44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F444-A822-4DE4-8C08-A9F372C6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1CD7-925D-4088-832A-1C743C7F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F2FF-C7E4-4F96-BC32-65426031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158-26F3-4B22-8D5A-B20DB3D9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C018-C0D6-4B13-8688-0273EAD7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510-3433-4BFE-8EDC-33608F1B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4F0-B5A7-4175-9F9B-3DD83ABF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057-6053-4BC3-A038-D25244D0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0D4-877C-4D1C-853A-1D36F60E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9094-6412-4697-9B2A-A967DB44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1D69-1D97-45B8-BF03-5656B2785E0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FF11-C56A-4C26-881C-3868F4C4BC9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4c2b"/>
                </a:solidFill>
                <a:latin typeface="Times New Roman"/>
              </a:rPr>
              <a:t>FOMENTO Y DESARROLLO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4c2b"/>
                </a:solidFill>
                <a:latin typeface="Times New Roman"/>
              </a:rPr>
              <a:t> EN LA PEQUEÑA PROPIEDAD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1143000" y="5867280"/>
            <a:ext cx="76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4.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AMBITOS DE ACC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uelos descubiertos y Plantaciones existentes en pequeñas propiedades entre la IV y XI Región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Bosque Nativo en pequeña propiedad entre la VII  y XI Región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PLANTACIONE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5.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ERRAMIENTAS DE FOMEN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onificaciones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restació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cuperación de Suel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ransferencia Técnic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Establecimiento y Manejo de Plantacion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Manejo de Cuencas y Suel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iversificación de la Producción Silvícol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ontrol de Plagas y Enfermedad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ifusió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spuesta a la Socieda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aptación de  Beneficiari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5.2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Mecanismos de Financiamiento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ROL CONAF</a:t>
            </a:r>
            <a:r>
              <a:rPr b="1" i="1" lang="es-ES_tradnl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Inducir y gestiona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la creación de instrument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s-ES_tradnl" sz="4400" spc="-1" strike="noStrike">
                <a:solidFill>
                  <a:srgbClr val="333333"/>
                </a:solidFill>
                <a:latin typeface="Times New Roman"/>
              </a:rPr>
              <a:t>de financiamiento</a:t>
            </a:r>
            <a:r>
              <a:rPr b="0" lang="es-ES_tradnl" sz="4400" spc="-1" strike="noStrike">
                <a:solidFill>
                  <a:srgbClr val="333333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ctr">
              <a:lnSpc>
                <a:spcPct val="16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 algn="ctr">
              <a:lnSpc>
                <a:spcPct val="1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.2.1 Mecanismos Vigent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ONAF - INDAP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ONVENIO DE MEDIER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SUBSIDIARIA PARTICIPAT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ESPECIA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.2.2 Mecanismos en Trámit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aución solidaria - CORF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rédito Banco del Estad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Securitización Fundación Chi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.3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Limitantes para el desarrollo del Program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ítulo de Domini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ajo nivel de organiz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nanciamien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apt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6.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BOSQUE NATIVO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1  HERRAMIENTAS DE FOMEN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1.1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Incentivo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nejo de Renova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eforestación Bosques Degradad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nriquecimient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egeneración Natur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-76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1.2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RANSFERENCIA TECNIC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rdenación del Bosq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xtensión Silvícol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1.3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EDUCACION Y CAPACITACION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ducación Ambient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apacitación Técnica - Form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-2593080"/>
            <a:ext cx="7086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6.2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MECANISMOS DE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FINANCIAMIENTO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20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6.2.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ecanismos Vigen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A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operación Alemana KFW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6.2.2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ecanismos en Trámi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ey de Bosque Na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6.3 Limitantes del Program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Financiamiento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Infraestructur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mercializació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1. ANTECEDENTES GENERALE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.1     Misión de CONAF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Garantizar a al Sociedad el uso sostenible de lo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cosistemas forestales, a objeto de contribuir al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joramiento de la calidad de vida de las actuales 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uturas generaci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5.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FOCALIZAC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ontribuye al ordenamiento territori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jora la organización de los actor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ducción de Cost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tencia posibilidades de alianzas estratégic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ermite desarrollo integral de la comunida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ibilita creación de Centros Productiv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1.2 DISPONIBILIDAD DE BOSQU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7848720" cy="314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829800" y="-62161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1.3 LEYES DE FOMENTO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FORESTAL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) Ley de Bosque de 1931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Objetivo: Resguardar el patrimonio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             forest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b) Ley de Fomento Forestal </a:t>
            </a:r>
            <a:br>
              <a:rPr sz="4400"/>
            </a:b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    - DL 701 de 1974 </a:t>
            </a:r>
            <a:br>
              <a:rPr sz="4400"/>
            </a:b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    - DL 701 Modificado. </a:t>
            </a:r>
            <a:br>
              <a:rPr sz="4400"/>
            </a:br>
            <a:r>
              <a:rPr b="0" lang="es-ES_tradnl" sz="4400" spc="-1" strike="noStrike">
                <a:solidFill>
                  <a:srgbClr val="004c2b"/>
                </a:solidFill>
                <a:latin typeface="Times New Roman"/>
              </a:rPr>
              <a:t>      Ley Nº   19.561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bjetivo DL 701:  Incorporar nuevas plantaciones al patrimonio forestal del paí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bjetivo DL Modificado:  Incentivar plantaciones en pequeñas propiedades y recuperar suelos frágiles y degradad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2. DIAGNOSTICO</a:t>
            </a:r>
            <a:br>
              <a:rPr sz="1400"/>
            </a:br>
            <a:br>
              <a:rPr sz="1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2.1 Propiedad de la Tierr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752480"/>
            <a:ext cx="8534160" cy="48006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981080"/>
            <a:ext cx="8229600" cy="22860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495680"/>
            <a:ext cx="8229600" cy="18288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4191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057400"/>
            <a:ext cx="8076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240.000      Propietarios de superficie inferior a 200 ha, c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suelos de baja fertilida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160.000      Propiedades son de aptitud forestal, Propietarios c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alto índices de pobrez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57200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,00                3,6 millones de ha descubiert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illones de ha   </a:t>
            </a:r>
            <a:r>
              <a:rPr b="0" lang="en-US" sz="2400" spc="-1" strike="noStrike" u="sng">
                <a:solidFill>
                  <a:srgbClr val="333333"/>
                </a:solidFill>
                <a:uFillTx/>
                <a:latin typeface="Times New Roman"/>
              </a:rPr>
              <a:t>400.000 ha cubiertas con bosque na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4952880"/>
            <a:ext cx="0" cy="1219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4952880"/>
            <a:ext cx="152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6172200"/>
            <a:ext cx="152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285640" y="5562720"/>
            <a:ext cx="2286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581280"/>
            <a:ext cx="11430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676520" y="3428640"/>
            <a:ext cx="0" cy="152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33520" y="3428640"/>
            <a:ext cx="0" cy="152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81280"/>
            <a:ext cx="0" cy="15242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2.3  Características del Pequeño Propietario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Limitantes de financiamiento para la inversión inicial y para la etapa de formación del recurs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ajo conocimiento técnico para la forestación, la formación y la comercialización de los productos del bosqu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ajo o nulo nivel de organiza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3 OBJETIVOS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3.1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OBJETIVO GENERA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corporar la actividad forestal en la economía del pequeño propietario, junto con posibilitar la interrupción de procesos erosivos y la recuperación de suelos degradado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3.2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restar con especies de rápido             crecimiento terrenos descubiertos pertenecientes a pequeños productore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anejar el recurso nativo en manos de pequeños propietari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8440" indent="-298440">
              <a:lnSpc>
                <a:spcPct val="11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otección de las plantaciones y bosque nativo contra incendios y plagas forestale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9:52:12Z</dcterms:created>
  <dc:creator>CONAF</dc:creator>
  <dc:description/>
  <dc:language>en-US</dc:language>
  <cp:lastModifiedBy>CONAF</cp:lastModifiedBy>
  <cp:lastPrinted>1999-11-05T15:51:52Z</cp:lastPrinted>
  <dcterms:modified xsi:type="dcterms:W3CDTF">1999-11-08T14:49:31Z</dcterms:modified>
  <cp:revision>10</cp:revision>
  <dc:subject/>
  <dc:title>FOMENTO Y DESARROLLO   EN LA PEQUEÑA PROPIEDAD</dc:title>
</cp:coreProperties>
</file>