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F5E-D4BB-4BB7-895A-B5CBF9F1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5BB-9D43-4169-A91E-008C3A5B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4C9-EC9F-4D50-8F92-9F929160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59A-7B68-4798-91F6-E6D80A1A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6C11-E562-4788-BFDD-3ABEE8C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688F-D3D7-4510-9380-95631428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9B1B-22D5-4DD2-843F-3B4B6ECA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8323-8088-4961-BBDD-51288152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C6A-41F0-45CA-90C3-9E56CF4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601A-D328-41EE-8B45-0A8200E8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1308-722B-464D-AE66-D9303B1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1B8-4155-480D-9B18-9835DF1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B70D-1E80-4A6A-B99C-FFA2D02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FFF3-8F90-4FAD-991F-441A429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E1F7-13DB-48A5-A2DC-6A6CF3E9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225-C806-4F10-84AD-BF151503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D07-879A-459B-BF84-7B446678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62D-D9A1-4585-B948-C541B076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313-B9FF-4981-A53A-D37290C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9C7-9E55-448C-BF5C-8E98F52E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1DB-14BE-4D5F-95D9-CC2056DE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758-0A19-49D0-AE4C-367A801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2BD-F1F6-46C1-BAD8-8F13536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BD3-C7DB-4024-A008-27BE5D1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122-2FA1-48C1-9168-FA837CDB542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00FF-3BDE-47DE-AA90-64B1FBF4ED1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FOMENTO Y DESARROLLO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 EN LA PEQUEÑA PROPIEDAD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1143000" y="58672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MBITOS DE AC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uelos descubiertos y Plantaciones existentes en pequeñas propiedades entre la IV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Bosque Nativo en pequeña propiedad entre la VII 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PLANTACION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5.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ERRAMIENTAS DE FO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nificacion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rest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cuperación de Suel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ansferencia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stablecimiento y Manejo de Plantacion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Manejo de Cuencas y Sue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versificación de la Producción Silvícol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trol de Plagas y Enfermeda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fus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puesta a la Socie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aptación de  Beneficiari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5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ecanismos de Financiamient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ROL CONAF</a:t>
            </a:r>
            <a:r>
              <a:rPr b="1" i="1" lang="es-ES_tradnl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Inducir y gestiona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la creación de instrument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de financiamiento</a:t>
            </a:r>
            <a:r>
              <a:rPr b="0" lang="es-ES_tradnl" sz="4400" spc="-1" strike="noStrike">
                <a:solidFill>
                  <a:srgbClr val="333333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6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1 Mecanismos Vigent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AF - INDAP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VENIO DE MEDIER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UBSIDIARIA PARTICIP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2 Mecanismos en Trámi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aución solidaria -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rédito Banco del Esta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curitización Fundación C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3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imitantes para el desarrollo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ítulo de Domin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pt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OSQUE NATIV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  HERRAMIENTAS DE FOM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1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cen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nejo de Renov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forestación Bosques Degrad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riqueci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generación Natu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76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RANSFERENCIA TECN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nación del Bos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tensión Silvíco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3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EDUCACION Y CAPACITAC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ducación Ambient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pacitación Técnica - Form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-259308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ECANISMOS DE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Vigen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A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operación Alemana KF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en Trám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y de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3 Limitantes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fraestructur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mercializació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1. ANTECEDENTES GENERAL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.1     Misión de CONAF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arantizar a al Sociedad el uso sostenible de lo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cosistemas forestales, a objeto de contribuir 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miento de la calidad de vida de las actuales 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uturas gener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OCALIZA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tribuye al ordenamiento territor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 la organización de los acto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ducción de Cos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tencia posibilidades de alianzas estratégic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mite desarrollo integral de la comuni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ibilita creación de Centros Productiv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.2 DISPONIBILIDAD DE BOSQU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8487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9800" y="-6216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.3 LEYES DE FOMENTO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FORESTA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) Ley de Bosque de 193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Objetivo: Resguardar el patrimonio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       forest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b) Ley de Fomento Forestal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de 1974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Modificado.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  Ley Nº   19.561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701:  Incorporar nuevas plantaciones al patrimonio forestal del paí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Modificado:  Incentivar plantaciones en pequeñas propiedades y recuperar suelos frágiles y degradad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 DIAGNOSTICO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1 Propiedad de la Tierr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95680"/>
            <a:ext cx="8229600" cy="1828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191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8076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240.000      Propietarios de superficie inferior a 200 ha,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uelos de baja fertil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160.000      Propiedades son de aptitud forestal, Propietarios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lto índices de pobre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,00                3,6 millones de ha descubiert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llones de ha   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400.000 ha cubiertas con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952880"/>
            <a:ext cx="0" cy="1219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95288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617220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5562720"/>
            <a:ext cx="228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81280"/>
            <a:ext cx="1143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76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3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81280"/>
            <a:ext cx="0" cy="1524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3  Características del Pequeño Propietario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mitantes de financiamiento para la inversión inicial y para la etapa de formación del recur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conocimiento técnico para la forestación, la formación y la comercialización de los productos del bos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o nul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 OBJETIVOS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1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OBJETIVO GENER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corporar la actividad forestal en la economía del pequeño propietario, junto con posibilitar la interrupción de procesos erosivos y la recuperación de suelos degrada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estar con especies de rápido             crecimiento terrenos descubiertos pertenecientes a pequeños productor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nejar el recurso nativo en manos de pequeños propietari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tección de las plantaciones y bosque nativo contra incendios y plagas forestal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2:12Z</dcterms:created>
  <dc:creator>CONAF</dc:creator>
  <dc:description/>
  <dc:language>en-US</dc:language>
  <cp:lastModifiedBy>CONAF</cp:lastModifiedBy>
  <cp:lastPrinted>1999-11-05T15:51:52Z</cp:lastPrinted>
  <dcterms:modified xsi:type="dcterms:W3CDTF">1999-11-08T14:49:31Z</dcterms:modified>
  <cp:revision>10</cp:revision>
  <dc:subject/>
  <dc:title>FOMENTO Y DESARROLLO   EN LA PEQUEÑA PROPIEDAD</dc:title>
</cp:coreProperties>
</file>