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B9A5C-AC7A-467D-9869-0EA977B34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5CB06-7B0A-4A9F-83B9-BD4F8A8F8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BC93D-2E28-4C4E-81D3-4BEED7AFF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3739D-91B7-4073-99F0-2F98F5CFC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B4A9C-5D97-4476-9694-BC11F6A95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1D6D4-F11F-4AE6-AA9D-EC0E6655B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2D350-55EF-4C0B-9278-1BBC99382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346AF-99AB-4910-9C22-490631840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7BA95-8BAD-432A-BAA2-7015689C0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3258C-CCF5-4C5F-9809-12A77235B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17F6B-D94C-4C1D-A772-D0B5C8526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89A7B-7044-4404-B2D6-E99AEB8C5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87082-85AA-44D2-A053-4CCACD8ABF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Capitulo IV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nstrumentos de Polític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sincentivos Económic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Impuestos o Cargas al Daño ( emisiones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Impuestos Asociados al Uso ( producto 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Tarifas ( Servicios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iterios de Selección de Instrument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ficacia   ( Objetivo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ficiencia  ( Costo / Beneficio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quidad  ( Todos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licabilidad ( Factible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cia  ( Integral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lección de Incentiv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Territorialidad  ( Forestación- B.Nativo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Marco- Legal    ( DL701 – B. Nativo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Continuidad   ( DL-701 y L- Nº1956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Respaldo Financiero  ( Tabla de Costos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Complementariedad   ( Indap y Sag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Administración  ( Conaf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 administr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paldo Instituc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bertura Personal y Territor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er de Coordin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scentraliz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doneidad Técn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doneidad Administrativ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nanciamiento Incentiv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orte Presupuesto Fiscal Anu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supuesto Extraordinar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uestos Especi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strumentos para el Desarrollo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orestal de Ch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equeña y Mediana Propieda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strumentos a la Forest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Ley de Fomento Forest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Crédito de Enlace Conaf- In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Crédito Forestal  Be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Caución Solidaria Corf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Gestión Subsidiaria Participati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Forestación Mediante Securitiz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strumentos de Fomento al Manejo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CMSB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Bosque Modelo Chilo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Programa Control de Plag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Protección Contra Incend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Manejo Plantaciones Pequeños Propietar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Manejo Mediante Securitiz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strumento Desarrollo Productivo C. Indígen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sarrollo Forestal y Gestión de Recursos Naturales de Comunidades Indígen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strumentos Fomento Recuperación de Suel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uperación Suelos ( Ley 18.561) CONA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uperación Suelos  SA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uperación Suelos IN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édito de Riego BE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io de Riego IN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asificación Según Ámbi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gislativos o Administrativos = Los especialistas denominan “comando -  control”, son parte de la normativa pública. Son imperativos no dejan elección de comportamiento, sin embargo pueden ser llamados incentivos.  Por ejemplo, Protección  Ambiente, Planes de manej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ros Instrumentos de Fomen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Instrumentos Asesorías y AsistenciaTécn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( Por Ej.: Prodecop, Apoyo Mujer Rural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Instrumentos Apoyo Asociatividad  ( Por ej.: PROFO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Instrumentos Apoyo Producción, Gestión y Competitividad ( Por Ej.:  Fia, Turismo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Otros Financieros Públicos y Privados ( Por Ej.: Libreta Sello Verde, Fogap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asificación Según Ámbi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trumentos Fiscales y de Precios = Son toda clase de incentivos financieros implantados por el Gobierno para lograr acciones previstas. Se crean condiciones para una  actividad individual , de grupo o entre grupos. Por ejemplo, DL-701, Banda de prec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asificación Según Ámbi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trumentos Sociales = No pueden influir directamente en un cambio de actitud, sirven para persuadir a la comunidad respecto a tener un cierto comportamiento social aceptable. Por ejemplo, Programa Anual de Prevención Contra Incendios Forestales, Plan A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asificación Según Ac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strumentos de Regulación Direct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Buscan generar un determinado comportamiento señalando que se debe hacer. Su no cumplimiento va asociado a sanciones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stos se dividen en dos tipo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stricciones Cuantitativas al Us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uotas ( pesca, caza, extracció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rechos y Concesiones ( turismo,minero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das ( permanentes y temporales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clusión (parques, reservas, santuario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mitaciones ( efluentes, emisiones,residuos sólido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dicionamiento al Uso o Explot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onificación ( Planes reguladores, pendient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misos de Establecimiento y Operación ( EIA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misos de Uso o Explotación ( Planes de Manej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asificación Según Ac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strumentos de regulación indirect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Corresponden a mecanismos que buscan inducir a la acción por vía de afectar la rentabilidad de una actividad, sea esta de consumo, producción o invers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stos se dividen en dos tipo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centivos Económic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bsidios y Bonificaciones (L Nº 19.561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ención de Tributos, Aranceles, Tarifas, Contribuciones ( DL-701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éditos, Líneas Preferenciales ( Corfo- Bco. del Estado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0T18:46:20Z</dcterms:created>
  <dc:creator>uco2002</dc:creator>
  <dc:description/>
  <dc:language>en-US</dc:language>
  <cp:lastModifiedBy>uco2002</cp:lastModifiedBy>
  <dcterms:modified xsi:type="dcterms:W3CDTF">2003-08-27T14:10:14Z</dcterms:modified>
  <cp:revision>9</cp:revision>
  <dc:subject/>
  <dc:title>Capitulo IV</dc:title>
</cp:coreProperties>
</file>