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1506-5F10-44A3-8ABB-DCF6F609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79FD-3D03-4DB3-8604-22857C94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1FCC-B52C-4C07-A1AF-03DCF38B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2F42-A3B1-49A1-B1F2-5D6453E9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01B9-A6A6-4BAC-A24C-3BC25F39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8ACA-6F0A-4A59-9801-B5FD5A8E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E967-EE93-4D92-B0EE-93FAE87A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EDE5-3BC5-460E-880A-10B7A784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5E5A-B489-4840-BEA3-09F28F4B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D62B-E868-4CBE-A5D0-AB6CC093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EED4-0A1A-4DAC-BA2B-5507E76A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F81C-4578-4E24-A1E2-0A031F05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F810-43E1-495B-BAA3-5FC85AAF2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pitulo I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trumentos de Polí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ncentivos Econó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mpuestos o Cargas al Daño ( emisione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mpuestos Asociados al Uso ( producto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s ( Servici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os de Selección de Instrum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cacia   ( Objetiv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ciencia  ( Costo / Benefici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dad  ( Tod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licabilidad ( Factible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cia  ( Integral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ción de Incen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erritorialidad  ( Forestación- B.Nativ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rco- Legal    ( DL701 – B. Nativ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tinuidad   ( DL-701 y L- Nº1956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spaldo Financiero  ( Tabla de Cost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plementariedad   ( Indap y Sag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dministración  ( Conaf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adminis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aldo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bertura Personal y Terri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r de Coord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entr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oneidad Té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oneidad Administra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miento Incen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orte Presupuesto Fiscal 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 Extraordi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esto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os para el Desarroll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estal de Ch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queña y Mediana Propie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a la Fores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ey de Fomento Fores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rédito de Enlace Conaf- In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rédito Forestal  B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ución Solidaria Cor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estión Subsidiaria Particip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orestación Mediante Securit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de Fomento al Manej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MSB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osque Modelo Chilo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grama Control de Pla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tección Contra Incen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nejo Plantaciones Pequeños Propie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nejo Mediante Securit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 Desarrollo Productivo C. Indíg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arrollo Forestal y Gestión de Recursos Naturales de Comunidades Indíg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Fomento Recuperación de Sue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peración Suelos ( Ley 18.561) CON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peración Suelos  S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peración Suelos IN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édito de Riego B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io de Riego IN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Ámb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islativos o Administrativos = Los especialistas denominan “comando -  control”, son parte de la normativa pública. Son imperativos no dejan elección de comportamiento, sin embargo pueden ser llamados incentivos.  Por ejemplo, Protección  Ambiente, Planes de mane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ros Instrumentos de Fo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strumentos Asesorías y AsistenciaTéc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 Por Ej.: Prodecop, Apoyo Mujer Rural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Instrumentos Apoyo Asociatividad  ( Por ej.: PROF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strumentos Apoyo Producción, Gestión y Competitividad ( Por Ej.:  Fia, Turismo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Financieros Públicos y Privados ( Por Ej.: Libreta Sello Verde, Foga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Ámb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mentos Fiscales y de Precios = Son toda clase de incentivos financieros implantados por el Gobierno para lograr acciones previstas. Se crean condiciones para una  actividad individual , de grupo o entre grupos. Por ejemplo, DL-701, Banda de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Ámb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mentos Sociales = No pueden influir directamente en un cambio de actitud, sirven para persuadir a la comunidad respecto a tener un cierto comportamiento social aceptable. Por ejemplo, Programa Anual de Prevención Contra Incendios Forestales, Plan A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mentos de Regulación Direc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Buscan generar un determinado comportamiento señalando que se debe hacer. Su no cumplimiento va asociado a san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tos se dividen en dos tipo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ricciones Cuantitativas al U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otas ( pesca, caza, extrac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echos y Concesiones ( turismo,miner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das ( permanentes y temporale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lusión (parques, reservas, santuari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ciones ( efluentes, emisiones,residuos sóli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cionamiento al Uso o Explo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nificación ( Planes reguladores, pendien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sos de Establecimiento y Operación ( EIA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sos de Uso o Explotación ( Planes de Manej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mentos de regulación indirec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Corresponden a mecanismos que buscan inducir a la acción por vía de afectar la rentabilidad de una actividad, sea esta de consumo, producción o inver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tos se dividen en dos tip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entivos Econó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idios y Bonificaciones (L Nº 19.561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nción de Tributos, Aranceles, Tarifas, Contribuciones ( DL-701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éditos, Líneas Preferenciales ( Corfo- Bco. del Estad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18:46:20Z</dcterms:created>
  <dc:creator>uco2002</dc:creator>
  <dc:description/>
  <dc:language>en-US</dc:language>
  <cp:lastModifiedBy>uco2002</cp:lastModifiedBy>
  <dcterms:modified xsi:type="dcterms:W3CDTF">2003-08-27T14:10:14Z</dcterms:modified>
  <cp:revision>9</cp:revision>
  <dc:subject/>
  <dc:title>Capitulo IV</dc:title>
</cp:coreProperties>
</file>