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EE4-67F4-4241-A845-74E69078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6DC-95EB-4013-91E2-652698AF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D81-DDEC-46AD-A947-2F93D2AE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B43-1156-4195-8D08-C5C1BFF7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54D-ABE3-43AE-BDDC-5FBDD105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DD8-1F89-4364-B9B7-540DCED0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CE2-B7B9-406C-92A0-B4CD3002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239-143A-47BA-A645-0779FAF1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97C-98B0-4746-9B81-C7238D29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539-1712-4BA8-A9D2-1C38DDF4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F74-2C35-4B2A-BC7D-3EFEF67B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85D-C59B-42CD-95DA-B31E0618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B3C9-8997-4353-BE8F-3D8787F6E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pitulo I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mentos de Polí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o Cargas al Daño ( emision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Asociados al Uso ( produc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s ( Servici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s de Selección de 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acia   ( Obje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encia  ( Costo / Benefic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  ( Tod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bilidad ( Factibl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ia  ( Integra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ción d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ritorialidad  ( Forestación- B.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co- Legal    ( DL701 – B. 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inuidad   ( DL-701 y L- Nº195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paldo Financiero  ( Tabla de Cost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lementariedad   ( Indap y Sa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dministración  ( Cona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dminis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ertura Personal y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Administ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miento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e Presupuesto Fiscal 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Extra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esto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os para el Desarro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stal de Ch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queña y Mediana Propie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a la Fores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ey de Fomento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de Enlace Conaf-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Forestal 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ución Solidaria Cor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stión Subsidiaria Particip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restación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e Fomento al Manej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MS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sque Modelo Chilo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Control de Pl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cción Contra Incen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Plantaciones Pequeños Propie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 Desarrollo Productivo C. Indíg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 Forestal y Gestión de Recursos Naturales de Comunidades Indí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Fomento Recuperación de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( Ley 18.561) CON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 S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 de Riego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 de Riego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os o Administrativos = Los especialistas denominan “comando -  control”, son parte de la normativa pública. Son imperativos no dejan elección de comportamiento, sin embargo pueden ser llamados incentivos.  Por ejemplo, Protección  Ambiente, Planes de mane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Instrumentos de F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sesorías y Asistencia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Por Ej.: Prodecop, Apoyo Mujer Rur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Instrumentos Apoyo Asociatividad  ( Por ej.: P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poyo Producción, Gestión y Competitividad ( Por Ej.:  Fia, Turism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Financieros Públicos y Privados ( Por Ej.: Libreta Sello Verde, Foga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Fiscales y de Precios = Son toda clase de incentivos financieros implantados por el Gobierno para lograr acciones previstas. Se crean condiciones para una  actividad individual , de grupo o entre grupos. Por ejemplo, DL-701, Band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Sociales = No pueden influir directamente en un cambio de actitud, sirven para persuadir a la comunidad respecto a tener un cierto comportamiento social aceptable. Por ejemplo, Programa Anual de Prevención Contra Incendios Forestales, Plan 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Buscan generar un determinado comportamiento señalando que se debe hacer. Su no cumplimiento va asociado a san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ciones Cuantitativas al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otas ( pesca, caza, extrac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echos y Concesiones ( turismo,miner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das ( permanentes y temporal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ón (parques, reservas, santuar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ciones ( efluentes, emisiones,residuos s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amiento al Uso o Expl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ificación ( Planes reguladores, pendi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Establecimiento y Operación ( EI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Uso o Explotación ( Planes de Manej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in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Corresponden a mecanismos que buscan inducir a la acción por vía de afectar la rentabilidad de una actividad, sea esta de consumo, producción o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s y Bonificaciones (L Nº 19.56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nción de Tributos, Aranceles, Tarifas, Contribuciones ( DL-70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s, Líneas Preferenciales ( Corfo- Bco. del Est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8:46:20Z</dcterms:created>
  <dc:creator>uco2002</dc:creator>
  <dc:description/>
  <dc:language>en-US</dc:language>
  <cp:lastModifiedBy>uco2002</cp:lastModifiedBy>
  <dcterms:modified xsi:type="dcterms:W3CDTF">2003-08-27T14:10:14Z</dcterms:modified>
  <cp:revision>9</cp:revision>
  <dc:subject/>
  <dc:title>Capitulo IV</dc:title>
</cp:coreProperties>
</file>