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3BC-55BD-48CB-8667-CF9600CA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ACC-7B94-4095-974C-EFC7DAE1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F50-F7F8-4DD6-9E17-5C7B0FD0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1A8-1C5A-446F-A4B5-932E8A19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00D-6C76-4CDF-934C-218B7E78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0CB-C8D8-4C6C-B0C4-E65E9777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513-5A89-4592-A971-0EAD1098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091-AB7E-430D-B06B-5F89FE74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F01-6541-418C-A68D-1F752F22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186-5634-4CED-9098-EAEFF51A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21F-637B-4941-95D9-5E71FE81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D29-01B6-4296-AF92-981AB910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AE53-42F0-4EA4-8B12-0146CB364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pitulo I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rumentos de Polí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o Cargas al Daño ( emision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Asociados al Uso ( produc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s ( Servici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s de Selección de 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acia   ( Obje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iencia  ( Costo / Benefici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dad  ( Tod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cabilidad ( Factibl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ia  ( Integral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ción de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rritorialidad  ( Forestación- B.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rco- Legal    ( DL701 – B. 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tinuidad   ( DL-701 y L- Nº195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paldo Financiero  ( Tabla de Cost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lementariedad   ( Indap y Sag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dministración  ( Conaf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adminis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bertura Personal y Terr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de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ent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Administra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miento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rte Presupuesto Fiscal 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Extraord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esto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os para el Desarroll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estal de Ch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queña y Mediana Propie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a la Fores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ey de Fomento F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de Enlace Conaf-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Forestal 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ución Solidaria Cor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stión Subsidiaria Particip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orestación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de Fomento al Manej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MSB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osque Modelo Chilo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 Control de Pla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tección Contra Incen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Plantaciones Pequeños Propie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 Desarrollo Productivo C. Indíg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o Forestal y Gestión de Recursos Naturales de Comunidades Indí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Fomento Recuperación de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( Ley 18.561) CON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 S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 de Riego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 de Riego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islativos o Administrativos = Los especialistas denominan “comando -  control”, son parte de la normativa pública. Son imperativos no dejan elección de comportamiento, sin embargo pueden ser llamados incentivos.  Por ejemplo, Protección  Ambiente, Planes de mane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os Instrumentos de Fo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sesorías y AsistenciaTé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Por Ej.: Prodecop, Apoyo Mujer Rura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Instrumentos Apoyo Asociatividad  ( Por ej.: PROF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poyo Producción, Gestión y Competitividad ( Por Ej.:  Fia, Turism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Financieros Públicos y Privados ( Por Ej.: Libreta Sello Verde, Foga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Fiscales y de Precios = Son toda clase de incentivos financieros implantados por el Gobierno para lograr acciones previstas. Se crean condiciones para una  actividad individual , de grupo o entre grupos. Por ejemplo, DL-701, Band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Sociales = No pueden influir directamente en un cambio de actitud, sirven para persuadir a la comunidad respecto a tener un cierto comportamiento social aceptable. Por ejemplo, Programa Anual de Prevención Contra Incendios Forestales, Plan 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Buscan generar un determinado comportamiento señalando que se debe hacer. Su no cumplimiento va asociado a san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ciones Cuantitativas al U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otas ( pesca, caza, extrac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echos y Concesiones ( turismo,miner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das ( permanentes y temporal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sión (parques, reservas, santuar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ciones ( efluentes, emisiones,residuos s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cionamiento al Uso o Expl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nificación ( Planes reguladores, pendie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Establecimiento y Operación ( EIA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Uso o Explotación ( Planes de Manej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in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Corresponden a mecanismos que buscan inducir a la acción por vía de afectar la rentabilidad de una actividad, sea esta de consumo, producción o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s y Bonificaciones (L Nº 19.56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nción de Tributos, Aranceles, Tarifas, Contribuciones ( DL-70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s, Líneas Preferenciales ( Corfo- Bco. del Est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8:46:20Z</dcterms:created>
  <dc:creator>uco2002</dc:creator>
  <dc:description/>
  <dc:language>en-US</dc:language>
  <cp:lastModifiedBy>uco2002</cp:lastModifiedBy>
  <dcterms:modified xsi:type="dcterms:W3CDTF">2003-08-27T14:10:14Z</dcterms:modified>
  <cp:revision>9</cp:revision>
  <dc:subject/>
  <dc:title>Capitulo IV</dc:title>
</cp:coreProperties>
</file>