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8ABD-A9B0-48D5-82D9-9D47C7AEB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BFDF-DC7B-4957-854B-232DE2B3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BE4C-1A1A-44D8-A5F6-A7C5F219B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0D69-B98F-48C3-B7A6-9264FFCB6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CB7C-CFE7-497A-8D8B-B7CFF56E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D523-0730-4CB0-9CC5-E9151DAA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8A1C-07B3-485B-8330-9ED7ADF8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B9E1-0843-4FDB-9C97-5E7B7587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E49D-9440-44B0-A03D-61621EDC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D18A-827E-4292-A954-9F6199E9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5D21-3C97-4070-94CE-D9682B69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99A8-7B5B-4568-9CF3-5210DBB2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1B89-880D-42A2-8E5D-842F4A174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apitulo IV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strumentos de Polít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ncentivos Económ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mpuestos o Cargas al Daño ( emisione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mpuestos Asociados al Uso ( producto 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rifas ( Servicio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erios de Selección de Instrumen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icacia   ( Objetiv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iciencia  ( Costo / Benefici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dad  ( Todo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licabilidad ( Factible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cia  ( Integral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ción de Incen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erritorialidad  ( Forestación- B.Nativ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rco- Legal    ( DL701 – B. Nativ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ntinuidad   ( DL-701 y L- Nº1956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spaldo Financiero  ( Tabla de Costo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mplementariedad   ( Indap y Sag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dministración  ( Conaf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administ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aldo Institu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bertura Personal y Territo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r de Coordin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entr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oneidad Téc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oneidad Administrativ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nciamiento Incen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orte Presupuesto Fiscal 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upuesto Extraordi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uestos Espe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strumentos para el Desarroll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estal de Ch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queña y Mediana Propie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rumentos a la Fores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ey de Fomento Fores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rédito de Enlace Conaf- In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rédito Forestal  B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aución Solidaria Cor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Gestión Subsidiaria Particip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Forestación Mediante Securit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rumentos de Fomento al Manej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MSB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osque Modelo Chilo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grama Control de Pla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tección Contra Incend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nejo Plantaciones Pequeños Propiet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nejo Mediante Securit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rumento Desarrollo Productivo C. Indíge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arrollo Forestal y Gestión de Recursos Naturales de Comunidades Indíge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rumentos Fomento Recuperación de Sue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peración Suelos ( Ley 18.561) CONA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peración Suelos  S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peración Suelos IN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édito de Riego B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io de Riego IN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ificación Según Ámb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gislativos o Administrativos = Los especialistas denominan “comando -  control”, son parte de la normativa pública. Son imperativos no dejan elección de comportamiento, sin embargo pueden ser llamados incentivos.  Por ejemplo, Protección  Ambiente, Planes de mane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ros Instrumentos de Fo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strumentos Asesorías y AsistenciaTéc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( Por Ej.: Prodecop, Apoyo Mujer Rural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Instrumentos Apoyo Asociatividad  ( Por ej.: PROF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strumentos Apoyo Producción, Gestión y Competitividad ( Por Ej.:  Fia, Turismo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Financieros Públicos y Privados ( Por Ej.: Libreta Sello Verde, Fogap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ificación Según Ámb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mentos Fiscales y de Precios = Son toda clase de incentivos financieros implantados por el Gobierno para lograr acciones previstas. Se crean condiciones para una  actividad individual , de grupo o entre grupos. Por ejemplo, DL-701, Banda de pre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ificación Según Ámb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mentos Sociales = No pueden influir directamente en un cambio de actitud, sirven para persuadir a la comunidad respecto a tener un cierto comportamiento social aceptable. Por ejemplo, Programa Anual de Prevención Contra Incendios Forestales, Plan A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ificación Según 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mentos de Regulación Direc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Buscan generar un determinado comportamiento señalando que se debe hacer. Su no cumplimiento va asociado a sancion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stos se dividen en dos tipo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tricciones Cuantitativas al U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otas ( pesca, caza, extrac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echos y Concesiones ( turismo,miner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das ( permanentes y temporale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lusión (parques, reservas, santuari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ciones ( efluentes, emisiones,residuos sólid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icionamiento al Uso o Explo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nificación ( Planes reguladores, pendient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sos de Establecimiento y Operación ( EIA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sos de Uso o Explotación ( Planes de Manej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ificación Según 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trumentos de regulación indirec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Corresponden a mecanismos que buscan inducir a la acción por vía de afectar la rentabilidad de una actividad, sea esta de consumo, producción o invers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stos se dividen en dos tip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entivos Económ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idios y Bonificaciones (L Nº 19.561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nción de Tributos, Aranceles, Tarifas, Contribuciones ( DL-701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éditos, Líneas Preferenciales ( Corfo- Bco. del Estad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0T18:46:20Z</dcterms:created>
  <dc:creator>uco2002</dc:creator>
  <dc:description/>
  <dc:language>en-US</dc:language>
  <cp:lastModifiedBy>uco2002</cp:lastModifiedBy>
  <dcterms:modified xsi:type="dcterms:W3CDTF">2003-08-27T14:10:14Z</dcterms:modified>
  <cp:revision>9</cp:revision>
  <dc:subject/>
  <dc:title>Capitulo IV</dc:title>
</cp:coreProperties>
</file>