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622-9DFA-491C-958D-4B419C38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61A-3CA6-41C3-A7B3-220EDC38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92F-5F37-4A10-A8AB-2F76F07D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D68-3FC9-4E4D-812F-50642D0C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BB3B-BA30-4526-B5E8-86523B4C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996F-0006-4687-9A5E-1A7A3873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B10D-5E01-4AD0-846E-2B504CAB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AB71-5C43-4CF7-8C12-85ECA171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2C85-E759-4903-9A0D-39F297E5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0A4C-27ED-4370-B28E-CE81B978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EB0C-75F5-4E40-8139-1378F695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829-229E-415E-84D0-5942D5DB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BA02-80E1-4EE6-917F-9337DACE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83AB-B899-4A8C-BDC5-10AD710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4C48-0D1A-4536-B0C4-4B7125B7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CC9B-BA36-49EE-96EF-D9627C1C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B5AE-FA59-4DC9-B5E9-4DE8157F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8FC-82FE-4A4F-98C1-C52F30C4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4C9-86C0-40BB-AED0-ACB7B492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85A-3298-4288-913B-B42062DD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D03-F827-4478-B305-023F8084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B18-B227-4E22-8231-F4378AB8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415-A54D-4C8A-9308-77C4BEF5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B8B-D4B5-4F9F-AE3D-05EA4306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121896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eoría de Sistemas, Ucinf, 2004, Gerardo Cerda Neumann, gcerda@ucinf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33EF-9822-42BA-B2BE-B6EA563BBE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B263-AA75-410B-81BB-793FB50FB7A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132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133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137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141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idad d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encias de la Informática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cuela de Ingeniería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ignatura: “Teoría de Sistema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2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or: Gerardo Cerda Neu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fronter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era del sistema: se entiende la línea que separa el sistema de su entorno (o supersistema) y que define lo que le pertenece y lo está fuera de é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gregar un décimo nivel a la jerarquía de Boulding: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ecoló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logía: ciencia natural situada por encima de las especialidades, es la ciencia de la economía de la naturaleza. Abarca a todas las ciencias naturales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. F. Thieneman, “Vida y mundo circundante”, Eudeba, Argentina 196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B9F-1706-40DE-9429-DA7A0D471F2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fronter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ción del sistema o el establecimiento de sus fronteras puede ser un problema difícil de reso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gunta es: ¿ qué es lo que se quiere observar o estud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ficultad para fijar la frontera se basa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uy difícil aislar los aspectos estrictamente mecánicos de un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lación entre sistemas no se limita a una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edio modifica el sistema y vice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94E-F26D-4DA5-8D07-F6C4EF1DEA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fronter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a de supersistema define al sistema en relación con su medio inmedi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a de subsistema define al sistema en relación con sus principale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889-72D9-4CE0-A1B2-0DB07FBB19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stemas abiertos y sistemas cer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relaciones del sistema definen la conducta de éste. Su ruptura implica la ruptur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un sistema estático sus atributos no cambian con el tiempo (cielo raso y resorte sin move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un sistema dinámico los atributos cambian con el tiempo (cielo raso y resorte en movimi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cerrad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 producto (la corriente de salida) modifica la corriente de entrada (insum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abier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corriente de salida no modifica la corriente de ent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480-187D-463F-8236-D664BDDDA3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stemas abiertos y sistemas cer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 de sistema cerrado: sistema de calefacción de temperatura “constante” en una hab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 de sistema abierto: un estanque con la llave abierta en el que la salida del agua no tiene relación con la entrada del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ísticas de un sistema cerr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variaciones del medio que afectan al sistema son conoc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ocurrencia no puede ser prede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naturaleza de las variaciones es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CB9-A2B4-4B75-B994-F2C9701E51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stemas abiertos y sistemas cer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n Bertalanf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sistema cerrado no intercambia energía con su medio ambiente y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abier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a con su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. L. Parseg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abier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intercambio de energía e información entre el sistema y 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ntercambio permite mantener un equilib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relaciones con el entorno permiten cambios y adap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D04-C998-41AF-9370-50E0624807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El surgimiento del pensamiento de sistemas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¡ Eso es todo amigos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2273400"/>
          <a:ext cx="382284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73400"/>
                    <a:ext cx="382284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B0B-0A34-4352-A7AC-0CDA21E77C3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02:40:38Z</dcterms:created>
  <dc:creator>GERARDO CERDA</dc:creator>
  <dc:description/>
  <dc:language>en-US</dc:language>
  <cp:lastModifiedBy>Gcerda</cp:lastModifiedBy>
  <dcterms:modified xsi:type="dcterms:W3CDTF">2004-09-13T22:52:08Z</dcterms:modified>
  <cp:revision>23</cp:revision>
  <dc:subject/>
  <dc:title>Universidad de Ciencias de la Informática Escuela de Ingeniería Asignatura: “Teoría de Sistemas”</dc:title>
</cp:coreProperties>
</file>