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0"/>
            <a:ext cx="6984000" cy="9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move the slide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57480" y="8805960"/>
            <a:ext cx="30276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8805960"/>
            <a:ext cx="3027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957480" y="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57480" y="8807400"/>
            <a:ext cx="30276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5000" bIns="45000" anchor="b">
            <a:noAutofit/>
          </a:bodyPr>
          <a:p>
            <a:pPr algn="r"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880740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30272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84400" y="701640"/>
            <a:ext cx="4618080" cy="346392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31680" y="4403880"/>
            <a:ext cx="5121000" cy="41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2601-5990-4DD4-B5DF-48FEFC72E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BD790-DD3F-4FD5-B71E-EB0B149C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6DCF-C34B-43C4-AB65-A4F7871D2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B8F2-1146-483A-AED6-F0E474E8D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4FD7A-ACC3-4E17-ABA6-5506E676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36EEC-57B7-4A2F-BCBE-611F2CBCE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D4803-C34B-4AE2-9D85-72BB7537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F4F2-4DDF-4BA7-B738-030A84EE7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4FE6-A6A1-40DF-A242-56566BFE9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92ED2-EF5D-480C-9676-C1172111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BBA94-D42A-4F84-AA4E-D97A9E9AF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141D-B1E5-44C4-96DF-CC9F8F6F9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987B2-40C6-497F-B32E-F5929B3B1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DBB1C-DEE4-49C8-A24C-FB87841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F0C4C-A9D5-41DF-800F-9752381D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6ED05-FA4C-4522-AE1F-AD5B8931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980F4-9725-4E1A-B765-9C3A0D4AF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9736-74E6-4A9B-B165-21B024A3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F8B2-DEAB-45B5-B3CF-4A3DE68D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C3FF-4EC6-49C9-9077-8481E3DB2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0996-F385-4B20-97E8-FB3058EE9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6B79-C69C-487F-861F-1B26F8E2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E967-A2FA-4A8E-B0FC-5776641C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A045-7746-41C2-8555-E8630A0DD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1218960" y="6248520"/>
            <a:ext cx="6172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1" lang="es-ES_tradnl" sz="1400" spc="-1" strike="noStrike">
                <a:solidFill>
                  <a:srgbClr val="000000"/>
                </a:solidFill>
                <a:latin typeface="Times New Roman"/>
              </a:rPr>
              <a:t>Teoría de Sistemas, Ucinf, 2004, Gerardo Cerda Neumann, gcerda@ucinf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F0D0-AD31-4735-9683-BD5967C844A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0B0F4-CEFD-414D-B807-F85D1B957C2B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1e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378000" y="1676520"/>
            <a:ext cx="8389800" cy="4421160"/>
            <a:chOff x="378000" y="1676520"/>
            <a:chExt cx="8389800" cy="4421160"/>
          </a:xfrm>
        </p:grpSpPr>
        <p:grpSp>
          <p:nvGrpSpPr>
            <p:cNvPr id="132" name=""/>
            <p:cNvGrpSpPr/>
            <p:nvPr/>
          </p:nvGrpSpPr>
          <p:grpSpPr>
            <a:xfrm>
              <a:off x="378000" y="1676520"/>
              <a:ext cx="8389800" cy="2211120"/>
              <a:chOff x="378000" y="1676520"/>
              <a:chExt cx="8389800" cy="2211120"/>
            </a:xfrm>
          </p:grpSpPr>
          <p:sp>
            <p:nvSpPr>
              <p:cNvPr id="133" name=""/>
              <p:cNvSpPr/>
              <p:nvPr/>
            </p:nvSpPr>
            <p:spPr>
              <a:xfrm>
                <a:off x="385920" y="1677960"/>
                <a:ext cx="8369280" cy="220824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378000" y="1676520"/>
                <a:ext cx="837072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0" y="0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396720" y="1676520"/>
                <a:ext cx="8371080" cy="2211120"/>
              </a:xfrm>
              <a:custGeom>
                <a:avLst/>
                <a:gdLst/>
                <a:ahLst/>
                <a:rect l="l" t="t" r="r" b="b"/>
                <a:pathLst>
                  <a:path w="5273" h="1393">
                    <a:moveTo>
                      <a:pt x="5272" y="0"/>
                    </a:moveTo>
                    <a:lnTo>
                      <a:pt x="5272" y="1392"/>
                    </a:lnTo>
                    <a:lnTo>
                      <a:pt x="0" y="1392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80880" y="5943600"/>
              <a:ext cx="8383680" cy="154080"/>
              <a:chOff x="380880" y="5943600"/>
              <a:chExt cx="8383680" cy="154080"/>
            </a:xfrm>
          </p:grpSpPr>
          <p:sp>
            <p:nvSpPr>
              <p:cNvPr id="137" name=""/>
              <p:cNvSpPr/>
              <p:nvPr/>
            </p:nvSpPr>
            <p:spPr>
              <a:xfrm>
                <a:off x="380880" y="5943600"/>
                <a:ext cx="8382240" cy="15228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0" y="0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0880" y="5943600"/>
                <a:ext cx="8383680" cy="154080"/>
              </a:xfrm>
              <a:custGeom>
                <a:avLst/>
                <a:gdLst/>
                <a:ahLst/>
                <a:rect l="l" t="t" r="r" b="b"/>
                <a:pathLst>
                  <a:path w="5281" h="97">
                    <a:moveTo>
                      <a:pt x="5280" y="0"/>
                    </a:moveTo>
                    <a:lnTo>
                      <a:pt x="5280" y="96"/>
                    </a:lnTo>
                    <a:lnTo>
                      <a:pt x="0" y="96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" name=""/>
            <p:cNvGrpSpPr/>
            <p:nvPr/>
          </p:nvGrpSpPr>
          <p:grpSpPr>
            <a:xfrm>
              <a:off x="536400" y="1905120"/>
              <a:ext cx="154080" cy="1752480"/>
              <a:chOff x="536400" y="1905120"/>
              <a:chExt cx="154080" cy="1752480"/>
            </a:xfrm>
          </p:grpSpPr>
          <p:sp>
            <p:nvSpPr>
              <p:cNvPr id="141" name=""/>
              <p:cNvSpPr/>
              <p:nvPr/>
            </p:nvSpPr>
            <p:spPr>
              <a:xfrm>
                <a:off x="536400" y="1906560"/>
                <a:ext cx="152640" cy="1751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96" y="1103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b2b2b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36400" y="1905120"/>
                <a:ext cx="154080" cy="1752480"/>
              </a:xfrm>
              <a:custGeom>
                <a:avLst/>
                <a:gdLst/>
                <a:ahLst/>
                <a:rect l="l" t="t" r="r" b="b"/>
                <a:pathLst>
                  <a:path w="97" h="1104">
                    <a:moveTo>
                      <a:pt x="0" y="1103"/>
                    </a:moveTo>
                    <a:lnTo>
                      <a:pt x="0" y="0"/>
                    </a:lnTo>
                    <a:lnTo>
                      <a:pt x="96" y="0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iversidad de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iencias de la Informátic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scuela de Ingeniería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Asignatura: “Teoría de Sistemas”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1371240" y="4038120"/>
            <a:ext cx="670572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or: Gerardo Cerda Neuman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19320" y="228600"/>
            <a:ext cx="723888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ntera del sistema: se entiende la línea que separa el sistema de su entorno (o supersistema) y que define lo que le pertenece y lo está fuera de é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 puede agregar un décimo nivel a la jerarquía de Boulding: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ecológic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logía: ciencia natural situada por encima de las especialidades, es la ciencia de la economía de la naturaleza. Abarca a todas las ciencias naturales.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A. F. Thieneman, “Vida y mundo circundante”, Eudeba, Argentina 1965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3C69-5794-46FA-8A9E-8D8286D5D573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finición del sistema o el establecimiento de sus fronteras puede ser un problema difícil de resol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egunta es: ¿ qué es lo que se quiere observar o estudia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ificultad para fijar la frontera se basa 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 muy difícil aislar los aspectos estrictamente mecánicos de un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lación entre sistemas no se limita a una famil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edio modifica el sistema y vicever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F609-FCB0-478B-A730-CF5DDF1E10A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as fronteras del sis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persistema define al sistema en relación con su medio inmedi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idea de subsistema define al sistema en relación con sus principales compon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27E4-B931-4B42-A925-533D28909E59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del sistema definen la conducta de éste. Su ruptura implica la ruptura del sist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estático sus atributos no cambian con el tiempo (cielo raso y resorte sin movers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un sistema dinámico los atributos cambian con el tiempo (cielo raso y resorte en movimien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cerrad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l producto (la corriente de salida) modifica la corriente de entrada (insum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a corriente de salida no modifica la corriente de entrad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823C-08D2-4EBF-B143-D8A79E37C97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cerrado: sistema de calefacción de temperatura “constante” en una habit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emplo de sistema abierto: un estanque con la llave abierta en el que la salida del agua no tiene relación con la entrada del mism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acterísticas de un sistema cerr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variaciones del medio que afectan al sistema son conoc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ocurrencia no puede ser prede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naturaleza de las variaciones es conoc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F7A2-3689-45EC-BB7F-EFA6AB5E7A0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3124080" y="632304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oría de Sistemas, Ucinf, 2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9072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Definición de Sistema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istemas abiertos y sistemas cerr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n Bertalanff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 sistema cerrado no intercambia energía con su medio ambiente y el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ransa con su med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ú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. L. Parsegi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 u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a abiert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ste un intercambio de energía e información entre el sistema y el ento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intercambio permite mantener un equilib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s relaciones con el entorno permiten cambios y adaptac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3B62-CD67-444C-B41F-DF85C67E3E2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0" y="63230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idad 1: El surgimiento del pensamiento de sistemas.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1640" y="1599840"/>
            <a:ext cx="434340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¡ Eso es todo amigos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838080" y="2273400"/>
          <a:ext cx="3822840" cy="308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73400"/>
                    <a:ext cx="3822840" cy="30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8E9B7-D55E-4CAC-8BC5-706B14D45777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26T02:40:38Z</dcterms:created>
  <dc:creator>GERARDO CERDA</dc:creator>
  <dc:description/>
  <dc:language>en-US</dc:language>
  <cp:lastModifiedBy>Gcerda</cp:lastModifiedBy>
  <dcterms:modified xsi:type="dcterms:W3CDTF">2004-09-13T22:52:08Z</dcterms:modified>
  <cp:revision>23</cp:revision>
  <dc:subject/>
  <dc:title>Universidad de Ciencias de la Informática Escuela de Ingeniería Asignatura: “Teoría de Sistemas”</dc:title>
</cp:coreProperties>
</file>