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978-3D90-4742-B6EE-336AEFE1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9E0-0086-40D2-9B39-864EAEF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644-0691-4B12-B9DB-02094E4A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549-4655-43E8-8B3C-B33850A2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B2D-1368-4E74-94D5-178118B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E3E-DE5C-4CD2-9754-3AD40E69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0A2-8ABB-4A14-87E6-96766E30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917-BFF8-4521-9CDF-BE2F8EA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1E8-697D-4A78-8D85-9FE5C3E9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56A-3465-48CC-8970-F2C6A03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055-7321-4D8B-BF6A-5733073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374-0210-41AF-9FAB-02745CD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8355-9618-498C-94CF-4A1CCCD6084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125360"/>
          <a:ext cx="5183280" cy="5256360"/>
        </p:xfrm>
        <a:graphic>
          <a:graphicData uri="http://schemas.openxmlformats.org/drawingml/2006/table">
            <a:tbl>
              <a:tblPr/>
              <a:tblGrid>
                <a:gridCol w="1413000"/>
                <a:gridCol w="2043000"/>
                <a:gridCol w="172728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(dí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ed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120"/>
          <p:cNvSpPr/>
          <p:nvPr/>
        </p:nvSpPr>
        <p:spPr>
          <a:xfrm>
            <a:off x="146520" y="138240"/>
            <a:ext cx="76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e la carta Gantt, Pert y determine la ruta crítica con los siguientes 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24"/>
          <p:cNvGrpSpPr/>
          <p:nvPr/>
        </p:nvGrpSpPr>
        <p:grpSpPr>
          <a:xfrm>
            <a:off x="395280" y="1197000"/>
            <a:ext cx="8206920" cy="4536720"/>
            <a:chOff x="395280" y="1197000"/>
            <a:chExt cx="8206920" cy="4536720"/>
          </a:xfrm>
        </p:grpSpPr>
        <p:sp>
          <p:nvSpPr>
            <p:cNvPr id="45" name="Oval 3"/>
            <p:cNvSpPr/>
            <p:nvPr/>
          </p:nvSpPr>
          <p:spPr>
            <a:xfrm>
              <a:off x="498240" y="460548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395280" y="23472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4358880" y="456732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"/>
            <p:cNvSpPr/>
            <p:nvPr/>
          </p:nvSpPr>
          <p:spPr>
            <a:xfrm>
              <a:off x="1683360" y="228312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872440" y="502884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3729240" y="31896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153960" y="2100960"/>
              <a:ext cx="6206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5364000" y="1901520"/>
              <a:ext cx="6206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6449760" y="400428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7983720" y="318960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1786320" y="3844440"/>
              <a:ext cx="6188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1050120" y="26445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277000" y="2464560"/>
              <a:ext cx="81900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3749040" y="2282760"/>
              <a:ext cx="163620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4322880" y="2554560"/>
              <a:ext cx="108756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1014120" y="2770560"/>
              <a:ext cx="85320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1116720" y="4457880"/>
              <a:ext cx="66924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1116720" y="5028840"/>
              <a:ext cx="16527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2441160" y="4186080"/>
              <a:ext cx="1881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490920" y="5168160"/>
              <a:ext cx="82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 flipV="1">
              <a:off x="5058720" y="4457880"/>
              <a:ext cx="13910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V="1">
              <a:off x="7023960" y="3612600"/>
              <a:ext cx="9597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040440" y="2372760"/>
              <a:ext cx="196488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478080" y="22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00480" y="460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787400" y="2283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3260880" y="210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6554520" y="4004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2976480" y="502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2"/>
            <p:cNvSpPr/>
            <p:nvPr/>
          </p:nvSpPr>
          <p:spPr>
            <a:xfrm>
              <a:off x="808848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5469480" y="190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4"/>
            <p:cNvSpPr/>
            <p:nvPr/>
          </p:nvSpPr>
          <p:spPr>
            <a:xfrm>
              <a:off x="1891440" y="384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5"/>
            <p:cNvSpPr/>
            <p:nvPr/>
          </p:nvSpPr>
          <p:spPr>
            <a:xfrm>
              <a:off x="4508280" y="4641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83436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7"/>
            <p:cNvSpPr/>
            <p:nvPr/>
          </p:nvSpPr>
          <p:spPr>
            <a:xfrm>
              <a:off x="580680" y="1667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5469840" y="119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9"/>
            <p:cNvSpPr/>
            <p:nvPr/>
          </p:nvSpPr>
          <p:spPr>
            <a:xfrm>
              <a:off x="1787040" y="3279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0"/>
            <p:cNvSpPr/>
            <p:nvPr/>
          </p:nvSpPr>
          <p:spPr>
            <a:xfrm>
              <a:off x="1788480" y="1576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1"/>
            <p:cNvSpPr/>
            <p:nvPr/>
          </p:nvSpPr>
          <p:spPr>
            <a:xfrm>
              <a:off x="8086680" y="248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2"/>
            <p:cNvSpPr/>
            <p:nvPr/>
          </p:nvSpPr>
          <p:spPr>
            <a:xfrm>
              <a:off x="4569840" y="400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3"/>
            <p:cNvSpPr/>
            <p:nvPr/>
          </p:nvSpPr>
          <p:spPr>
            <a:xfrm>
              <a:off x="3913920" y="273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4"/>
            <p:cNvSpPr/>
            <p:nvPr/>
          </p:nvSpPr>
          <p:spPr>
            <a:xfrm>
              <a:off x="2850480" y="454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5"/>
            <p:cNvSpPr/>
            <p:nvPr/>
          </p:nvSpPr>
          <p:spPr>
            <a:xfrm>
              <a:off x="599760" y="389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6"/>
            <p:cNvSpPr/>
            <p:nvPr/>
          </p:nvSpPr>
          <p:spPr>
            <a:xfrm>
              <a:off x="6504480" y="350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155400" y="153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20"/>
            <p:cNvSpPr/>
            <p:nvPr/>
          </p:nvSpPr>
          <p:spPr>
            <a:xfrm>
              <a:off x="2277000" y="2644560"/>
              <a:ext cx="13910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2"/>
            <p:cNvSpPr/>
            <p:nvPr/>
          </p:nvSpPr>
          <p:spPr>
            <a:xfrm>
              <a:off x="4322880" y="3551040"/>
              <a:ext cx="212688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23"/>
            <p:cNvSpPr/>
            <p:nvPr/>
          </p:nvSpPr>
          <p:spPr>
            <a:xfrm flipV="1">
              <a:off x="2441160" y="3640680"/>
              <a:ext cx="12268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91560" y="116208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3308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3320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43332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033440" y="11620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34640" y="11620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32600" y="11620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40360" y="11620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91560" y="156996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3308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83320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332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033440" y="156996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634640" y="15699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232600" y="156996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940360" y="156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1560" y="1979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23308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3320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3332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033440" y="1979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634640" y="1979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232600" y="1979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940360" y="1979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91560" y="2389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23308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83320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43332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033440" y="2389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4634640" y="2389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232600" y="2389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5940360" y="2389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691560" y="2798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223308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283320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43332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033440" y="2798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4634640" y="2798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232600" y="2798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4"/>
          <p:cNvSpPr/>
          <p:nvPr/>
        </p:nvSpPr>
        <p:spPr>
          <a:xfrm>
            <a:off x="5940360" y="2798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91560" y="3208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23308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83320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343332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4033440" y="3208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634640" y="3208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232600" y="3208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5940360" y="3208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691560" y="3618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223452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283320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343332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4033440" y="3618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463464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232600" y="3618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5940360" y="3618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691560" y="4027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23452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283320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43332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4033440" y="4027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463464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5232600" y="4027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5940360" y="4027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691560" y="4437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223452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283320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343332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4033440" y="4437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4"/>
          <p:cNvSpPr/>
          <p:nvPr/>
        </p:nvSpPr>
        <p:spPr>
          <a:xfrm>
            <a:off x="463464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5"/>
          <p:cNvSpPr/>
          <p:nvPr/>
        </p:nvSpPr>
        <p:spPr>
          <a:xfrm>
            <a:off x="5232600" y="4437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6"/>
          <p:cNvSpPr/>
          <p:nvPr/>
        </p:nvSpPr>
        <p:spPr>
          <a:xfrm>
            <a:off x="5866920" y="4437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7"/>
          <p:cNvSpPr/>
          <p:nvPr/>
        </p:nvSpPr>
        <p:spPr>
          <a:xfrm>
            <a:off x="691920" y="484668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8"/>
          <p:cNvSpPr/>
          <p:nvPr/>
        </p:nvSpPr>
        <p:spPr>
          <a:xfrm>
            <a:off x="223452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9"/>
          <p:cNvSpPr/>
          <p:nvPr/>
        </p:nvSpPr>
        <p:spPr>
          <a:xfrm>
            <a:off x="2833560" y="4846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433320" y="4846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1"/>
          <p:cNvSpPr/>
          <p:nvPr/>
        </p:nvSpPr>
        <p:spPr>
          <a:xfrm>
            <a:off x="4033440" y="48466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2"/>
          <p:cNvSpPr/>
          <p:nvPr/>
        </p:nvSpPr>
        <p:spPr>
          <a:xfrm>
            <a:off x="463464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3"/>
          <p:cNvSpPr/>
          <p:nvPr/>
        </p:nvSpPr>
        <p:spPr>
          <a:xfrm>
            <a:off x="5232600" y="48466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4"/>
          <p:cNvSpPr/>
          <p:nvPr/>
        </p:nvSpPr>
        <p:spPr>
          <a:xfrm>
            <a:off x="594036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5"/>
          <p:cNvSpPr/>
          <p:nvPr/>
        </p:nvSpPr>
        <p:spPr>
          <a:xfrm>
            <a:off x="7031880" y="4846680"/>
            <a:ext cx="1655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cri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6"/>
          <p:cNvSpPr/>
          <p:nvPr/>
        </p:nvSpPr>
        <p:spPr>
          <a:xfrm>
            <a:off x="539640" y="112536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7"/>
          <p:cNvSpPr/>
          <p:nvPr/>
        </p:nvSpPr>
        <p:spPr>
          <a:xfrm>
            <a:off x="539640" y="1125360"/>
            <a:ext cx="32040" cy="412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8"/>
          <p:cNvSpPr/>
          <p:nvPr/>
        </p:nvSpPr>
        <p:spPr>
          <a:xfrm>
            <a:off x="8680320" y="1157400"/>
            <a:ext cx="1800" cy="40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9"/>
          <p:cNvSpPr/>
          <p:nvPr/>
        </p:nvSpPr>
        <p:spPr>
          <a:xfrm>
            <a:off x="8680320" y="1157400"/>
            <a:ext cx="32040" cy="40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0"/>
          <p:cNvSpPr/>
          <p:nvPr/>
        </p:nvSpPr>
        <p:spPr>
          <a:xfrm>
            <a:off x="571680" y="112536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1"/>
          <p:cNvSpPr/>
          <p:nvPr/>
        </p:nvSpPr>
        <p:spPr>
          <a:xfrm>
            <a:off x="571680" y="1125360"/>
            <a:ext cx="814068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2"/>
          <p:cNvSpPr/>
          <p:nvPr/>
        </p:nvSpPr>
        <p:spPr>
          <a:xfrm>
            <a:off x="571680" y="521964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3"/>
          <p:cNvSpPr/>
          <p:nvPr/>
        </p:nvSpPr>
        <p:spPr>
          <a:xfrm>
            <a:off x="571680" y="5219640"/>
            <a:ext cx="814068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9:50:22Z</dcterms:created>
  <dc:creator>LFDELRIO</dc:creator>
  <dc:description/>
  <dc:language>en-US</dc:language>
  <cp:lastModifiedBy>LFDELRIO</cp:lastModifiedBy>
  <dcterms:modified xsi:type="dcterms:W3CDTF">2009-05-12T00:52:23Z</dcterms:modified>
  <cp:revision>5</cp:revision>
  <dc:subject/>
  <dc:title>Presentación de PowerPoint</dc:title>
</cp:coreProperties>
</file>