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84400" y="701640"/>
            <a:ext cx="4618080" cy="3463920"/>
          </a:xfrm>
          <a:prstGeom prst="rect">
            <a:avLst/>
          </a:prstGeom>
          <a:ln w="0">
            <a:noFill/>
          </a:ln>
        </p:spPr>
      </p:sp>
      <p:sp>
        <p:nvSpPr>
          <p:cNvPr id="17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84400" y="701640"/>
            <a:ext cx="4618080" cy="346392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84400" y="701640"/>
            <a:ext cx="4618080" cy="346392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3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ldImg"/>
          </p:nvPr>
        </p:nvSpPr>
        <p:spPr>
          <a:xfrm>
            <a:off x="1184400" y="701640"/>
            <a:ext cx="4618080" cy="346392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7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84400" y="701640"/>
            <a:ext cx="4618080" cy="346392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84400" y="701640"/>
            <a:ext cx="4618080" cy="346392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84400" y="701640"/>
            <a:ext cx="4618080" cy="346392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84400" y="701640"/>
            <a:ext cx="4618080" cy="346392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84400" y="701640"/>
            <a:ext cx="4618080" cy="346392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4400" y="701640"/>
            <a:ext cx="4618080" cy="346392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84400" y="701640"/>
            <a:ext cx="4618080" cy="346392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84400" y="701640"/>
            <a:ext cx="4618080" cy="346392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0465C-A3B3-47F9-AB11-0D9D17A0E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41CAE-360E-4D38-9EBC-4E7796FB9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A07B-113E-4C47-AC68-E4903C955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50A4A-D479-40AE-AF33-10A1AB47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3A162-A9A4-45DC-A1B6-92A833421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FD495-AC15-4CF3-ABCB-7B124F098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78554-C95B-45CF-8F9D-0FB260F31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E22F8-B4BC-4466-9B04-DB77D5168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ED456-B9B0-4C97-99D0-F63BE5600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F5FFB-87CC-4621-B7B6-DDF91B9A3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11A08-C79A-4AD5-BCF8-B2108088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D2B8-4D29-496C-9520-A062AE39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21872-4879-4628-A79E-DE813E29C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DC291-2685-4A50-8158-BBCC62F83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77D8D-6B3E-474D-B02F-2F928A71B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9B064-377B-4D5F-8700-07F66BB32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81FA5-E5A6-4D6B-A558-B55AA86AD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D1517-CC77-44B1-B08F-7C229FAE4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C346-BDE9-432D-9CF9-D2DE81E0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E0035-A951-4C57-9035-F2F0843E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B65E-C240-4126-8503-59FA83D4B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EC2A-917C-442C-B501-8AD441DEF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0BAF-52EA-4FC7-B135-B43E63572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98C2-9456-4974-88E0-B5C14354D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9164-F3C6-46DD-9710-029A8B7226E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771B-E07E-44A8-A3A4-A8980F35056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4</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3" name="PlaceHolder 2"/>
          <p:cNvSpPr>
            <a:spLocks noGrp="1"/>
          </p:cNvSpPr>
          <p:nvPr>
            <p:ph/>
          </p:nvPr>
        </p:nvSpPr>
        <p:spPr>
          <a:xfrm>
            <a:off x="533520" y="1523520"/>
            <a:ext cx="82296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de retroalimentación, no solo puede provenir de la corriente de salida del sistema, sino de cualquier otra corriente de salida que se estime necesario controla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NFOQUE CORRIENTE DE ENTRADA Y SAL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iente de “INPUT” y la corriente de “OUTPUT”, identifica a un sistema como una ENTIDAD reconocible a la cual entran numerosos tipos de recursos y salen varios product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do desde este punto de vista el sistema es considerado como una CAJA NEGRA, considerándose solamente las interacciones (entradas o sali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84F9A00-93A7-4744-9995-C84A3A18F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5" name="PlaceHolder 2"/>
          <p:cNvSpPr>
            <a:spLocks noGrp="1"/>
          </p:cNvSpPr>
          <p:nvPr>
            <p:ph/>
          </p:nvPr>
        </p:nvSpPr>
        <p:spPr>
          <a:xfrm>
            <a:off x="1066320" y="1523520"/>
            <a:ext cx="769644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ja del enfoque de caja negra:</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sistemas y los subsistemas y estudiar las relaciones que existen entre ellos. Permite maximizar la eficiencia de estas relaciones sin tener que profundizar en los procesos complejos que se encuentran encerrados en la Caja Negra, destapando solo esta cuando presentan anomalía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cuellos de botellas”, que limitan la acción  del sistema para alcanzar sus objetivo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los subsistemas crít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024D90-5A72-4554-9081-1C268990CA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8"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69" name=""/>
          <p:cNvGraphicFramePr/>
          <p:nvPr/>
        </p:nvGraphicFramePr>
        <p:xfrm>
          <a:off x="1206360" y="2273400"/>
          <a:ext cx="3822840" cy="3084480"/>
        </p:xfrm>
        <a:graphic>
          <a:graphicData uri="http://schemas.openxmlformats.org/presentationml/2006/ole">
            <p:oleObj r:id="rId1" spid="">
              <p:embed/>
              <p:pic>
                <p:nvPicPr>
                  <p:cNvPr id="170" name="" descr=""/>
                  <p:cNvPicPr/>
                  <p:nvPr/>
                </p:nvPicPr>
                <p:blipFill>
                  <a:blip r:embed="rId2"/>
                  <a:stretch/>
                </p:blipFill>
                <p:spPr>
                  <a:xfrm>
                    <a:off x="120636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B39E1190-D5E5-4089-AF1D-3A427055973C}"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7" name="PlaceHolder 2"/>
          <p:cNvSpPr>
            <a:spLocks noGrp="1"/>
          </p:cNvSpPr>
          <p:nvPr>
            <p:ph/>
          </p:nvPr>
        </p:nvSpPr>
        <p:spPr>
          <a:xfrm>
            <a:off x="1218960" y="1523520"/>
            <a:ext cx="75438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s a tratar:</a:t>
            </a:r>
            <a:endParaRPr b="0" lang="en-US" sz="2800" spc="-1" strike="noStrike">
              <a:solidFill>
                <a:srgbClr val="000000"/>
              </a:solidFill>
              <a:latin typeface="Arial"/>
            </a:endParaRPr>
          </a:p>
          <a:p>
            <a:pPr marL="343080" indent="-343080">
              <a:lnSpc>
                <a:spcPct val="7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 CORRIENTES DE ENTRA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OS DE CONVERS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IENTE DE SALI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MUNICACIÓN DE RETROALIMENTAC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ENFOQUE CORRIENTE DE ENTRADA Y SALID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02A0188-A789-47CD-B4A4-8D8ED423915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ORRIENTES DE ENTRADA:</a:t>
            </a:r>
            <a:endParaRPr b="0" lang="en-US" sz="24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 de la conservación: </a:t>
            </a:r>
            <a:r>
              <a:rPr b="0" lang="en-US" sz="2400" spc="-1" strike="noStrike">
                <a:solidFill>
                  <a:srgbClr val="000000"/>
                </a:solidFill>
                <a:latin typeface="Arial"/>
              </a:rPr>
              <a:t>En general , la energía que importa el sistema del medio tiende a comportarse de acuerdo a esta ley.</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Energía que permanece en sistema = energía importada - energía exportada”</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formación no cumple con esta ley, sino que en este caso, se comporta de acuerdo a la “ley de lo incrementos”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IMINA INFORMACION  DEL SISTE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154E9E-DEF5-43F9-BD2D-BF5FEA9978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de la variedad requerida de R. Ashby:</a:t>
            </a:r>
            <a:r>
              <a:rPr b="0" lang="en-US" sz="2400" spc="-1" strike="noStrike">
                <a:solidFill>
                  <a:srgbClr val="000000"/>
                </a:solidFill>
                <a:latin typeface="Arial"/>
              </a:rPr>
              <a:t> para que un sistema pueda controlar a otro, debe ser capaz de igualar la variedad recibida con su capacidad de absorber esa variedad (información)</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riedad del medio tiende al infinito.La captación de variedad es reducid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d generada en el medio = capacidad de absorber del sistem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unto anterior no es posible a menos que el sistema posea formas o medios de emplear mecanismos de reducción de variedad (por ejemplo estudios de merc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B30FC5-0130-4DAC-859C-5E175230ED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DE CONVERS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onde va la energía importada? </a:t>
            </a:r>
            <a:r>
              <a:rPr b="0" lang="en-US" sz="2400" spc="-1" strike="noStrike">
                <a:solidFill>
                  <a:srgbClr val="000000"/>
                </a:solidFill>
                <a:latin typeface="Arial"/>
              </a:rPr>
              <a:t>Los sistemas convierten la energía que importan, en otro tipo de energía, que representan la producción característica del sistema particula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as </a:t>
            </a:r>
            <a:r>
              <a:rPr b="0" lang="en-US" sz="2400" spc="-1" strike="noStrike" u="sng">
                <a:solidFill>
                  <a:srgbClr val="000000"/>
                </a:solidFill>
                <a:uFillTx/>
                <a:latin typeface="Arial"/>
              </a:rPr>
              <a:t>plant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solar -&gt; fotosíntesis -&gt;oxíge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30479C-5DB7-4F99-951A-13089B3F57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58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pueden estar divididos en otros sistemas o “subsistemas”, que poseen las mismas características de un sistema (recursividad). Pueden poseer un proceso de conversión mediante ese subsistema.</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l Ser humano, formado por varios subsistemas c/u  con una función de conversión</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diferentes procesos de conversión:</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en relación al producto final.</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ervicio,para que puedan operar esos subsistemas princip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71E6FF-1FE2-4C8E-9186-BBC4238F5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7"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 DE SALIDA:</a:t>
            </a:r>
            <a:r>
              <a:rPr b="0" lang="en-US" sz="2400" spc="-1" strike="noStrike">
                <a:solidFill>
                  <a:srgbClr val="000000"/>
                </a:solidFill>
                <a:latin typeface="Arial"/>
              </a:rPr>
              <a:t> exportación que hace el sistema al medio,generalmente no son una sino varias corrientes de salid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positiva:</a:t>
            </a:r>
            <a:r>
              <a:rPr b="0" lang="en-US" sz="2400" spc="-1" strike="noStrike">
                <a:solidFill>
                  <a:srgbClr val="000000"/>
                </a:solidFill>
                <a:latin typeface="Arial"/>
              </a:rPr>
              <a:t> cuando afecta de manera ÚTIL a todos aquellos otros sistemas o supersistemas que utilizan de alguna forma la energía que exporta ese sistem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negativa: </a:t>
            </a:r>
            <a:r>
              <a:rPr b="0" lang="en-US" sz="2400" spc="-1" strike="noStrike">
                <a:solidFill>
                  <a:srgbClr val="000000"/>
                </a:solidFill>
                <a:latin typeface="Arial"/>
              </a:rPr>
              <a:t>cuando afecta de manera contraria al anterior, siendo tanto esta como la ya mencionada, visiones relativas dependiendo de la escala de valores de quien sea el observador  o anal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0DA682-D79F-4172-A31A-01C89029EC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lación entre las corrientes de salida positiva y negativa determinara la supervivencia del sistema. SISTEMA VIABLE que será legalizado por el medio y se adaptara a él y a sus exigencias. Será capaz de adaptarse a un medio en cambio,debiendo tener tres característic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organizarse, </a:t>
            </a:r>
            <a:r>
              <a:rPr b="0" lang="en-US" sz="2400" spc="-1" strike="noStrike">
                <a:solidFill>
                  <a:srgbClr val="000000"/>
                </a:solidFill>
                <a:latin typeface="Arial"/>
              </a:rPr>
              <a:t>modificarse de acuerdo a exigenci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controlarse, </a:t>
            </a:r>
            <a:r>
              <a:rPr b="0" lang="en-US" sz="2400" spc="-1" strike="noStrike">
                <a:solidFill>
                  <a:srgbClr val="000000"/>
                </a:solidFill>
                <a:latin typeface="Arial"/>
              </a:rPr>
              <a:t>mantener sus variables dentro de ciertos limite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r un cierto grado de autonomía </a:t>
            </a:r>
            <a:r>
              <a:rPr b="0" lang="en-US" sz="2400" spc="-1" strike="noStrike">
                <a:solidFill>
                  <a:srgbClr val="000000"/>
                </a:solidFill>
                <a:latin typeface="Arial"/>
              </a:rPr>
              <a:t>, poseer un suficiente grado de libert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955B03-150E-4EE5-97B7-823037795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DE RETROALIMENTAC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sabe el sistema cuando ha alcanzado su objetivo?, ¿cuándo existe diferencia entre la conducta que desarrolla para logra el objetivo o el objetivo mism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uesta a estas preguntas se da mediante la comunicación de RETROALIMENTACION (cómo lo está haciendo el sistema en la búsqueda de su objetivo). Es introducida nuevamente al sistema con el fin de que se lleven a cabo todas las correcciones necesarias para lograrlo. </a:t>
            </a:r>
            <a:r>
              <a:rPr b="0" i="1" lang="en-US" sz="2400" spc="-1" strike="noStrike">
                <a:solidFill>
                  <a:srgbClr val="000000"/>
                </a:solidFill>
                <a:latin typeface="Arial"/>
              </a:rPr>
              <a:t>Mecanismo de control</a:t>
            </a:r>
            <a:r>
              <a:rPr b="0" lang="en-US" sz="2400" spc="-1" strike="noStrike">
                <a:solidFill>
                  <a:srgbClr val="000000"/>
                </a:solidFill>
                <a:latin typeface="Arial"/>
              </a:rPr>
              <a:t> del sistema para asegurar el logro de su me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6AB314-3406-4A60-B034-3D451F05E6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13T22:52:36Z</dcterms:modified>
  <cp:revision>27</cp:revision>
  <dc:subject/>
  <dc:title>Universidad de Ciencias de la Informática Escuela de Ingeniería Asignatura: “Teoría de Sistemas”</dc:title>
</cp:coreProperties>
</file>