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18080" cy="346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57480" y="880596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880596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57480" y="880596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880596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57480" y="880596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880596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57480" y="880596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880596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57480" y="880596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880596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57480" y="880596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80596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5879-648E-4F92-A9FC-EB9608E6A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28F9-0D50-4B47-89D1-8AF54C3B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C754-96A6-464E-AA01-F7ACAF652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4D84-EE94-4E40-90D7-D6370F70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A3CE-129D-4B8B-A45C-FFB2CC99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F4EB-04D7-4900-BC60-220C6031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D318-4E3C-49DF-9E7F-1F6B1CBC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8DC6-593B-4C74-989E-9819D50B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83BB-46C8-4B4D-BFC9-34E07A26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08A6-29F6-4F89-89A1-8FD81205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78B9-873B-42BB-BA9D-8A8C72FF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BB0B-0BB3-49B3-A7FE-C3D14EEB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45F1-7EA9-4E22-885A-7D698801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8F25-375F-4343-8015-5B24927B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4A77-542E-442D-B04A-F62B11AA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F057-E607-4056-BE61-60D97E1F8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CE7A-90ED-4473-B85B-2811368AE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C2D5-C05F-41C4-9E64-9D604D43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224F-EA7D-482C-B730-5457579B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73A8-8909-4BCC-933E-D077723F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A462-5AD5-4482-B2EA-087847FF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F9F2-62A3-4606-9976-760F9E8F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E3EE-D8B1-40AA-BD79-A9C8B6D3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B15B-7FD3-4E82-98CC-8DD62EC0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121896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Teoría de Sistemas, Ucinf, 2004, Gerardo Cerda Neumann, gcerda@ucinf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2539-EC39-4C1E-8FC1-6A3A9121C31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E4A5-6F18-4D76-8D96-0922E72C501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132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133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137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141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iversidad de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iencias de la Informática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cuela de Ingeniería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ignatura: “Teoría de Sistemas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240" y="4038120"/>
            <a:ext cx="670572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or: Gerardo Cerda Neum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idad 1: Definición de Sistem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s fronteras d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ntera del sistema: se entiende la línea que separa el sistema de su entorno (o supersistema) y que define lo que le pertenece y lo está fuera de é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uede agregar un décimo nivel a la jerarquía de Boulding: e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ecológi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logía: ciencia natural situada por encima de las especialidades, es la ciencia de la economía de la naturaleza. Abarca a todas las ciencias naturales.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. F. Thieneman, “Vida y mundo circundante”, Eudeba, Argentina 1965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E58A-85CF-4BB5-9A88-57FEB7E696F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oría de Sistemas, Ucinf,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idad 1: Definición de Sistem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s fronteras d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finición del sistema o el establecimiento de sus fronteras puede ser un problema difícil de resol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regunta es: ¿ qué es lo que se quiere observar o estudi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ificultad para fijar la frontera se basa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muy difícil aislar los aspectos estrictamente mecánicos de un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relación entre sistemas no se limita a una famil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medio modifica el sistema y vicever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B2DB-D9B0-4EE1-8C40-16F645417D3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oría de Sistemas, Ucinf,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idad 1: Definición de Sistem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s fronteras d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idea de supersistema define al sistema en relación con su medio inmedi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idea de subsistema define al sistema en relación con sus principales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D4A2-EBCB-40D0-9062-354440F9DD9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oría de Sistemas, Ucinf,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idad 1: Definición de Sistem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stemas abiertos y sistemas cer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relaciones del sistema definen la conducta de éste. Su ruptura implica la ruptura d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un sistema estático sus atributos no cambian con el tiempo (cielo raso y resorte sin mover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un sistema dinámico los atributos cambian con el tiempo (cielo raso y resorte en movimie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cerrad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 producto (la corriente de salida) modifica la corriente de entrada (insum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abiert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corriente de salida no modifica la corriente de entr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6FF7-9D79-4A66-B9AF-6350D449646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oría de Sistemas, Ucinf,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idad 1: Definición de Sistem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stemas abiertos y sistemas cer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mplo de sistema cerrado: sistema de calefacción de temperatura “constante” en una hab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mplo de sistema abierto: un estanque con la llave abierta en el que la salida del agua no tiene relación con la entrada del m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acterísticas de un sistema cerr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variaciones del medio que afectan al sistema son conoc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ocurrencia no puede ser prede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naturaleza de las variaciones es cono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64AB-434C-445B-A3EE-D28EAFF33AD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oría de Sistemas, Ucinf,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idad 1: Definición de Sistem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stemas abiertos y sistemas cer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ú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n Bertalanf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 sistema cerrado no intercambia energía con su medio ambiente y e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abier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a con su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ú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. L. Parsegi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abier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e un intercambio de energía e información entre el sistema y el ento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intercambio permite mantener un equilib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relaciones con el entorno permiten cambios y adapt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A2E8-36D4-45C4-A679-5EDF3537654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idad 1: El surgimiento del pensamiento de sistemas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1640" y="159984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¡ Eso es todo amigos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38080" y="2273400"/>
          <a:ext cx="3822840" cy="308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73400"/>
                    <a:ext cx="3822840" cy="30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6066-5320-48D8-AF61-BA648924C8F2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6T02:40:38Z</dcterms:created>
  <dc:creator>GERARDO CERDA</dc:creator>
  <dc:description/>
  <dc:language>en-US</dc:language>
  <cp:lastModifiedBy>Gcerda</cp:lastModifiedBy>
  <dcterms:modified xsi:type="dcterms:W3CDTF">2004-09-13T22:52:08Z</dcterms:modified>
  <cp:revision>23</cp:revision>
  <dc:subject/>
  <dc:title>Universidad de Ciencias de la Informática Escuela de Ingeniería Asignatura: “Teoría de Sistemas”</dc:title>
</cp:coreProperties>
</file>