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ECF-EA6A-4E79-B4AA-10E7DF72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F34-7324-4A7E-B17B-DE64271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08C-6ABF-42C4-856B-187F817C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408-6464-4C69-9FF6-7483C626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567-5200-4FCE-97DA-5E8C1850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C7C-274A-4604-872A-BB3353F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FFEC-4428-44EA-A603-393E632D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DA0-730C-4B8C-BB31-BEC27B4D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07C-DC3A-46B4-AC23-083CD9B8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D0DC-52BF-4CAC-849C-60B219E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18D-22F5-4B71-9D90-C7D347F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65-3349-44A7-9EBC-0C02AEA0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336C-BC0C-4AB8-A1BC-F87F803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1525-5063-4AC2-8BE8-813C434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1AA-DA6E-43BD-92FA-8FE19854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085-0885-4FE4-90D3-C60D8E26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67FE-AF55-48A2-B0C9-7E2CB397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617-1ACA-4385-B008-7E1801BB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F6A-F62E-478E-9F85-C4E278F5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4E8-475D-4025-9677-585DD53B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956-C21E-44DA-B16C-14A470B7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4CB-7C3A-4A1E-9560-10A6A56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792-25F5-43AD-AA2A-E97AE53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A60-78AC-4827-B8A9-A3D8A36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121896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eoría de Sistemas, Ucinf, 2004, Gerardo Cerda Neumann, gcerda@ucinf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5069-139C-4C30-BBB4-938B3F0CC0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E7F-968B-4E09-A4C9-136D72AAC5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132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133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idad 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encias de la Informátic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cuela de Ingenierí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ignatura: “Teoría de Sistema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Gerardo Cerda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era del sistema: se entiende la línea que separa el sistema de su entorno (o supersistema) y que define lo que le pertenece y lo está fuera de é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gregar un décimo nivel a la jerarquía de Boulding: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ec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: ciencia natural situada por encima de las especialidades, es la ciencia de la economía de la naturaleza. Abarca a todas las ciencias naturales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. F. Thieneman, “Vida y mundo circundante”, Eudeba, Argentina 196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3E0-A525-45E8-9315-BAF7E80E0F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ción del sistema o el establecimiento de sus fronteras puede ser un problema difícil de re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 es: ¿ qué es lo que se quiere observar o estud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ficultad para fijar la frontera se ba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uy difícil aislar los aspectos estrictamente mecánicos de un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ción entre sistemas no se limita a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edio modifica el sistema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A34-C860-45FB-9370-A8BA14D92F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persistema define al sistema en relación con su medi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bsistema define al sistema en relación con sus principale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F4C-A8A1-420E-A050-91FA8B98C4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del sistema definen la conducta de éste. Su ruptura implica la ruptur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estático sus atributos no cambian con el tiempo (cielo raso y resorte sin move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dinámico los atributos cambian con el tiempo (cielo raso y resorte en mov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err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roducto (la corriente de salida) modifica la corriente de entrada (insu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rriente de salida no modifica la corriente de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920-8EAB-4550-B917-88634C41A1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cerrado: sistema de calefacción de temperatura “constante” en una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abierto: un estanque con la llave abierta en el que la salida del agua no tiene relación con la entrad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 de un sistema cer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ariaciones del medio que afectan al sistema son cono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currencia no puede ser pred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turaleza de las variaciones es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815-6C14-46ED-8AB0-6D453FEE9D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n Bertalanf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sistema cerrado no intercambia energía con su medio ambiente y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a con su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. L. Parse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intercambio de energía e información entre el sistema y 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tercambio permite mantener un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con el entorno permiten cambios y adap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560-A13F-49CB-99AF-AF98ECBCE8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El surgimiento del pensamiento de sistema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¡ Eso es todo amig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73400"/>
          <a:ext cx="382284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73400"/>
                    <a:ext cx="38228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C78-5518-4F7E-B566-76C72936F8D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02:40:38Z</dcterms:created>
  <dc:creator>GERARDO CERDA</dc:creator>
  <dc:description/>
  <dc:language>en-US</dc:language>
  <cp:lastModifiedBy>Gcerda</cp:lastModifiedBy>
  <dcterms:modified xsi:type="dcterms:W3CDTF">2004-09-13T22:52:08Z</dcterms:modified>
  <cp:revision>23</cp:revision>
  <dc:subject/>
  <dc:title>Universidad de Ciencias de la Informática Escuela de Ingeniería Asignatura: “Teoría de Sistemas”</dc:title>
</cp:coreProperties>
</file>