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84400" y="701640"/>
            <a:ext cx="4618080" cy="3463920"/>
          </a:xfrm>
          <a:prstGeom prst="rect">
            <a:avLst/>
          </a:prstGeom>
          <a:ln w="0">
            <a:noFill/>
          </a:ln>
        </p:spPr>
      </p:sp>
      <p:sp>
        <p:nvSpPr>
          <p:cNvPr id="18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327320" y="808200"/>
            <a:ext cx="4332240" cy="3249360"/>
          </a:xfrm>
          <a:prstGeom prst="rect">
            <a:avLst/>
          </a:prstGeom>
          <a:ln w="0">
            <a:noFill/>
          </a:ln>
        </p:spPr>
      </p:sp>
      <p:sp>
        <p:nvSpPr>
          <p:cNvPr id="239"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2"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327320" y="808200"/>
            <a:ext cx="4332240" cy="3249360"/>
          </a:xfrm>
          <a:prstGeom prst="rect">
            <a:avLst/>
          </a:prstGeom>
          <a:ln w="0">
            <a:noFill/>
          </a:ln>
        </p:spPr>
      </p:sp>
      <p:sp>
        <p:nvSpPr>
          <p:cNvPr id="245"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48"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327320" y="808200"/>
            <a:ext cx="4332240" cy="3249360"/>
          </a:xfrm>
          <a:prstGeom prst="rect">
            <a:avLst/>
          </a:prstGeom>
          <a:ln w="0">
            <a:noFill/>
          </a:ln>
        </p:spPr>
      </p:sp>
      <p:sp>
        <p:nvSpPr>
          <p:cNvPr id="251"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54"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327320" y="808200"/>
            <a:ext cx="4332240" cy="3249360"/>
          </a:xfrm>
          <a:prstGeom prst="rect">
            <a:avLst/>
          </a:prstGeom>
          <a:ln w="0">
            <a:noFill/>
          </a:ln>
        </p:spPr>
      </p:sp>
      <p:sp>
        <p:nvSpPr>
          <p:cNvPr id="257"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60"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sldImg"/>
          </p:nvPr>
        </p:nvSpPr>
        <p:spPr>
          <a:xfrm>
            <a:off x="1327320" y="808200"/>
            <a:ext cx="4332240" cy="3249360"/>
          </a:xfrm>
          <a:prstGeom prst="rect">
            <a:avLst/>
          </a:prstGeom>
          <a:ln w="0">
            <a:noFill/>
          </a:ln>
        </p:spPr>
      </p:sp>
      <p:sp>
        <p:nvSpPr>
          <p:cNvPr id="263" name="PlaceHolder 2"/>
          <p:cNvSpPr>
            <a:spLocks noGrp="1"/>
          </p:cNvSpPr>
          <p:nvPr>
            <p:ph type="body"/>
          </p:nvPr>
        </p:nvSpPr>
        <p:spPr>
          <a:xfrm>
            <a:off x="931680" y="4406760"/>
            <a:ext cx="5121000" cy="390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66"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sldImg"/>
          </p:nvPr>
        </p:nvSpPr>
        <p:spPr>
          <a:xfrm>
            <a:off x="1184400" y="701640"/>
            <a:ext cx="4618080" cy="3463920"/>
          </a:xfrm>
          <a:prstGeom prst="rect">
            <a:avLst/>
          </a:prstGeom>
          <a:ln w="0">
            <a:noFill/>
          </a:ln>
        </p:spPr>
      </p:sp>
      <p:sp>
        <p:nvSpPr>
          <p:cNvPr id="26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84400" y="701640"/>
            <a:ext cx="4618080" cy="3463920"/>
          </a:xfrm>
          <a:prstGeom prst="rect">
            <a:avLst/>
          </a:prstGeom>
          <a:ln w="0">
            <a:noFill/>
          </a:ln>
        </p:spPr>
      </p:sp>
      <p:sp>
        <p:nvSpPr>
          <p:cNvPr id="19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ldImg"/>
          </p:nvPr>
        </p:nvSpPr>
        <p:spPr>
          <a:xfrm>
            <a:off x="1184400" y="701640"/>
            <a:ext cx="4618080" cy="3463920"/>
          </a:xfrm>
          <a:prstGeom prst="rect">
            <a:avLst/>
          </a:prstGeom>
          <a:ln w="0">
            <a:noFill/>
          </a:ln>
        </p:spPr>
      </p:sp>
      <p:sp>
        <p:nvSpPr>
          <p:cNvPr id="19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84400" y="701640"/>
            <a:ext cx="4618080" cy="3463920"/>
          </a:xfrm>
          <a:prstGeom prst="rect">
            <a:avLst/>
          </a:prstGeom>
          <a:ln w="0">
            <a:noFill/>
          </a:ln>
        </p:spPr>
      </p:sp>
      <p:sp>
        <p:nvSpPr>
          <p:cNvPr id="20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6"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84400" y="701640"/>
            <a:ext cx="4618080" cy="346392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2"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84400" y="701640"/>
            <a:ext cx="4618080" cy="346392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84400" y="701640"/>
            <a:ext cx="4618080" cy="3463920"/>
          </a:xfrm>
          <a:prstGeom prst="rect">
            <a:avLst/>
          </a:prstGeom>
          <a:ln w="0">
            <a:noFill/>
          </a:ln>
        </p:spPr>
      </p:sp>
      <p:sp>
        <p:nvSpPr>
          <p:cNvPr id="221"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4"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84400" y="701640"/>
            <a:ext cx="4618080" cy="3463920"/>
          </a:xfrm>
          <a:prstGeom prst="rect">
            <a:avLst/>
          </a:prstGeom>
          <a:ln w="0">
            <a:noFill/>
          </a:ln>
        </p:spPr>
      </p:sp>
      <p:sp>
        <p:nvSpPr>
          <p:cNvPr id="227"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0"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84400" y="701640"/>
            <a:ext cx="4618080" cy="3463920"/>
          </a:xfrm>
          <a:prstGeom prst="rect">
            <a:avLst/>
          </a:prstGeom>
          <a:ln w="0">
            <a:noFill/>
          </a:ln>
        </p:spPr>
      </p:sp>
      <p:sp>
        <p:nvSpPr>
          <p:cNvPr id="233"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C6971-CD17-49B0-9183-F72796832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A4CAE-831C-4287-AD07-5A8B76B5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2B7F9-87EC-4663-A9E5-58A867AA7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80D3-5141-4188-A547-902950764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356A9-DA4F-4BED-AB07-D761C0858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F9243-1F71-49FF-846A-B95A0D1C4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A0EE5-999E-4AC0-9533-6A3A061C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F58CB-5B02-4A98-86DB-DDE12F522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B73D0-9A8A-4DAC-8185-4A745FA18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3461A-80E8-46FD-8645-20358901F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FC40-1704-4A52-BA51-F1AA1DE3C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25FF-757C-4B32-B5B9-D2AB2A2D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CA359-83BE-40CD-9B9B-2D14F8B82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5C2C3-4254-49F3-8706-FAE796545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C897-D4EF-40F6-A6BD-25AF5A415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3CB47-CD52-4627-B0F0-242E170F1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E7824-731D-4F01-849A-4C1D64DA1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1FBA-14C3-449E-B9CE-01316976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C5A03-A893-43EC-8617-32EFE38B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AB0A0-93D2-4BA0-BE93-F309CA8A6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FE08-A5A9-44A8-92B0-19599B64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89AE-1B0C-4704-83AE-5FE6C5A7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1162-1E51-4A29-AE80-D243C8C9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2B103-18E4-43C9-9F00-94E68CF7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7ABE-08D9-47F0-BF7D-FCF22966C08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B0C7-3FA4-4D35-8768-485E53C8C6E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2</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6"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íneas de trabaj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cepto de sistema ha sido usado por dos líneas de pensamiento diferent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oría General de Sistemas, iniciada por Von Bertalanffy y continuada por Boulding y otros. El esfuerzo central es llegar a la integración de las cienci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niería de Sistemas o Ciencias de Sistemas iniciada por la Investigación de Operaciones y continuada por el Análisis de Sistema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FA1564-C7B9-4C3E-AAA1-5C14B7DCE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68"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ición de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coordinadas y en interacción para alcanzar un conjunto de objetivo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pos de partes y objetos que interactúan y que forman un todo o que se encuentran bajo la influencia de fuerzas en alguna relación definid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objetos y sus relaciones, y las relaciones entre los objetos y sus atributos (los objetos, poseen atributos, son las partes o componentes del sistem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unto de partes y sus interrelacion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A80016-0226-486B-81FA-537621120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0"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Más definiciones</a:t>
            </a:r>
            <a:endParaRPr b="0" lang="en-US" sz="28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bsistema es un conjunto de partes e interrelaciones que se encuentran estructuralmente y funcionalmente, dentro de un sistema mayor, y que posee sus propias característ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supersistema es un conjunto de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ubsistemas y supersistemas deben cumplir ciertas características sistémic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istemas viables están contenidos en supersistemas viables (</a:t>
            </a:r>
            <a:r>
              <a:rPr b="0" i="1" lang="es-ES_tradnl" sz="2400" spc="-1" strike="noStrike">
                <a:solidFill>
                  <a:srgbClr val="000000"/>
                </a:solidFill>
                <a:latin typeface="Arial"/>
              </a:rPr>
              <a:t>Stafford Beer</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pasar de supersistema a subsistema disminuye la complejida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492938-0234-4258-9FD3-7F52BF6B7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2"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scala jerárquica de sistema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 escala va creciendo en complejidad (</a:t>
            </a:r>
            <a:r>
              <a:rPr b="0" i="1" lang="en-US" sz="2400" spc="-1" strike="noStrike">
                <a:solidFill>
                  <a:srgbClr val="000000"/>
                </a:solidFill>
                <a:latin typeface="Arial"/>
              </a:rPr>
              <a:t>Bould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 nivel: estructuras estáticas, por ejemplo geografía y anatomía del univers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ndo nivel: sistemas dinámicos simples con movimientos predeterminados, por ejemplo el sistema sola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cer nivel: mecanismos de control o cibernéticos, los que se adaptan para estar en equilibri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rto nivel: sistemas abiert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9B6D38-D239-43AB-8088-AC82E49F00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Definición de Sistema</a:t>
            </a:r>
            <a:endParaRPr b="0" lang="en-US" sz="4400" spc="-1" strike="noStrike">
              <a:solidFill>
                <a:srgbClr val="003366"/>
              </a:solidFill>
              <a:latin typeface="Times New Roman"/>
            </a:endParaRPr>
          </a:p>
        </p:txBody>
      </p:sp>
      <p:sp>
        <p:nvSpPr>
          <p:cNvPr id="17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scala jerárquica de sistemas (continuació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nto nivel: sistemas genético sociales, por ejemplo las planta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xto nivel: está caracterizado por la movilidad, la conducta con un propósito (teleológica) y en la concienc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éptimo nivel: es el nivel human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ctavo nivel: organizaciones social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veno nivel: sistemas trascendentales, la esencia, lo final, lo absoluto y lo inescapa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77837E-9429-4117-889E-9950D02CF5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El surgimiento del pensamiento de sistemas.</a:t>
            </a:r>
            <a:endParaRPr b="0" lang="en-US" sz="4400" spc="-1" strike="noStrike">
              <a:solidFill>
                <a:srgbClr val="003366"/>
              </a:solidFill>
              <a:latin typeface="Times New Roman"/>
            </a:endParaRPr>
          </a:p>
        </p:txBody>
      </p:sp>
      <p:sp>
        <p:nvSpPr>
          <p:cNvPr id="177"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78" name=""/>
          <p:cNvGraphicFramePr/>
          <p:nvPr/>
        </p:nvGraphicFramePr>
        <p:xfrm>
          <a:off x="838080" y="2273400"/>
          <a:ext cx="3822840" cy="3084480"/>
        </p:xfrm>
        <a:graphic>
          <a:graphicData uri="http://schemas.openxmlformats.org/presentationml/2006/ole">
            <p:oleObj r:id="rId1" spid="">
              <p:embed/>
              <p:pic>
                <p:nvPicPr>
                  <p:cNvPr id="179" name="" descr=""/>
                  <p:cNvPicPr/>
                  <p:nvPr/>
                </p:nvPicPr>
                <p:blipFill>
                  <a:blip r:embed="rId2"/>
                  <a:stretch/>
                </p:blipFill>
                <p:spPr>
                  <a:xfrm>
                    <a:off x="83808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D47B459D-E4AC-4FF1-B4AB-A3CCEC696484}"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47"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2 + 2 es igual a 5 u otra cifr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 sinergia cuando la suma de las partes es diferente del tod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posee sinergia cuando el examen de una o alguna de sus partes en forma aislada no puede explicar o predecir la conducta del todo.</a:t>
            </a:r>
            <a:endParaRPr b="0" lang="en-US" sz="2400" spc="-1" strike="noStrike">
              <a:solidFill>
                <a:srgbClr val="000000"/>
              </a:solidFill>
              <a:latin typeface="Arial"/>
            </a:endParaRPr>
          </a:p>
        </p:txBody>
      </p:sp>
      <p:sp>
        <p:nvSpPr>
          <p:cNvPr id="148" name=""/>
          <p:cNvSpPr/>
          <p:nvPr/>
        </p:nvSpPr>
        <p:spPr>
          <a:xfrm>
            <a:off x="996840" y="5264280"/>
            <a:ext cx="7531200" cy="90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2000" y="5329080"/>
            <a:ext cx="74008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onglomerado se supone sin sinergia, es decir que la suma de sus partes es igual al to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FA7171-88DA-424C-8F35-0E98FDA74B9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objeto es todo lo que ocupa un lugar en el espacio y en el tiemp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objetos poseen o no sinergi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un objeto posee sinergia no se puede explicar mediante el método reduccionist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la situación en estudio posee sinergia o es un objeto sinérgico, el análisis debe tomar en cuenta la interacción de los componentes y los efectos parciales que ocurren en cada una de ell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044A57-4E26-4C5C-B1C5-A7ACA7FA6E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mpresa es una totalidad con sinergia.</a:t>
            </a:r>
            <a:endParaRPr b="0" lang="en-US" sz="28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 empresa debe ser capaz por definición de producir más o mejor que todos los recursos que comprende. Debe ser un verdadero todo: mayor que la suma de sus partes, o, por lo menos, diferente a ella, con un rendimiento mayor que la suma de todos sus consumo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ter F. Drucker en “La ciencia de la gerencia”, Editorial Sudamericana, Buenos Aires, 197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89F49B-7451-48A6-AFE5-13DF9B1BD0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nergi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xperiencia administrativa de una empresa es una fuente de sinergia.</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sistema posee características sinergéticas, por esta razón se debe tener en cuenta la interrelación de las part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ente contradicción: el muestreo usado en estadística para predecir el comportamiento de una población. No existe sinergia ya que las muestras no interactúan entre sí por lo que la suma de las partes es igual al tod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DBF2D4-D43B-45B3-8267-F5E6664D1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58"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tiende por recursividad que un objeto sinergético, un sistema, esté compuesto de partes con características tales que son a su vez objetos sinergéticos (sistemas). Se habla entonces de sistemas y sub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uno de estos objetos, no importando su tamaño, tiene propiedades que lo convierten en una totalidad, es decir, en elemento independient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empre las partes de una totalidad son a su vez una totalid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16C056-AD85-4C1D-8CAF-88F9B78FC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0"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una empresa se destaca la dirección y la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gerencia de ventas: posee una dirección y producción (realización de las vent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ubgerencia se divide en varios departamentos y cada uno de ellos tiene dirección y producció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partamentos se dividen en secciones y cada una de ellas tiene producción y direc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1E7A39-A2BB-4144-A823-53502F1FD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2" name="PlaceHolder 2"/>
          <p:cNvSpPr>
            <a:spLocks noGrp="1"/>
          </p:cNvSpPr>
          <p:nvPr>
            <p:ph/>
          </p:nvPr>
        </p:nvSpPr>
        <p:spPr>
          <a:xfrm>
            <a:off x="838080" y="1752480"/>
            <a:ext cx="7772400" cy="45720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de recursividad (continuación):</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uede llegar al individuo, el que posee el sistema nervioso quien posee su propia dirección (centros cerebrales) y producción (movimiento de los múscul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istema nervioso posee células, las que también tienen su centro de dirección (núcleo) y producción (la emisión de impulsos eléctricos a través del ax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9EBC66-ACC3-42DD-9CD1-45C1BD8A0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371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1: Sinergia y Recursividad</a:t>
            </a:r>
            <a:endParaRPr b="0" lang="en-US" sz="4400" spc="-1" strike="noStrike">
              <a:solidFill>
                <a:srgbClr val="003366"/>
              </a:solidFill>
              <a:latin typeface="Times New Roman"/>
            </a:endParaRPr>
          </a:p>
        </p:txBody>
      </p:sp>
      <p:sp>
        <p:nvSpPr>
          <p:cNvPr id="164" name="PlaceHolder 2"/>
          <p:cNvSpPr>
            <a:spLocks noGrp="1"/>
          </p:cNvSpPr>
          <p:nvPr>
            <p:ph/>
          </p:nvPr>
        </p:nvSpPr>
        <p:spPr>
          <a:xfrm>
            <a:off x="838080" y="1447920"/>
            <a:ext cx="7772400" cy="487656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cursivid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cursividad se presenta en torno a ciertas características particulares de diferentes elementos o totalidades de diferentes grados de complejidad.</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consisten en individualidades, por lo tanto son indivisibles como sistema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etasistemas consisten en sistemas que interactúan entre sí (</a:t>
            </a:r>
            <a:r>
              <a:rPr b="0" i="1" lang="en-US" sz="2400" spc="-1" strike="noStrike">
                <a:solidFill>
                  <a:srgbClr val="000000"/>
                </a:solidFill>
                <a:latin typeface="Arial"/>
              </a:rPr>
              <a:t>Staford Be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la idea de sinergia es inherente al concepto de sistemas y la recursividad es la jerarquización de todos los sistemas existent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BDADD3-02C1-451B-BB1A-13F23CD017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01T15:39:17Z</dcterms:modified>
  <cp:revision>20</cp:revision>
  <dc:subject/>
  <dc:title>Universidad de Ciencias de la Informática Escuela de Ingeniería Asignatura: “Teoría de Sistemas”</dc:title>
</cp:coreProperties>
</file>