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84400" y="701640"/>
            <a:ext cx="4618080" cy="346392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84400" y="701640"/>
            <a:ext cx="4618080" cy="346392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84400" y="701640"/>
            <a:ext cx="4618080" cy="346392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7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84400" y="701640"/>
            <a:ext cx="4618080" cy="346392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184400" y="701640"/>
            <a:ext cx="4618080" cy="346392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8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84400" y="701640"/>
            <a:ext cx="4618080" cy="346392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sldImg"/>
          </p:nvPr>
        </p:nvSpPr>
        <p:spPr>
          <a:xfrm>
            <a:off x="1184400" y="701640"/>
            <a:ext cx="4618080" cy="346392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84400" y="701640"/>
            <a:ext cx="4618080" cy="346392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0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sldImg"/>
          </p:nvPr>
        </p:nvSpPr>
        <p:spPr>
          <a:xfrm>
            <a:off x="1184400" y="701640"/>
            <a:ext cx="4618080" cy="346392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sldImg"/>
          </p:nvPr>
        </p:nvSpPr>
        <p:spPr>
          <a:xfrm>
            <a:off x="1184400" y="701640"/>
            <a:ext cx="4618080" cy="346392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1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sldImg"/>
          </p:nvPr>
        </p:nvSpPr>
        <p:spPr>
          <a:xfrm>
            <a:off x="1184400" y="701640"/>
            <a:ext cx="4618080" cy="346392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1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84400" y="701640"/>
            <a:ext cx="4618080" cy="346392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2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sldImg"/>
          </p:nvPr>
        </p:nvSpPr>
        <p:spPr>
          <a:xfrm>
            <a:off x="1184400" y="701640"/>
            <a:ext cx="4618080" cy="346392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33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sldImg"/>
          </p:nvPr>
        </p:nvSpPr>
        <p:spPr>
          <a:xfrm>
            <a:off x="1184400" y="701640"/>
            <a:ext cx="4618080" cy="346392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2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sldImg"/>
          </p:nvPr>
        </p:nvSpPr>
        <p:spPr>
          <a:xfrm>
            <a:off x="1184400" y="701640"/>
            <a:ext cx="4618080" cy="3463920"/>
          </a:xfrm>
          <a:prstGeom prst="rect">
            <a:avLst/>
          </a:prstGeom>
          <a:ln w="0">
            <a:noFill/>
          </a:ln>
        </p:spPr>
      </p:sp>
      <p:sp>
        <p:nvSpPr>
          <p:cNvPr id="22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2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84400" y="701640"/>
            <a:ext cx="4618080" cy="3463920"/>
          </a:xfrm>
          <a:prstGeom prst="rect">
            <a:avLst/>
          </a:prstGeom>
          <a:ln w="0">
            <a:noFill/>
          </a:ln>
        </p:spPr>
      </p:sp>
      <p:sp>
        <p:nvSpPr>
          <p:cNvPr id="23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35"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84400" y="701640"/>
            <a:ext cx="4618080" cy="3463920"/>
          </a:xfrm>
          <a:prstGeom prst="rect">
            <a:avLst/>
          </a:prstGeom>
          <a:ln w="0">
            <a:noFill/>
          </a:ln>
        </p:spPr>
      </p:sp>
      <p:sp>
        <p:nvSpPr>
          <p:cNvPr id="23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1"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84400" y="701640"/>
            <a:ext cx="4618080" cy="346392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7"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84400" y="701640"/>
            <a:ext cx="4618080" cy="3463920"/>
          </a:xfrm>
          <a:prstGeom prst="rect">
            <a:avLst/>
          </a:prstGeom>
          <a:ln w="0">
            <a:noFill/>
          </a:ln>
        </p:spPr>
      </p:sp>
      <p:sp>
        <p:nvSpPr>
          <p:cNvPr id="25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84400" y="701640"/>
            <a:ext cx="4618080" cy="346392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84400" y="701640"/>
            <a:ext cx="4618080" cy="346392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17BDC-676E-4092-A505-426195A68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B953-B566-4AD2-A421-ADC230C3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E7482-F034-455D-9E79-430B51C9D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F08AC-DE11-47FA-A20F-5D7AD859A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53D74-87EA-4668-AA16-433FAEC87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A973-433B-41DC-8B5D-DA52C2C6A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D8F5C-000F-4529-B375-006725C12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A3A34-F508-4B49-BD7E-F92F85999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51D06-5655-4D79-8FD5-EB607A2D4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EEE65-C650-41E4-A37E-39BAD1CB6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2CEC1-4347-4E73-A2C2-716B6AA22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5807-F049-4864-B04B-D8A244E96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EADED-DF7A-4859-837C-0DE018146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1846A-B6F7-457E-8D5D-A7022FC89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A5758-C4D7-4418-BB55-A1E9A4F7D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99900-A1B2-4B82-A760-45DDEE80F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8B89A-856B-4622-82B3-C3200F4F9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C2191-583E-4CFE-823D-646366D89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689E-783E-445B-A4C5-244A1C23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21EF4-760E-44E4-842C-7A2539256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0DE1C-ECAB-42A6-99BE-49F9DF36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099D-CB11-4787-9C03-C0B4C2F6B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C4CC-A980-4873-8311-66A5D9FA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ABFBA-F5E3-45AF-B651-090B49DAF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11CD-24F8-45E7-80CE-08F526F6C2E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04A7-A004-4BBB-A9F4-338B428E359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 específico que no tiene significado y lo general que no tiene sentido debe existir un grado óptimo de general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o el enfoque de sistema) toma una posición contraria (como metodología) al enfoque reduccionis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sistemas pretende integrar las partes hasta alcanzar una totalidad lógic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C888DA-89F8-4A74-94E2-B3E87FC581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7).</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ivos de la TGS pueden ser fijados a diferentes grados de ambición y de confianz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bajo de ambición pero con un alto grado de confianza su objetivo es descubrir los isomorfismos en las construcciones teóricas de las disciplin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 nivel alto de ambición pero con un grado de confianza menor espera desarrollar un “espectro” de teorías,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76944D-A73D-4C27-89D0-9EEDB69938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8).</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oulding sostiene que las ciencias actualmente tienen muchas dificultades para comunicarse entre sí, debido a la especialización: el físico sólo habla de física, el astrofísico de astrofísica,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entras más se divide la ciencia en subgrupos y menor sea la comunicación entre sus partes mayor es la posibilidad de que el crecimiento del conocimiento sea reducido por la pérdida de comunicación releva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6B597D-1F4D-4D07-9EFC-2CA5C99C7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9"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9).</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ermite un “vocabulario común” entre todas las áreas lo que proporciona un remedio a la sordera provocada por la especialización. Ejemplo: desarrollo y conducta de las enfermedades contagiosas y publicida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º</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gios</a:t>
            </a:r>
            <a:endParaRPr b="0"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iempo</a:t>
            </a:r>
            <a:endParaRPr b="0" lang="en-US" sz="2000" spc="-1" strike="noStrike">
              <a:solidFill>
                <a:srgbClr val="000000"/>
              </a:solidFill>
              <a:latin typeface="Arial"/>
            </a:endParaRPr>
          </a:p>
        </p:txBody>
      </p:sp>
      <p:sp>
        <p:nvSpPr>
          <p:cNvPr id="180" name=""/>
          <p:cNvSpPr/>
          <p:nvPr/>
        </p:nvSpPr>
        <p:spPr>
          <a:xfrm>
            <a:off x="1752480" y="46483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52480" y="6095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2480" y="4876920"/>
            <a:ext cx="2514600" cy="1143000"/>
          </a:xfrm>
          <a:custGeom>
            <a:avLst/>
            <a:gdLst/>
            <a:ahLst/>
            <a:rect l="l" t="t" r="r" b="b"/>
            <a:pathLst>
              <a:path w="1584" h="720">
                <a:moveTo>
                  <a:pt x="0" y="720"/>
                </a:moveTo>
                <a:cubicBezTo>
                  <a:pt x="216" y="624"/>
                  <a:pt x="432" y="528"/>
                  <a:pt x="576" y="432"/>
                </a:cubicBezTo>
                <a:cubicBezTo>
                  <a:pt x="720" y="336"/>
                  <a:pt x="696" y="216"/>
                  <a:pt x="864" y="144"/>
                </a:cubicBezTo>
                <a:cubicBezTo>
                  <a:pt x="1032" y="72"/>
                  <a:pt x="1308" y="36"/>
                  <a:pt x="158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72A3E7-DC9C-48A1-A898-D9FF493501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0).</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r al universo empírico y escoger ciertos fenómenos generales que se encuentran en diferentes disciplinas y tratar de construir un modelo teórico que sea relevante para estos fenómenos. En vez de estudiar cada sistema considera un conjunto de todos los sistemas concebibles y busca reducirlo a un conjunto de un tamaño más razon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D7A9D0-EE8F-47B7-B0FA-59B5805ED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8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r los campos empíricos en una jerarquía de acuerdo con la complejidad de la organización de sus individuos básicos o unidades de conducta y tratar de desarrollar un nivel de abstracción apropiado a cada uno de ellos. Es un enfoque más sistemático y conduce a “un sistema de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A44412-05B0-4F31-AD01-84D81BD48D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2).</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propone un ordenamiento jerárquico a los posibles niveles que determinan un ordenamiento de los diferentes sistemas que nos rodea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 estructuras estática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sistemas dinámicos simp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o: sistemas cibernéticos o de contro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los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EB32E0-C9C6-428F-8675-1A9C03AA1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4"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dos enfoques para el estudio de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amiento jerárquico de Boulding (continuació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nto: genético soci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to: anima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timo: el hombr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avo: estructuras sociale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no: los sistemas trascend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lding llama a la TGS “esqueleto de la cienci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AA1835-000A-4AE8-BDF2-F82DA69363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97"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4).</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bernética: se basa en la retroalimentación y la homeóstasis. “Es la ciencia de la comunicación y el control en el animal y la máquina” (S. Beer y N. Wien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información: la información es mensurable: información = - entropía ó información = negentropí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os juegos: explicar matemáticamente el antagonismo racion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E8B6EA-B730-4E42-8DFB-09681A4FAB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0"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5).</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que buscan aplicar la TGS (continua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de la decisión: analiza la selección racional de alternativas ó el estudio de la conducta que sigue un sistema social al afrontar el proceso de decis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ía o matemática racional: tuvo sus inicios como una respuesta a los análisis clásicos del cálculo y de las ecuaciones diferenciales. Ejemplo: teoría de los gráf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4393F6-FD15-4515-A1F4-1F3D592D1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Objetivos.</a:t>
            </a:r>
            <a:endParaRPr b="0" lang="en-US" sz="4400" spc="-1" strike="noStrike">
              <a:solidFill>
                <a:srgbClr val="003366"/>
              </a:solidFill>
              <a:latin typeface="Times New Roman"/>
            </a:endParaRPr>
          </a:p>
        </p:txBody>
      </p:sp>
      <p:sp>
        <p:nvSpPr>
          <p:cNvPr id="147" name="PlaceHolder 2"/>
          <p:cNvSpPr>
            <a:spLocks noGrp="1"/>
          </p:cNvSpPr>
          <p:nvPr>
            <p:ph/>
          </p:nvPr>
        </p:nvSpPr>
        <p:spPr>
          <a:xfrm>
            <a:off x="762120" y="1600200"/>
            <a:ext cx="7772400" cy="46483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Evaluar la teoría general de sistema en las aplicaciones de programación e informá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Interpretar el funcionamiento de una empresa o negocio con sistemas informáticos a través de la teoría general de sistema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DC0AE0-AD5B-4A31-B677-31D21CAC7B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3" name="PlaceHolder 2"/>
          <p:cNvSpPr>
            <a:spLocks noGrp="1"/>
          </p:cNvSpPr>
          <p:nvPr>
            <p:ph/>
          </p:nvPr>
        </p:nvSpPr>
        <p:spPr>
          <a:xfrm>
            <a:off x="838080" y="1599840"/>
            <a:ext cx="7772400" cy="47242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6).</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factorial: aislar matemáticamente los factores de los problemas multivariables.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psicologí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las entidades cuyos componentes son heterogéneos pueden ser analizados como sistem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ción de operaciones: control científico de problemas existentes de hombres máquinas, materiales, dinero,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3C7833-5B57-4E20-B693-17C19B8393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206"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207" name=""/>
          <p:cNvGraphicFramePr/>
          <p:nvPr/>
        </p:nvGraphicFramePr>
        <p:xfrm>
          <a:off x="838080" y="2273400"/>
          <a:ext cx="3822840" cy="3084480"/>
        </p:xfrm>
        <a:graphic>
          <a:graphicData uri="http://schemas.openxmlformats.org/presentationml/2006/ole">
            <p:oleObj r:id="rId1" spid="">
              <p:embed/>
              <p:pic>
                <p:nvPicPr>
                  <p:cNvPr id="208"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EE915693-CDAB-4046-B5AA-FA567C5B97AD}"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oría de Sistemas: Bibliografía.</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880"/>
            <a:ext cx="7772400" cy="46483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sica: “Introducción a la teoría general de sistemas”, Oscar Johansen Bertoglio, Editorial Limusa, México, 1995, 167 páginas,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erid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Análisis de sistemas.” Juan Bravo Carrasco. Editorial Evolución, Chile, 1998, 415 páginas (Bravo9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oría general de los sistemas”, Ludwig Von Bertalanffy, Editorial Fondo de cultura económica, México, 1995, 311 páginas </a:t>
            </a:r>
            <a:r>
              <a:rPr b="1" lang="en-US" sz="2400" spc="-1" strike="noStrike">
                <a:solidFill>
                  <a:srgbClr val="000000"/>
                </a:solidFill>
                <a:latin typeface="Arial"/>
              </a:rPr>
              <a:t>(</a:t>
            </a:r>
            <a:r>
              <a:rPr b="0" lang="en-US" sz="2400" spc="-1" strike="noStrike">
                <a:solidFill>
                  <a:srgbClr val="000000"/>
                </a:solidFill>
                <a:latin typeface="Arial"/>
              </a:rPr>
              <a:t>Bertalanffy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AEE7BF-F3C9-4FCF-9EC1-74BB6341C0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ntecedentes histó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dea nace alrededor de 1925 cuando Bertalanffy publica sus investigaciones sobre el sistema abier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ólo después de la Segunda Guerra Mundial comienza a tomar fuerz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apoyada por estudios hechos en Cibernética, de Norbert Wien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AC0F2D-B2EA-4BCD-BAF4-8EEB15E22B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oría General de los Sistemas (TGS), a través del análisis de las totalidades y las interacciones internas de éstas y las externas con su medio, permite la explicación de los fenómenos que ocurren en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alidad generalmente no puede ser explicada a través del estudio y análisis de cada una de sus partes. EL TODO ES MAYOR QUE LA SUMA DE LAS PAR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asa a través de todo el campo del saber huma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247424-1603-42F8-970D-265B68B09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vances de la TGS se enfocan en identificar los aspectos que tienden a igualar las conductas de los diferentes sistemas en que se puede clasificar la realidad </a:t>
            </a:r>
            <a:r>
              <a:rPr b="1" lang="en-US" sz="2400" spc="-1" strike="noStrike">
                <a:solidFill>
                  <a:srgbClr val="000000"/>
                </a:solidFill>
                <a:latin typeface="Arial"/>
              </a:rPr>
              <a:t>(</a:t>
            </a:r>
            <a:r>
              <a:rPr b="0" lang="en-US" sz="2400" spc="-1" strike="noStrike">
                <a:solidFill>
                  <a:srgbClr val="000000"/>
                </a:solidFill>
                <a:latin typeface="Arial"/>
              </a:rPr>
              <a:t>Johansen95</a:t>
            </a:r>
            <a:r>
              <a:rPr b="1"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en que se puede dividir la realidad tienen semejanzas y diferencias, los sistemas “inferiores” están incluidos en los “superiores” (principio de la recursiv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posee varios principios “interdisciplinarios” ya que se pueden aplicar a diferentes disciplinas científic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F40A4A-5677-4103-896E-2EF1D55E9F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reduccionista: las ciencias han tenido un gran desarrollo gracias al enfoque reduccionista. Dicho enfoque consiste en estudiar un fenómeno complejo a través del análisis de sus elementos o partes componen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este enfoque es el más adecuado, por ejemplo un jugador de fútbol durante un parti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fenómenos que no se prestan para el enfoque reduccionis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AB3174-6A4A-4346-BB09-FD968A1FA2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as de sistemas que parecen inexplicables pueden tener una respuesta si se amplía “el objeto de la investig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os años 30 el psicólogo Kurt Lewin planteaba dentro de la “Teoría del campo” que resulta ventajoso comenzar por las caracterizaciones de las situaciones como un todo. El ser humano es mucho más complejo que un pedazo de mineral o una célul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94363D-2265-4538-9903-250B590412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6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onceptos generales sobre sistemas (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de los siste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ólo es necesario definir la totalidad sino también sus partes constituyentes y la interacción de ést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GS describe un nivel de construcción teórico que se sitúa entre las construcciones generalizadas de las matemáticas y las teorías específicas de las disciplinas especializa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BD173D-1919-4982-BA9E-1E3F6404C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8-19T21:06:15Z</dcterms:modified>
  <cp:revision>19</cp:revision>
  <dc:subject/>
  <dc:title>Universidad de Ciencias de la Informática Escuela de Ingeniería Asignatura: “Teoría de Sistemas”</dc:title>
</cp:coreProperties>
</file>