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40C-062A-417D-A319-55BC0A64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C69-AFC1-4F31-B5AC-6F06FF51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279-901E-4FA6-ACF3-2CD0FED1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73F-5EDE-4C85-9531-6D4F983A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1EB-6308-4B3A-AC79-CE5BC016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71C-152C-4127-8CF9-E05A1C4E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091-6B51-466A-A451-157D2663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BA0-CC95-4670-9BF6-1C3F7A6A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759-57EB-4637-824B-437EB516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2D4-44A7-4B86-A624-CA0E2185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C0E-9D05-43BF-81AE-7427EC8C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B96-C6F2-4B35-BD06-104E7462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418F-7751-40E5-A538-E84447513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915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LANIFICACIÓN PARTICIPATIV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CEPTOS Y MÉTODO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560" y="5028840"/>
            <a:ext cx="6476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PROFESORA: 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DRA.  JUDITH GÁLVEZ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Facultad Cs. Fores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lanificación Particip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omic Sans MS"/>
              </a:rPr>
              <a:t>Círculos viciosos de la Pobrez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838080"/>
            <a:ext cx="121932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432880" y="2169720"/>
            <a:ext cx="1077840" cy="5828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 fontScale="89000"/>
          </a:bodyPr>
          <a:p>
            <a:pPr marL="305280" indent="-305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ccff"/>
                </a:solidFill>
                <a:latin typeface="Comic Sans MS"/>
              </a:rPr>
              <a:t>Baja</a:t>
            </a:r>
            <a:endParaRPr b="0" lang="en-US" sz="1600" spc="-1" strike="noStrike">
              <a:solidFill>
                <a:srgbClr val="33ccff"/>
              </a:solidFill>
              <a:latin typeface="Comic Sans MS"/>
            </a:endParaRPr>
          </a:p>
          <a:p>
            <a:pPr marL="305280" indent="-305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ccff"/>
                </a:solidFill>
                <a:latin typeface="Comic Sans MS"/>
              </a:rPr>
              <a:t>producción</a:t>
            </a:r>
            <a:endParaRPr b="0" lang="en-US" sz="16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2438280"/>
            <a:ext cx="152388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B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Intele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3809880"/>
            <a:ext cx="121932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Falt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Man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362320"/>
            <a:ext cx="121896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2057400"/>
            <a:ext cx="1295280" cy="9907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B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expor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5257800"/>
            <a:ext cx="121896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ingr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5334120"/>
            <a:ext cx="1371600" cy="10666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Baj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per/cáp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181480"/>
            <a:ext cx="121932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Baj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3429000"/>
            <a:ext cx="121932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Bajo Ni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Tecnoló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4038480"/>
            <a:ext cx="1371600" cy="10670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Baj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del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1066680"/>
            <a:ext cx="167652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Baj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import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62920" y="3809880"/>
            <a:ext cx="121896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Ba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ahor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2895480"/>
            <a:ext cx="1295280" cy="9907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B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Inversión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6095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662940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915400" y="259092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458200" y="2590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772400" y="1294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543440" y="1295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477120" y="1752480"/>
            <a:ext cx="3045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028840" y="1676520"/>
            <a:ext cx="16002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943600" y="1371600"/>
            <a:ext cx="3808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657240" y="167652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676160" y="220968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28240" y="2819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819520"/>
            <a:ext cx="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4724280"/>
            <a:ext cx="2286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04760" y="4343400"/>
            <a:ext cx="11430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0720" y="2895480"/>
            <a:ext cx="175284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657600" y="327672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426708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04760" y="4800600"/>
            <a:ext cx="236196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267080" y="50288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00600" y="58672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4876920"/>
            <a:ext cx="9144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010280" y="4724280"/>
            <a:ext cx="53352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410080" y="3886200"/>
            <a:ext cx="60984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857640" y="3580920"/>
            <a:ext cx="6858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55440" y="1828800"/>
            <a:ext cx="21348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Div/Inv Ex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057400"/>
            <a:ext cx="9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Coop. T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7080" y="320040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icrosoft Word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efinición de Línea de Pobrez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La línea de pobreza se refiere al ingreso necesario para cubrir todas las necesidades básicas del individuo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En Chile se asume una relación  fija entre el costo de una canasta alimentaria y el costo de necesidades no alimentarias. Esta relación se obtiene a partir de la proporción observada entre los gastos en alimentación y los gastos totales de consumo en los hogares del grupo de referencia.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Caso de Chile </a:t>
            </a: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= Zonas Urbanas 50%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= Zonas Rurales 57%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efinición de Línea Indigencia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1" lang="en-US" sz="2400" spc="-1" strike="noStrike" u="sng">
                <a:solidFill>
                  <a:srgbClr val="33ccff"/>
                </a:solidFill>
                <a:uFillTx/>
                <a:latin typeface="Comic Sans MS"/>
              </a:rPr>
              <a:t>Línea de Indigencia</a:t>
            </a: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 implica un menor nivel de ingresos pues se limita sólo a las necesidades alimentarias. Se construye a partir de una canasta básica de alimentos, la cual cubre las necesidades de alimentación de un individuo en un mes. 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Aplicando los precios unitarios a las cantidades de alimentos de la canasta se llega al valor de la línea de indigencia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seña de los Paradigmas de Desarrollo Rural de Chil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85840" y="182844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Desarrollo sinónimo de Industrialización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6002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Década 5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1240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Década 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572000"/>
            <a:ext cx="289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ines años 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32004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Desarrollo de la Comunidad Modelo de Di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4572000"/>
            <a:ext cx="4876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El modelo precedente cambió al de Investigación Agrícola y Capital Humano se buscan variedades de alto 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2895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Inicio década años setenta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14440" y="11430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Declina la revolución verde, se constata que los incrementos de la producción se deben a factores ambientales (suelo, agua, clima).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39480" indent="-339480" algn="just">
              <a:lnSpc>
                <a:spcPct val="12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Pobreza crónica y falta de alimentos, inicio del desarrollo rural integrado.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1240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Años ochenta a noventa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95680" y="838080"/>
            <a:ext cx="3733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Estrategia de desarrollo abierto a la demanda del mercado mundial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733920"/>
            <a:ext cx="3124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Años noventa inicio Siglo XX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3352680"/>
            <a:ext cx="3733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Continuación de la estrategia anterior del nuevo paradigma es el logro del desarrollo sustentable con eq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arreras Político - Institucional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Importancia de instituciones tradicionales sobre la sociedad civil 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Inexistencia o baja influencia de instituciones de poder local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Baja participación política y poder relativo de los habitantes de zonas rurales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Deficiencias de representación que impiden o limitan el reconocimiento de las demandas de los diferentes sectores sociales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Clientelismo político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Sistemas institucionales autoritarios o sólo formalmente democráticos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Corrupción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arreras Económica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Tecnologías inapropiadas social o ambientalmente costosas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Falta de masa crítica para el desarrollo del mercado 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Precios distorsionados en los mercados de bienes y de insumos, que llevan a decisiones privadas ineficientes desde el punto de vista social 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Escalas de producción no económicas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Prácticas empresariales no eficientes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Economías de auto subsistencia 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Mano de obra con baja capacitación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Escasez de fondos para emprendimientos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Estructura impositiva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omic Sans MS"/>
              </a:rPr>
              <a:t>Barrera demográfica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04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Densidad y movimiento de la población: población escasa o dispersa. Población transhumante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104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Desequilibrios en la esructura por sexos de la población preeminencia de hombres o mujeres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104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Desequilibrios por estructuras por edades de la población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104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Patrones de mortalidad infantil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104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Patrones de nupcialidad y natalidad. Familias numerosas y reducidas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ccff"/>
                </a:solidFill>
                <a:latin typeface="Comic Sans MS"/>
              </a:rPr>
              <a:t>BASES PARA LA PLANIFICACIÓN PARTICIPATIVA</a:t>
            </a:r>
            <a:endParaRPr b="0" lang="en-US" sz="36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omic Sans MS"/>
              </a:rPr>
              <a:t>Conceptos: LA PLANIFICACIÓ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Es un proceso que busca anticipar aconcimintos económicos y sociales para orientarlos en una dirección determinada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Es una forma de intervención de la realidad a partir de información sistematizada, coordinación institucional y activación de la participacíón de la sociedad o parte de ella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omic Sans MS"/>
              </a:rPr>
              <a:t>Capital Social en el contexto de la Planificación Participativ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ff"/>
                </a:solidFill>
                <a:latin typeface="Comic Sans MS"/>
              </a:rPr>
              <a:t>Concepto de Capital Social</a:t>
            </a: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: es una forma del capital humano entendido como la habilidad de la gente para asociarse unos con otros con el propósito de obtener objetivos comunes (Coleman, R. Putman 1988)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ff"/>
                </a:solidFill>
                <a:latin typeface="Comic Sans MS"/>
              </a:rPr>
              <a:t>Precursores de capital social: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Memoria social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Identidad 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Religión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Vecindad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Amistad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parentesco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omic Sans MS"/>
              </a:rPr>
              <a:t>Empoderamiento y Planificación Participativ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ff"/>
                </a:solidFill>
                <a:latin typeface="Comic Sans MS"/>
              </a:rPr>
              <a:t>Concepto</a:t>
            </a: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: es el proceso por el cual la autoridad y la habilidad se ganan, se desarrollan, se toman o facilitan (Durston, 2000)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Es la antitesís del paternalismo, es la esencia de la autogestión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ff"/>
                </a:solidFill>
                <a:latin typeface="Comic Sans MS"/>
              </a:rPr>
              <a:t>Condiciones</a:t>
            </a: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Creación de espacios institucionales para sectores excluidos participen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Formalización de derchos legales y resguardo de su conocimeinto y respeto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Fomento de organización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Transmisión de capacidades para el ejercicio de la ciudadanía y la producción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Creación de acceso y control sobre recursos y acivos (materiales financieros y de información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omic Sans MS"/>
              </a:rPr>
              <a:t>Género y Planificación Participativ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ff"/>
                </a:solidFill>
                <a:latin typeface="Comic Sans MS"/>
              </a:rPr>
              <a:t>Concepto</a:t>
            </a: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Es el conjunto de características sociales, culturales, políticas psicológicas, jurídicas, conómicas asignadas a las personas en forma diferenciada de acuerdo al sexo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ff"/>
                </a:solidFill>
                <a:latin typeface="Comic Sans MS"/>
              </a:rPr>
              <a:t>Enfoque de género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 algn="just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Implica abordar primero el análisis de las relaciones de género para basar en él la toma de decisiones y acciones para el desarrollo. 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 algn="just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El enfoque de género permite visualizar y reconocer la existencia de relaciones de jerarquía y desigualdad entre hombres y mujeres, expresadas en opresión, injusticia, subordinación, discriminación hacia las mujeres en la organización génerica de las sociedades.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ff"/>
                </a:solidFill>
                <a:latin typeface="Comic Sans MS"/>
              </a:rPr>
              <a:t>Analisis de género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Es un proceso teórico/práctico que permite analizar diferencialmente entre hombres y mujeres los roles, las responsabilidades, los conocimientos, el acceso, uso y control de los recursos, los problemas y las necesidades, con el propósito de planificar el desarrollo con equidad.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omic Sans MS"/>
              </a:rPr>
              <a:t>DESARROLLO DEL TERRITORIO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33ccff"/>
                </a:solidFill>
                <a:latin typeface="Comic Sans MS"/>
              </a:rPr>
              <a:t>Objetivo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32640" indent="-332640" algn="just">
              <a:lnSpc>
                <a:spcPct val="130000"/>
              </a:lnSpc>
              <a:spcBef>
                <a:spcPts val="119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Es un proceso de transformación productiva e institucional de un espacio rural determinado, cuyo fin es reducir la pobreza.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32640" indent="-332640" algn="just">
              <a:lnSpc>
                <a:spcPct val="130000"/>
              </a:lnSpc>
              <a:spcBef>
                <a:spcPts val="119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ff"/>
                </a:solidFill>
                <a:latin typeface="Comic Sans MS"/>
              </a:rPr>
              <a:t>Objetivo</a:t>
            </a: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. Articular competitiva y sustentablemente la economía del territorio a mercados dinámicos.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32640" indent="-332640" algn="just">
              <a:lnSpc>
                <a:spcPct val="130000"/>
              </a:lnSpc>
              <a:spcBef>
                <a:spcPts val="119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ff"/>
                </a:solidFill>
                <a:latin typeface="Comic Sans MS"/>
              </a:rPr>
              <a:t>Territorio</a:t>
            </a: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 es una construcción social, es un espacio con identidad y con un proyectos de desarrollo concertado socialmente. Proceso de cambio d la sociedad rural.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omic Sans MS"/>
              </a:rPr>
              <a:t>Condiciones para iniciar un proceso DT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19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Capital social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>
              <a:lnSpc>
                <a:spcPct val="140000"/>
              </a:lnSpc>
              <a:spcBef>
                <a:spcPts val="119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Mercados dinámicos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>
              <a:lnSpc>
                <a:spcPct val="140000"/>
              </a:lnSpc>
              <a:spcBef>
                <a:spcPts val="119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Poder público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>
              <a:lnSpc>
                <a:spcPct val="140000"/>
              </a:lnSpc>
              <a:spcBef>
                <a:spcPts val="119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Liderazgo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>
              <a:lnSpc>
                <a:spcPct val="140000"/>
              </a:lnSpc>
              <a:spcBef>
                <a:spcPts val="119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Derechos de propiedad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omic Sans MS"/>
              </a:rPr>
              <a:t>La planificación (continuación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Busca formas integradas de solución a los problemas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Busca la coherencia, tanto interna entre sus componentes, en relación a factores externos sobre los cuales pretende incidir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Es un conjunto de procedimientos para relacionar lo que se quiere lograr </a:t>
            </a:r>
            <a:r>
              <a:rPr b="0" i="1" lang="es-MX" sz="2400" spc="-1" strike="noStrike">
                <a:solidFill>
                  <a:srgbClr val="33ccff"/>
                </a:solidFill>
                <a:latin typeface="Comic Sans MS"/>
              </a:rPr>
              <a:t>(objetivos),</a:t>
            </a: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 con la forma d lograrlo </a:t>
            </a:r>
            <a:r>
              <a:rPr b="0" i="1" lang="es-MX" sz="2400" spc="-1" strike="noStrike">
                <a:solidFill>
                  <a:srgbClr val="33ccff"/>
                </a:solidFill>
                <a:latin typeface="Comic Sans MS"/>
              </a:rPr>
              <a:t>(estrategia)</a:t>
            </a: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 y los mecanismos de que se dispone para tales propósitos </a:t>
            </a:r>
            <a:r>
              <a:rPr b="0" i="1" lang="es-MX" sz="2400" spc="-1" strike="noStrike">
                <a:solidFill>
                  <a:srgbClr val="33ccff"/>
                </a:solidFill>
                <a:latin typeface="Comic Sans MS"/>
              </a:rPr>
              <a:t>(instrumentos)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omic Sans MS"/>
              </a:rPr>
              <a:t>La planificación como proceso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Proceso interactivo permanentemente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No es lineal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Es flexible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Puede surgir de demandas sociales contingentes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omic Sans MS"/>
              </a:rPr>
              <a:t>Características de Planificación Modern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5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Reflexión relacionada a la acción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15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Cálculo sistemático como base para las decisiones estrátegicas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15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Indagar el futuro para decidir el presente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-343080" algn="just">
              <a:lnSpc>
                <a:spcPct val="120000"/>
              </a:lnSpc>
              <a:spcBef>
                <a:spcPts val="15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ff"/>
                </a:solidFill>
                <a:latin typeface="Comic Sans MS"/>
              </a:rPr>
              <a:t>La necesidad de coherencia entre los objetivos y los medios que se destinen para alcanzarlos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las personas participan formando grupos de trabajo para responder a objetivos predeterminados por el proyecto, no tiene incidencia sobre la formulación, pero se los toma en cuenta en el monitoreo y en el ajuste de actividades.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articipación Funcion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articipación Interactiv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Los grupos locales organizados participan en la formulación, implementación y evaluación del proyecto, esto implica procesos de enseñanza - aprendizaje sistemáticos y estructurados y la toma de control en forma progresiva del proyecto.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uto - Desarrollo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Los grupos locales organizados toman iniciativas sin esperar intervenciones externas, las intervenciones se hacen forma de asesorías y como socios.</a:t>
            </a:r>
            <a:endParaRPr b="0" lang="en-US" sz="2400" spc="-1" strike="noStrike">
              <a:solidFill>
                <a:srgbClr val="33cc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143000"/>
            <a:ext cx="5638680" cy="510552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54864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4648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8862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200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514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5791320"/>
            <a:ext cx="289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sio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4876920"/>
            <a:ext cx="289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4038480"/>
            <a:ext cx="1981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 y perten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352680"/>
            <a:ext cx="17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est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289548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rre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190512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ber 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1143000"/>
            <a:ext cx="579132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2514600"/>
            <a:ext cx="50292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5486400"/>
            <a:ext cx="3429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6248520"/>
            <a:ext cx="29718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1143000"/>
            <a:ext cx="2438280" cy="1371600"/>
          </a:xfrm>
          <a:prstGeom prst="rightArrow">
            <a:avLst>
              <a:gd name="adj1" fmla="val 50000"/>
              <a:gd name="adj2" fmla="val 44442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1523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cesid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ectu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2666880"/>
            <a:ext cx="2514600" cy="2819520"/>
          </a:xfrm>
          <a:prstGeom prst="rightArrow">
            <a:avLst>
              <a:gd name="adj1" fmla="val 51241"/>
              <a:gd name="adj2" fmla="val 32009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cesid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5486400"/>
            <a:ext cx="2057400" cy="838080"/>
          </a:xfrm>
          <a:prstGeom prst="rightArrow">
            <a:avLst>
              <a:gd name="adj1" fmla="val 50000"/>
              <a:gd name="adj2" fmla="val 63839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esidad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28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Necesidades Human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a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22:23:10Z</dcterms:created>
  <dc:creator>JUDHIT G</dc:creator>
  <dc:description/>
  <dc:language>en-US</dc:language>
  <cp:lastModifiedBy>jgalvez</cp:lastModifiedBy>
  <dcterms:modified xsi:type="dcterms:W3CDTF">2009-03-30T16:49:42Z</dcterms:modified>
  <cp:revision>27</cp:revision>
  <dc:subject/>
  <dc:title>Definición de Línea Indigencia </dc:title>
</cp:coreProperties>
</file>