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png" ContentType="image/png"/>
  <Override PartName="/ppt/media/image6.png" ContentType="image/png"/>
  <Override PartName="/ppt/media/image7.png" ContentType="image/pn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11887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A4C76-ADC0-4AFD-9D5E-CA9C743C3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99D04-B1EE-400D-A16E-848321977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9A861-6546-43C1-97AD-F2CF957A2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74A68-CCC9-404F-B6A4-71833BED6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9CF80-92DF-4016-81E5-23DE3A197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2AA30-F2E3-4CF4-A80F-6D255FC66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A45B9-FC2D-4763-9CB0-82820C945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AE1AD-F505-482B-810D-AC8B58E08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914B7-AF06-4C3C-AF2A-AEFCB265D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F4FE6-A509-42BB-8615-647491F5C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70C37-3FEB-431C-AEDB-C4F913AD4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A4F06-C097-41CB-9E92-35D3A56F5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F6E2D-195A-4384-B88A-6CA84617A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4FEE2-0138-4BE1-808A-175477977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036F2-63E0-4FBB-ABCB-2BD404B88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84DC5-072D-4FE8-8A70-0050A3924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024F3-9DF0-4874-9F69-57C588291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8703D-C999-40B7-AD5C-99CB74262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FCAF5-0BAB-466E-8683-E9BE7E436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90EEF-B34F-4634-A898-354178A64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6C409-27E9-464A-B785-5C175BD00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A588A-07FF-435D-AFDA-093F0F8F7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35691-A38F-4037-B525-10B0FAD3C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D5EB3-9C27-497C-9D39-CD186AD0C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F40FD-C032-4477-844A-B33AFE043011}" type="slidenum">
              <a:rPr b="0" lang="es-E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693F7-F6E5-4D64-9064-9F85CF912504}" type="slidenum">
              <a:rPr b="0" lang="es-E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5b5d6b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Ingreso de Datos al SIG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mato analógic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formato digital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Modos de Digitalizació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Point (Punto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Las coordenadas son registradas mediante pulsaciones en el cursor de la mes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Modo Stream (Continuo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Las coordenadas son registradas sin la intervención del operador, de manera automátic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66720" y="222120"/>
            <a:ext cx="7772400" cy="8352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5b5d6b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Puntos de Control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277920" y="1371600"/>
            <a:ext cx="8588160" cy="514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os Puntos de Control, permiten establecer una relación entre las coordenadas de la mesa (locales) y las coordenadas reales (de acuerdo a un sistema de referencia) de las entidades espacial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sta correspondencia se realiza identificando tres o más Puntos de Control (de manera que no formen una línea recta) y se entrega al sistema las coordenadas reales de dichos punto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blinds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5b5d6b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Puntos de Control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34800" y="202716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 emplean para convertir las coordenadas de “mesa” en coordenadas reales, de acuerdo con el sistema de referencia bajo el cual se elaboró el map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29" name="" descr=""/>
          <p:cNvPicPr/>
          <p:nvPr/>
        </p:nvPicPr>
        <p:blipFill>
          <a:blip r:embed="rId1"/>
          <a:stretch/>
        </p:blipFill>
        <p:spPr>
          <a:xfrm>
            <a:off x="4178160" y="2057400"/>
            <a:ext cx="4965840" cy="408636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30" name=""/>
              <p:cNvSpPr txBox="1"/>
              <p:nvPr/>
            </p:nvSpPr>
            <p:spPr>
              <a:xfrm>
                <a:off x="2332080" y="5253120"/>
                <a:ext cx="4529160" cy="12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MS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sSubSup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pic>
        <p:nvPicPr>
          <p:cNvPr id="431" name="" descr=""/>
          <p:cNvPicPr/>
          <p:nvPr/>
        </p:nvPicPr>
        <p:blipFill>
          <a:blip r:embed="rId1"/>
          <a:stretch/>
        </p:blipFill>
        <p:spPr>
          <a:xfrm>
            <a:off x="609480" y="173160"/>
            <a:ext cx="8283600" cy="4581360"/>
          </a:xfrm>
          <a:prstGeom prst="rect">
            <a:avLst/>
          </a:prstGeom>
          <a:ln w="0">
            <a:noFill/>
          </a:ln>
        </p:spPr>
      </p:pic>
      <p:sp>
        <p:nvSpPr>
          <p:cNvPr id="432" name=""/>
          <p:cNvSpPr/>
          <p:nvPr/>
        </p:nvSpPr>
        <p:spPr>
          <a:xfrm>
            <a:off x="912600" y="1325520"/>
            <a:ext cx="14785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ord. Re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076200" y="974880"/>
            <a:ext cx="19994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ord. Digitalizad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576160" y="1614600"/>
            <a:ext cx="6310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¿Cuál es el nivel de precisión aceptable?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 existe una regla válida para todos los caso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n general, se acepta que para cada proyecto se fije un nivel de error aceptabl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n RMS de 0.000 es imposibl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sualmente, se acepta un RMS de 0.003 a 0.004, cuando se digitaliza en pulgada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blinds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/>
          <p:nvPr/>
        </p:nvSpPr>
        <p:spPr>
          <a:xfrm>
            <a:off x="1371600" y="2133720"/>
            <a:ext cx="3124080" cy="3352680"/>
          </a:xfrm>
          <a:prstGeom prst="rect">
            <a:avLst/>
          </a:prstGeom>
          <a:solidFill>
            <a:srgbClr val="0066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Digitalización de punto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53337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on los más sencillo de digitaliza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asta posicionar el cursor en una posición, y presionar el botón respectivo para registrar el punt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0" name=""/>
          <p:cNvSpPr/>
          <p:nvPr/>
        </p:nvSpPr>
        <p:spPr>
          <a:xfrm>
            <a:off x="2247120" y="3371760"/>
            <a:ext cx="689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2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209320" y="3505320"/>
            <a:ext cx="355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80880" y="3352680"/>
            <a:ext cx="3429000" cy="3124440"/>
          </a:xfrm>
          <a:prstGeom prst="rect">
            <a:avLst/>
          </a:prstGeom>
          <a:solidFill>
            <a:srgbClr val="0066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5b5d6b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Digitalización de Línea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1389240" y="1676520"/>
            <a:ext cx="7446960" cy="157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úmero secuencial “CURVAS#” (Asignado por el software de digitalización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dentificador de usuario “CURVAS-ID” (asignado por el Usuario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445" name=""/>
          <p:cNvGrpSpPr/>
          <p:nvPr/>
        </p:nvGrpSpPr>
        <p:grpSpPr>
          <a:xfrm>
            <a:off x="673200" y="3525840"/>
            <a:ext cx="2952720" cy="2730240"/>
            <a:chOff x="673200" y="3525840"/>
            <a:chExt cx="2952720" cy="2730240"/>
          </a:xfrm>
        </p:grpSpPr>
        <p:sp>
          <p:nvSpPr>
            <p:cNvPr id="446" name=""/>
            <p:cNvSpPr/>
            <p:nvPr/>
          </p:nvSpPr>
          <p:spPr>
            <a:xfrm>
              <a:off x="1427400" y="3755880"/>
              <a:ext cx="1265040" cy="1959120"/>
            </a:xfrm>
            <a:custGeom>
              <a:avLst/>
              <a:gdLst/>
              <a:ahLst/>
              <a:rect l="l" t="t" r="r" b="b"/>
              <a:pathLst>
                <a:path w="797" h="1234">
                  <a:moveTo>
                    <a:pt x="0" y="24"/>
                  </a:moveTo>
                  <a:lnTo>
                    <a:pt x="52" y="0"/>
                  </a:lnTo>
                  <a:lnTo>
                    <a:pt x="83" y="0"/>
                  </a:lnTo>
                  <a:lnTo>
                    <a:pt x="115" y="9"/>
                  </a:lnTo>
                  <a:lnTo>
                    <a:pt x="146" y="36"/>
                  </a:lnTo>
                  <a:lnTo>
                    <a:pt x="177" y="56"/>
                  </a:lnTo>
                  <a:lnTo>
                    <a:pt x="218" y="102"/>
                  </a:lnTo>
                  <a:lnTo>
                    <a:pt x="229" y="129"/>
                  </a:lnTo>
                  <a:lnTo>
                    <a:pt x="260" y="158"/>
                  </a:lnTo>
                  <a:lnTo>
                    <a:pt x="281" y="185"/>
                  </a:lnTo>
                  <a:lnTo>
                    <a:pt x="311" y="205"/>
                  </a:lnTo>
                  <a:lnTo>
                    <a:pt x="341" y="222"/>
                  </a:lnTo>
                  <a:lnTo>
                    <a:pt x="372" y="232"/>
                  </a:lnTo>
                  <a:lnTo>
                    <a:pt x="414" y="241"/>
                  </a:lnTo>
                  <a:lnTo>
                    <a:pt x="466" y="251"/>
                  </a:lnTo>
                  <a:lnTo>
                    <a:pt x="506" y="260"/>
                  </a:lnTo>
                  <a:lnTo>
                    <a:pt x="547" y="260"/>
                  </a:lnTo>
                  <a:lnTo>
                    <a:pt x="580" y="268"/>
                  </a:lnTo>
                  <a:lnTo>
                    <a:pt x="620" y="296"/>
                  </a:lnTo>
                  <a:lnTo>
                    <a:pt x="650" y="314"/>
                  </a:lnTo>
                  <a:lnTo>
                    <a:pt x="682" y="353"/>
                  </a:lnTo>
                  <a:lnTo>
                    <a:pt x="712" y="371"/>
                  </a:lnTo>
                  <a:lnTo>
                    <a:pt x="734" y="399"/>
                  </a:lnTo>
                  <a:lnTo>
                    <a:pt x="754" y="426"/>
                  </a:lnTo>
                  <a:lnTo>
                    <a:pt x="775" y="462"/>
                  </a:lnTo>
                  <a:lnTo>
                    <a:pt x="786" y="492"/>
                  </a:lnTo>
                  <a:lnTo>
                    <a:pt x="796" y="519"/>
                  </a:lnTo>
                  <a:lnTo>
                    <a:pt x="796" y="546"/>
                  </a:lnTo>
                  <a:lnTo>
                    <a:pt x="796" y="575"/>
                  </a:lnTo>
                  <a:lnTo>
                    <a:pt x="786" y="612"/>
                  </a:lnTo>
                  <a:lnTo>
                    <a:pt x="775" y="639"/>
                  </a:lnTo>
                  <a:lnTo>
                    <a:pt x="745" y="677"/>
                  </a:lnTo>
                  <a:lnTo>
                    <a:pt x="724" y="704"/>
                  </a:lnTo>
                  <a:lnTo>
                    <a:pt x="702" y="741"/>
                  </a:lnTo>
                  <a:lnTo>
                    <a:pt x="671" y="760"/>
                  </a:lnTo>
                  <a:lnTo>
                    <a:pt x="650" y="797"/>
                  </a:lnTo>
                  <a:lnTo>
                    <a:pt x="620" y="806"/>
                  </a:lnTo>
                  <a:lnTo>
                    <a:pt x="580" y="815"/>
                  </a:lnTo>
                  <a:lnTo>
                    <a:pt x="547" y="833"/>
                  </a:lnTo>
                  <a:lnTo>
                    <a:pt x="506" y="833"/>
                  </a:lnTo>
                  <a:lnTo>
                    <a:pt x="466" y="833"/>
                  </a:lnTo>
                  <a:lnTo>
                    <a:pt x="403" y="824"/>
                  </a:lnTo>
                  <a:lnTo>
                    <a:pt x="362" y="824"/>
                  </a:lnTo>
                  <a:lnTo>
                    <a:pt x="321" y="824"/>
                  </a:lnTo>
                  <a:lnTo>
                    <a:pt x="289" y="853"/>
                  </a:lnTo>
                  <a:lnTo>
                    <a:pt x="260" y="880"/>
                  </a:lnTo>
                  <a:lnTo>
                    <a:pt x="248" y="908"/>
                  </a:lnTo>
                  <a:lnTo>
                    <a:pt x="237" y="935"/>
                  </a:lnTo>
                  <a:lnTo>
                    <a:pt x="218" y="962"/>
                  </a:lnTo>
                  <a:lnTo>
                    <a:pt x="197" y="992"/>
                  </a:lnTo>
                  <a:lnTo>
                    <a:pt x="177" y="1019"/>
                  </a:lnTo>
                  <a:lnTo>
                    <a:pt x="156" y="1055"/>
                  </a:lnTo>
                  <a:lnTo>
                    <a:pt x="134" y="1094"/>
                  </a:lnTo>
                  <a:lnTo>
                    <a:pt x="93" y="1120"/>
                  </a:lnTo>
                  <a:lnTo>
                    <a:pt x="63" y="1147"/>
                  </a:lnTo>
                  <a:lnTo>
                    <a:pt x="42" y="1177"/>
                  </a:lnTo>
                  <a:lnTo>
                    <a:pt x="22" y="1204"/>
                  </a:lnTo>
                  <a:lnTo>
                    <a:pt x="12" y="1233"/>
                  </a:lnTo>
                </a:path>
              </a:pathLst>
            </a:custGeom>
            <a:noFill/>
            <a:ln cap="rnd"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1527120" y="3525840"/>
              <a:ext cx="1506600" cy="2347920"/>
            </a:xfrm>
            <a:custGeom>
              <a:avLst/>
              <a:gdLst/>
              <a:ahLst/>
              <a:rect l="l" t="t" r="r" b="b"/>
              <a:pathLst>
                <a:path w="949" h="1479">
                  <a:moveTo>
                    <a:pt x="0" y="0"/>
                  </a:moveTo>
                  <a:lnTo>
                    <a:pt x="30" y="16"/>
                  </a:lnTo>
                  <a:lnTo>
                    <a:pt x="63" y="26"/>
                  </a:lnTo>
                  <a:lnTo>
                    <a:pt x="93" y="53"/>
                  </a:lnTo>
                  <a:lnTo>
                    <a:pt x="114" y="82"/>
                  </a:lnTo>
                  <a:lnTo>
                    <a:pt x="144" y="109"/>
                  </a:lnTo>
                  <a:lnTo>
                    <a:pt x="174" y="136"/>
                  </a:lnTo>
                  <a:lnTo>
                    <a:pt x="207" y="146"/>
                  </a:lnTo>
                  <a:lnTo>
                    <a:pt x="248" y="155"/>
                  </a:lnTo>
                  <a:lnTo>
                    <a:pt x="278" y="155"/>
                  </a:lnTo>
                  <a:lnTo>
                    <a:pt x="321" y="165"/>
                  </a:lnTo>
                  <a:lnTo>
                    <a:pt x="351" y="175"/>
                  </a:lnTo>
                  <a:lnTo>
                    <a:pt x="392" y="175"/>
                  </a:lnTo>
                  <a:lnTo>
                    <a:pt x="424" y="192"/>
                  </a:lnTo>
                  <a:lnTo>
                    <a:pt x="464" y="221"/>
                  </a:lnTo>
                  <a:lnTo>
                    <a:pt x="506" y="248"/>
                  </a:lnTo>
                  <a:lnTo>
                    <a:pt x="536" y="267"/>
                  </a:lnTo>
                  <a:lnTo>
                    <a:pt x="568" y="285"/>
                  </a:lnTo>
                  <a:lnTo>
                    <a:pt x="598" y="303"/>
                  </a:lnTo>
                  <a:lnTo>
                    <a:pt x="631" y="321"/>
                  </a:lnTo>
                  <a:lnTo>
                    <a:pt x="671" y="350"/>
                  </a:lnTo>
                  <a:lnTo>
                    <a:pt x="701" y="368"/>
                  </a:lnTo>
                  <a:lnTo>
                    <a:pt x="742" y="377"/>
                  </a:lnTo>
                  <a:lnTo>
                    <a:pt x="785" y="414"/>
                  </a:lnTo>
                  <a:lnTo>
                    <a:pt x="816" y="453"/>
                  </a:lnTo>
                  <a:lnTo>
                    <a:pt x="846" y="489"/>
                  </a:lnTo>
                  <a:lnTo>
                    <a:pt x="867" y="526"/>
                  </a:lnTo>
                  <a:lnTo>
                    <a:pt x="888" y="562"/>
                  </a:lnTo>
                  <a:lnTo>
                    <a:pt x="907" y="608"/>
                  </a:lnTo>
                  <a:lnTo>
                    <a:pt x="918" y="637"/>
                  </a:lnTo>
                  <a:lnTo>
                    <a:pt x="940" y="674"/>
                  </a:lnTo>
                  <a:lnTo>
                    <a:pt x="940" y="701"/>
                  </a:lnTo>
                  <a:lnTo>
                    <a:pt x="948" y="737"/>
                  </a:lnTo>
                  <a:lnTo>
                    <a:pt x="948" y="794"/>
                  </a:lnTo>
                  <a:lnTo>
                    <a:pt x="948" y="822"/>
                  </a:lnTo>
                  <a:lnTo>
                    <a:pt x="948" y="860"/>
                  </a:lnTo>
                  <a:lnTo>
                    <a:pt x="930" y="887"/>
                  </a:lnTo>
                  <a:lnTo>
                    <a:pt x="888" y="896"/>
                  </a:lnTo>
                  <a:lnTo>
                    <a:pt x="856" y="905"/>
                  </a:lnTo>
                  <a:lnTo>
                    <a:pt x="816" y="915"/>
                  </a:lnTo>
                  <a:lnTo>
                    <a:pt x="785" y="923"/>
                  </a:lnTo>
                  <a:lnTo>
                    <a:pt x="742" y="932"/>
                  </a:lnTo>
                  <a:lnTo>
                    <a:pt x="701" y="951"/>
                  </a:lnTo>
                  <a:lnTo>
                    <a:pt x="671" y="961"/>
                  </a:lnTo>
                  <a:lnTo>
                    <a:pt x="639" y="978"/>
                  </a:lnTo>
                  <a:lnTo>
                    <a:pt x="608" y="988"/>
                  </a:lnTo>
                  <a:lnTo>
                    <a:pt x="578" y="1015"/>
                  </a:lnTo>
                  <a:lnTo>
                    <a:pt x="547" y="1044"/>
                  </a:lnTo>
                  <a:lnTo>
                    <a:pt x="517" y="1081"/>
                  </a:lnTo>
                  <a:lnTo>
                    <a:pt x="484" y="1108"/>
                  </a:lnTo>
                  <a:lnTo>
                    <a:pt x="476" y="1137"/>
                  </a:lnTo>
                  <a:lnTo>
                    <a:pt x="454" y="1173"/>
                  </a:lnTo>
                  <a:lnTo>
                    <a:pt x="443" y="1210"/>
                  </a:lnTo>
                  <a:lnTo>
                    <a:pt x="424" y="1239"/>
                  </a:lnTo>
                  <a:lnTo>
                    <a:pt x="392" y="1265"/>
                  </a:lnTo>
                  <a:lnTo>
                    <a:pt x="362" y="1285"/>
                  </a:lnTo>
                  <a:lnTo>
                    <a:pt x="321" y="1303"/>
                  </a:lnTo>
                  <a:lnTo>
                    <a:pt x="288" y="1331"/>
                  </a:lnTo>
                  <a:lnTo>
                    <a:pt x="258" y="1358"/>
                  </a:lnTo>
                  <a:lnTo>
                    <a:pt x="226" y="1378"/>
                  </a:lnTo>
                  <a:lnTo>
                    <a:pt x="207" y="1415"/>
                  </a:lnTo>
                  <a:lnTo>
                    <a:pt x="185" y="1451"/>
                  </a:lnTo>
                  <a:lnTo>
                    <a:pt x="185" y="1478"/>
                  </a:lnTo>
                </a:path>
              </a:pathLst>
            </a:custGeom>
            <a:noFill/>
            <a:ln cap="rnd"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1052640" y="4152960"/>
              <a:ext cx="950760" cy="753840"/>
            </a:xfrm>
            <a:custGeom>
              <a:avLst/>
              <a:gdLst/>
              <a:ahLst/>
              <a:rect l="l" t="t" r="r" b="b"/>
              <a:pathLst>
                <a:path w="599" h="475">
                  <a:moveTo>
                    <a:pt x="173" y="0"/>
                  </a:moveTo>
                  <a:lnTo>
                    <a:pt x="215" y="19"/>
                  </a:lnTo>
                  <a:lnTo>
                    <a:pt x="248" y="19"/>
                  </a:lnTo>
                  <a:lnTo>
                    <a:pt x="299" y="38"/>
                  </a:lnTo>
                  <a:lnTo>
                    <a:pt x="351" y="58"/>
                  </a:lnTo>
                  <a:lnTo>
                    <a:pt x="370" y="94"/>
                  </a:lnTo>
                  <a:lnTo>
                    <a:pt x="403" y="131"/>
                  </a:lnTo>
                  <a:lnTo>
                    <a:pt x="422" y="167"/>
                  </a:lnTo>
                  <a:lnTo>
                    <a:pt x="454" y="186"/>
                  </a:lnTo>
                  <a:lnTo>
                    <a:pt x="484" y="203"/>
                  </a:lnTo>
                  <a:lnTo>
                    <a:pt x="517" y="223"/>
                  </a:lnTo>
                  <a:lnTo>
                    <a:pt x="557" y="242"/>
                  </a:lnTo>
                  <a:lnTo>
                    <a:pt x="577" y="269"/>
                  </a:lnTo>
                  <a:lnTo>
                    <a:pt x="598" y="296"/>
                  </a:lnTo>
                  <a:lnTo>
                    <a:pt x="598" y="326"/>
                  </a:lnTo>
                  <a:lnTo>
                    <a:pt x="598" y="372"/>
                  </a:lnTo>
                  <a:lnTo>
                    <a:pt x="568" y="381"/>
                  </a:lnTo>
                  <a:lnTo>
                    <a:pt x="536" y="408"/>
                  </a:lnTo>
                  <a:lnTo>
                    <a:pt x="506" y="435"/>
                  </a:lnTo>
                  <a:lnTo>
                    <a:pt x="484" y="465"/>
                  </a:lnTo>
                  <a:lnTo>
                    <a:pt x="454" y="474"/>
                  </a:lnTo>
                  <a:lnTo>
                    <a:pt x="403" y="474"/>
                  </a:lnTo>
                  <a:lnTo>
                    <a:pt x="351" y="465"/>
                  </a:lnTo>
                  <a:lnTo>
                    <a:pt x="319" y="454"/>
                  </a:lnTo>
                  <a:lnTo>
                    <a:pt x="278" y="445"/>
                  </a:lnTo>
                  <a:lnTo>
                    <a:pt x="248" y="435"/>
                  </a:lnTo>
                  <a:lnTo>
                    <a:pt x="197" y="418"/>
                  </a:lnTo>
                  <a:lnTo>
                    <a:pt x="164" y="408"/>
                  </a:lnTo>
                  <a:lnTo>
                    <a:pt x="134" y="408"/>
                  </a:lnTo>
                  <a:lnTo>
                    <a:pt x="93" y="381"/>
                  </a:lnTo>
                  <a:lnTo>
                    <a:pt x="72" y="352"/>
                  </a:lnTo>
                  <a:lnTo>
                    <a:pt x="42" y="315"/>
                  </a:lnTo>
                  <a:lnTo>
                    <a:pt x="30" y="279"/>
                  </a:lnTo>
                  <a:lnTo>
                    <a:pt x="20" y="251"/>
                  </a:lnTo>
                  <a:lnTo>
                    <a:pt x="20" y="223"/>
                  </a:lnTo>
                  <a:lnTo>
                    <a:pt x="20" y="186"/>
                  </a:lnTo>
                  <a:lnTo>
                    <a:pt x="9" y="149"/>
                  </a:lnTo>
                  <a:lnTo>
                    <a:pt x="0" y="112"/>
                  </a:lnTo>
                  <a:lnTo>
                    <a:pt x="0" y="85"/>
                  </a:lnTo>
                  <a:lnTo>
                    <a:pt x="0" y="58"/>
                  </a:lnTo>
                  <a:lnTo>
                    <a:pt x="30" y="38"/>
                  </a:lnTo>
                  <a:lnTo>
                    <a:pt x="60" y="28"/>
                  </a:lnTo>
                  <a:lnTo>
                    <a:pt x="93" y="28"/>
                  </a:lnTo>
                  <a:lnTo>
                    <a:pt x="123" y="19"/>
                  </a:lnTo>
                  <a:lnTo>
                    <a:pt x="155" y="19"/>
                  </a:lnTo>
                  <a:lnTo>
                    <a:pt x="173" y="0"/>
                  </a:lnTo>
                </a:path>
              </a:pathLst>
            </a:custGeom>
            <a:noFill/>
            <a:ln cap="rnd"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673200" y="3973320"/>
              <a:ext cx="1658880" cy="1165320"/>
            </a:xfrm>
            <a:custGeom>
              <a:avLst/>
              <a:gdLst/>
              <a:ahLst/>
              <a:rect l="l" t="t" r="r" b="b"/>
              <a:pathLst>
                <a:path w="1045" h="734">
                  <a:moveTo>
                    <a:pt x="349" y="0"/>
                  </a:moveTo>
                  <a:lnTo>
                    <a:pt x="393" y="21"/>
                  </a:lnTo>
                  <a:lnTo>
                    <a:pt x="424" y="32"/>
                  </a:lnTo>
                  <a:lnTo>
                    <a:pt x="454" y="32"/>
                  </a:lnTo>
                  <a:lnTo>
                    <a:pt x="487" y="48"/>
                  </a:lnTo>
                  <a:lnTo>
                    <a:pt x="517" y="59"/>
                  </a:lnTo>
                  <a:lnTo>
                    <a:pt x="550" y="68"/>
                  </a:lnTo>
                  <a:lnTo>
                    <a:pt x="601" y="78"/>
                  </a:lnTo>
                  <a:lnTo>
                    <a:pt x="641" y="95"/>
                  </a:lnTo>
                  <a:lnTo>
                    <a:pt x="672" y="105"/>
                  </a:lnTo>
                  <a:lnTo>
                    <a:pt x="704" y="124"/>
                  </a:lnTo>
                  <a:lnTo>
                    <a:pt x="734" y="141"/>
                  </a:lnTo>
                  <a:lnTo>
                    <a:pt x="755" y="171"/>
                  </a:lnTo>
                  <a:lnTo>
                    <a:pt x="786" y="187"/>
                  </a:lnTo>
                  <a:lnTo>
                    <a:pt x="816" y="216"/>
                  </a:lnTo>
                  <a:lnTo>
                    <a:pt x="847" y="225"/>
                  </a:lnTo>
                  <a:lnTo>
                    <a:pt x="889" y="234"/>
                  </a:lnTo>
                  <a:lnTo>
                    <a:pt x="940" y="262"/>
                  </a:lnTo>
                  <a:lnTo>
                    <a:pt x="971" y="271"/>
                  </a:lnTo>
                  <a:lnTo>
                    <a:pt x="992" y="299"/>
                  </a:lnTo>
                  <a:lnTo>
                    <a:pt x="1002" y="326"/>
                  </a:lnTo>
                  <a:lnTo>
                    <a:pt x="1022" y="373"/>
                  </a:lnTo>
                  <a:lnTo>
                    <a:pt x="1032" y="401"/>
                  </a:lnTo>
                  <a:lnTo>
                    <a:pt x="1032" y="428"/>
                  </a:lnTo>
                  <a:lnTo>
                    <a:pt x="1044" y="455"/>
                  </a:lnTo>
                  <a:lnTo>
                    <a:pt x="1044" y="485"/>
                  </a:lnTo>
                  <a:lnTo>
                    <a:pt x="1044" y="512"/>
                  </a:lnTo>
                  <a:lnTo>
                    <a:pt x="1022" y="540"/>
                  </a:lnTo>
                  <a:lnTo>
                    <a:pt x="992" y="548"/>
                  </a:lnTo>
                  <a:lnTo>
                    <a:pt x="961" y="548"/>
                  </a:lnTo>
                  <a:lnTo>
                    <a:pt x="930" y="548"/>
                  </a:lnTo>
                  <a:lnTo>
                    <a:pt x="900" y="548"/>
                  </a:lnTo>
                  <a:lnTo>
                    <a:pt x="867" y="567"/>
                  </a:lnTo>
                  <a:lnTo>
                    <a:pt x="837" y="587"/>
                  </a:lnTo>
                  <a:lnTo>
                    <a:pt x="807" y="605"/>
                  </a:lnTo>
                  <a:lnTo>
                    <a:pt x="775" y="614"/>
                  </a:lnTo>
                  <a:lnTo>
                    <a:pt x="745" y="633"/>
                  </a:lnTo>
                  <a:lnTo>
                    <a:pt x="712" y="651"/>
                  </a:lnTo>
                  <a:lnTo>
                    <a:pt x="682" y="669"/>
                  </a:lnTo>
                  <a:lnTo>
                    <a:pt x="652" y="687"/>
                  </a:lnTo>
                  <a:lnTo>
                    <a:pt x="620" y="697"/>
                  </a:lnTo>
                  <a:lnTo>
                    <a:pt x="590" y="717"/>
                  </a:lnTo>
                  <a:lnTo>
                    <a:pt x="550" y="717"/>
                  </a:lnTo>
                  <a:lnTo>
                    <a:pt x="517" y="717"/>
                  </a:lnTo>
                  <a:lnTo>
                    <a:pt x="466" y="733"/>
                  </a:lnTo>
                  <a:lnTo>
                    <a:pt x="424" y="733"/>
                  </a:lnTo>
                  <a:lnTo>
                    <a:pt x="383" y="733"/>
                  </a:lnTo>
                  <a:lnTo>
                    <a:pt x="332" y="726"/>
                  </a:lnTo>
                  <a:lnTo>
                    <a:pt x="299" y="726"/>
                  </a:lnTo>
                  <a:lnTo>
                    <a:pt x="269" y="717"/>
                  </a:lnTo>
                  <a:lnTo>
                    <a:pt x="228" y="687"/>
                  </a:lnTo>
                  <a:lnTo>
                    <a:pt x="197" y="660"/>
                  </a:lnTo>
                  <a:lnTo>
                    <a:pt x="167" y="633"/>
                  </a:lnTo>
                  <a:lnTo>
                    <a:pt x="144" y="605"/>
                  </a:lnTo>
                  <a:lnTo>
                    <a:pt x="126" y="578"/>
                  </a:lnTo>
                  <a:lnTo>
                    <a:pt x="114" y="548"/>
                  </a:lnTo>
                  <a:lnTo>
                    <a:pt x="93" y="521"/>
                  </a:lnTo>
                  <a:lnTo>
                    <a:pt x="84" y="494"/>
                  </a:lnTo>
                  <a:lnTo>
                    <a:pt x="52" y="465"/>
                  </a:lnTo>
                  <a:lnTo>
                    <a:pt x="33" y="419"/>
                  </a:lnTo>
                  <a:lnTo>
                    <a:pt x="22" y="392"/>
                  </a:lnTo>
                  <a:lnTo>
                    <a:pt x="12" y="364"/>
                  </a:lnTo>
                  <a:lnTo>
                    <a:pt x="12" y="326"/>
                  </a:lnTo>
                  <a:lnTo>
                    <a:pt x="12" y="280"/>
                  </a:lnTo>
                  <a:lnTo>
                    <a:pt x="12" y="244"/>
                  </a:lnTo>
                  <a:lnTo>
                    <a:pt x="0" y="216"/>
                  </a:lnTo>
                  <a:lnTo>
                    <a:pt x="12" y="187"/>
                  </a:lnTo>
                  <a:lnTo>
                    <a:pt x="22" y="160"/>
                  </a:lnTo>
                  <a:lnTo>
                    <a:pt x="52" y="141"/>
                  </a:lnTo>
                  <a:lnTo>
                    <a:pt x="84" y="124"/>
                  </a:lnTo>
                  <a:lnTo>
                    <a:pt x="114" y="105"/>
                  </a:lnTo>
                  <a:lnTo>
                    <a:pt x="144" y="86"/>
                  </a:lnTo>
                  <a:lnTo>
                    <a:pt x="177" y="68"/>
                  </a:lnTo>
                  <a:lnTo>
                    <a:pt x="207" y="68"/>
                  </a:lnTo>
                  <a:lnTo>
                    <a:pt x="239" y="59"/>
                  </a:lnTo>
                  <a:lnTo>
                    <a:pt x="269" y="48"/>
                  </a:lnTo>
                  <a:lnTo>
                    <a:pt x="299" y="39"/>
                  </a:lnTo>
                  <a:lnTo>
                    <a:pt x="311" y="12"/>
                  </a:lnTo>
                  <a:lnTo>
                    <a:pt x="342" y="12"/>
                  </a:lnTo>
                  <a:lnTo>
                    <a:pt x="349" y="0"/>
                  </a:lnTo>
                </a:path>
              </a:pathLst>
            </a:custGeom>
            <a:noFill/>
            <a:ln cap="rnd"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298520" y="4344840"/>
              <a:ext cx="395280" cy="398520"/>
            </a:xfrm>
            <a:custGeom>
              <a:avLst/>
              <a:gdLst/>
              <a:ahLst/>
              <a:rect l="l" t="t" r="r" b="b"/>
              <a:pathLst>
                <a:path w="249" h="251">
                  <a:moveTo>
                    <a:pt x="18" y="48"/>
                  </a:moveTo>
                  <a:lnTo>
                    <a:pt x="0" y="75"/>
                  </a:lnTo>
                  <a:lnTo>
                    <a:pt x="0" y="102"/>
                  </a:lnTo>
                  <a:lnTo>
                    <a:pt x="20" y="129"/>
                  </a:lnTo>
                  <a:lnTo>
                    <a:pt x="52" y="148"/>
                  </a:lnTo>
                  <a:lnTo>
                    <a:pt x="83" y="167"/>
                  </a:lnTo>
                  <a:lnTo>
                    <a:pt x="104" y="194"/>
                  </a:lnTo>
                  <a:lnTo>
                    <a:pt x="123" y="221"/>
                  </a:lnTo>
                  <a:lnTo>
                    <a:pt x="156" y="241"/>
                  </a:lnTo>
                  <a:lnTo>
                    <a:pt x="197" y="250"/>
                  </a:lnTo>
                  <a:lnTo>
                    <a:pt x="227" y="241"/>
                  </a:lnTo>
                  <a:lnTo>
                    <a:pt x="248" y="214"/>
                  </a:lnTo>
                  <a:lnTo>
                    <a:pt x="248" y="184"/>
                  </a:lnTo>
                  <a:lnTo>
                    <a:pt x="238" y="157"/>
                  </a:lnTo>
                  <a:lnTo>
                    <a:pt x="227" y="129"/>
                  </a:lnTo>
                  <a:lnTo>
                    <a:pt x="197" y="112"/>
                  </a:lnTo>
                  <a:lnTo>
                    <a:pt x="175" y="82"/>
                  </a:lnTo>
                  <a:lnTo>
                    <a:pt x="144" y="55"/>
                  </a:lnTo>
                  <a:lnTo>
                    <a:pt x="134" y="28"/>
                  </a:lnTo>
                  <a:lnTo>
                    <a:pt x="104" y="19"/>
                  </a:lnTo>
                  <a:lnTo>
                    <a:pt x="72" y="0"/>
                  </a:lnTo>
                  <a:lnTo>
                    <a:pt x="42" y="9"/>
                  </a:lnTo>
                  <a:lnTo>
                    <a:pt x="20" y="36"/>
                  </a:lnTo>
                  <a:lnTo>
                    <a:pt x="18" y="48"/>
                  </a:lnTo>
                </a:path>
              </a:pathLst>
            </a:custGeom>
            <a:noFill/>
            <a:ln cap="rnd"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1827360" y="5586480"/>
              <a:ext cx="1717560" cy="422280"/>
            </a:xfrm>
            <a:custGeom>
              <a:avLst/>
              <a:gdLst/>
              <a:ahLst/>
              <a:rect l="l" t="t" r="r" b="b"/>
              <a:pathLst>
                <a:path w="1082" h="266">
                  <a:moveTo>
                    <a:pt x="0" y="170"/>
                  </a:moveTo>
                  <a:lnTo>
                    <a:pt x="29" y="199"/>
                  </a:lnTo>
                  <a:lnTo>
                    <a:pt x="49" y="226"/>
                  </a:lnTo>
                  <a:lnTo>
                    <a:pt x="80" y="236"/>
                  </a:lnTo>
                  <a:lnTo>
                    <a:pt x="121" y="256"/>
                  </a:lnTo>
                  <a:lnTo>
                    <a:pt x="163" y="265"/>
                  </a:lnTo>
                  <a:lnTo>
                    <a:pt x="203" y="265"/>
                  </a:lnTo>
                  <a:lnTo>
                    <a:pt x="235" y="265"/>
                  </a:lnTo>
                  <a:lnTo>
                    <a:pt x="265" y="265"/>
                  </a:lnTo>
                  <a:lnTo>
                    <a:pt x="295" y="256"/>
                  </a:lnTo>
                  <a:lnTo>
                    <a:pt x="328" y="236"/>
                  </a:lnTo>
                  <a:lnTo>
                    <a:pt x="369" y="226"/>
                  </a:lnTo>
                  <a:lnTo>
                    <a:pt x="409" y="208"/>
                  </a:lnTo>
                  <a:lnTo>
                    <a:pt x="450" y="180"/>
                  </a:lnTo>
                  <a:lnTo>
                    <a:pt x="483" y="163"/>
                  </a:lnTo>
                  <a:lnTo>
                    <a:pt x="502" y="133"/>
                  </a:lnTo>
                  <a:lnTo>
                    <a:pt x="534" y="117"/>
                  </a:lnTo>
                  <a:lnTo>
                    <a:pt x="564" y="97"/>
                  </a:lnTo>
                  <a:lnTo>
                    <a:pt x="597" y="97"/>
                  </a:lnTo>
                  <a:lnTo>
                    <a:pt x="627" y="97"/>
                  </a:lnTo>
                  <a:lnTo>
                    <a:pt x="657" y="97"/>
                  </a:lnTo>
                  <a:lnTo>
                    <a:pt x="699" y="106"/>
                  </a:lnTo>
                  <a:lnTo>
                    <a:pt x="741" y="106"/>
                  </a:lnTo>
                  <a:lnTo>
                    <a:pt x="792" y="126"/>
                  </a:lnTo>
                  <a:lnTo>
                    <a:pt x="823" y="126"/>
                  </a:lnTo>
                  <a:lnTo>
                    <a:pt x="863" y="126"/>
                  </a:lnTo>
                  <a:lnTo>
                    <a:pt x="896" y="126"/>
                  </a:lnTo>
                  <a:lnTo>
                    <a:pt x="937" y="126"/>
                  </a:lnTo>
                  <a:lnTo>
                    <a:pt x="967" y="117"/>
                  </a:lnTo>
                  <a:lnTo>
                    <a:pt x="998" y="87"/>
                  </a:lnTo>
                  <a:lnTo>
                    <a:pt x="1029" y="69"/>
                  </a:lnTo>
                  <a:lnTo>
                    <a:pt x="1061" y="41"/>
                  </a:lnTo>
                  <a:lnTo>
                    <a:pt x="1081" y="14"/>
                  </a:lnTo>
                  <a:lnTo>
                    <a:pt x="1071" y="0"/>
                  </a:lnTo>
                  <a:lnTo>
                    <a:pt x="1071" y="0"/>
                  </a:lnTo>
                </a:path>
              </a:pathLst>
            </a:custGeom>
            <a:noFill/>
            <a:ln cap="rnd"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1427400" y="5675040"/>
              <a:ext cx="2198520" cy="581040"/>
            </a:xfrm>
            <a:custGeom>
              <a:avLst/>
              <a:gdLst/>
              <a:ahLst/>
              <a:rect l="l" t="t" r="r" b="b"/>
              <a:pathLst>
                <a:path w="1385" h="366">
                  <a:moveTo>
                    <a:pt x="0" y="0"/>
                  </a:moveTo>
                  <a:lnTo>
                    <a:pt x="1" y="40"/>
                  </a:lnTo>
                  <a:lnTo>
                    <a:pt x="1" y="69"/>
                  </a:lnTo>
                  <a:lnTo>
                    <a:pt x="12" y="97"/>
                  </a:lnTo>
                  <a:lnTo>
                    <a:pt x="22" y="124"/>
                  </a:lnTo>
                  <a:lnTo>
                    <a:pt x="31" y="152"/>
                  </a:lnTo>
                  <a:lnTo>
                    <a:pt x="52" y="179"/>
                  </a:lnTo>
                  <a:lnTo>
                    <a:pt x="63" y="208"/>
                  </a:lnTo>
                  <a:lnTo>
                    <a:pt x="93" y="226"/>
                  </a:lnTo>
                  <a:lnTo>
                    <a:pt x="134" y="254"/>
                  </a:lnTo>
                  <a:lnTo>
                    <a:pt x="177" y="272"/>
                  </a:lnTo>
                  <a:lnTo>
                    <a:pt x="207" y="281"/>
                  </a:lnTo>
                  <a:lnTo>
                    <a:pt x="248" y="301"/>
                  </a:lnTo>
                  <a:lnTo>
                    <a:pt x="281" y="318"/>
                  </a:lnTo>
                  <a:lnTo>
                    <a:pt x="311" y="329"/>
                  </a:lnTo>
                  <a:lnTo>
                    <a:pt x="352" y="338"/>
                  </a:lnTo>
                  <a:lnTo>
                    <a:pt x="384" y="338"/>
                  </a:lnTo>
                  <a:lnTo>
                    <a:pt x="425" y="338"/>
                  </a:lnTo>
                  <a:lnTo>
                    <a:pt x="476" y="338"/>
                  </a:lnTo>
                  <a:lnTo>
                    <a:pt x="506" y="338"/>
                  </a:lnTo>
                  <a:lnTo>
                    <a:pt x="539" y="338"/>
                  </a:lnTo>
                  <a:lnTo>
                    <a:pt x="569" y="347"/>
                  </a:lnTo>
                  <a:lnTo>
                    <a:pt x="600" y="356"/>
                  </a:lnTo>
                  <a:lnTo>
                    <a:pt x="631" y="365"/>
                  </a:lnTo>
                  <a:lnTo>
                    <a:pt x="661" y="365"/>
                  </a:lnTo>
                  <a:lnTo>
                    <a:pt x="694" y="365"/>
                  </a:lnTo>
                  <a:lnTo>
                    <a:pt x="724" y="365"/>
                  </a:lnTo>
                  <a:lnTo>
                    <a:pt x="765" y="365"/>
                  </a:lnTo>
                  <a:lnTo>
                    <a:pt x="796" y="365"/>
                  </a:lnTo>
                  <a:lnTo>
                    <a:pt x="826" y="365"/>
                  </a:lnTo>
                  <a:lnTo>
                    <a:pt x="857" y="365"/>
                  </a:lnTo>
                  <a:lnTo>
                    <a:pt x="889" y="365"/>
                  </a:lnTo>
                  <a:lnTo>
                    <a:pt x="920" y="365"/>
                  </a:lnTo>
                  <a:lnTo>
                    <a:pt x="951" y="356"/>
                  </a:lnTo>
                  <a:lnTo>
                    <a:pt x="981" y="356"/>
                  </a:lnTo>
                  <a:lnTo>
                    <a:pt x="1011" y="347"/>
                  </a:lnTo>
                  <a:lnTo>
                    <a:pt x="1044" y="347"/>
                  </a:lnTo>
                  <a:lnTo>
                    <a:pt x="1074" y="338"/>
                  </a:lnTo>
                  <a:lnTo>
                    <a:pt x="1106" y="329"/>
                  </a:lnTo>
                  <a:lnTo>
                    <a:pt x="1136" y="308"/>
                  </a:lnTo>
                  <a:lnTo>
                    <a:pt x="1166" y="291"/>
                  </a:lnTo>
                  <a:lnTo>
                    <a:pt x="1199" y="263"/>
                  </a:lnTo>
                  <a:lnTo>
                    <a:pt x="1229" y="235"/>
                  </a:lnTo>
                  <a:lnTo>
                    <a:pt x="1261" y="208"/>
                  </a:lnTo>
                  <a:lnTo>
                    <a:pt x="1291" y="190"/>
                  </a:lnTo>
                  <a:lnTo>
                    <a:pt x="1321" y="170"/>
                  </a:lnTo>
                  <a:lnTo>
                    <a:pt x="1354" y="152"/>
                  </a:lnTo>
                  <a:lnTo>
                    <a:pt x="1384" y="142"/>
                  </a:lnTo>
                </a:path>
              </a:pathLst>
            </a:custGeom>
            <a:noFill/>
            <a:ln cap="rnd"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53" name=""/>
          <p:cNvSpPr/>
          <p:nvPr/>
        </p:nvSpPr>
        <p:spPr>
          <a:xfrm>
            <a:off x="1580400" y="3324240"/>
            <a:ext cx="2667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977560" y="4765680"/>
            <a:ext cx="2667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2753640" y="5518080"/>
            <a:ext cx="2667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1220040" y="3578400"/>
            <a:ext cx="2667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1755000" y="5964120"/>
            <a:ext cx="2667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623160" y="3908520"/>
            <a:ext cx="2667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859680" y="4154400"/>
            <a:ext cx="2667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657080" y="4876920"/>
            <a:ext cx="41004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200" spc="-1" strike="noStrike">
                <a:solidFill>
                  <a:srgbClr val="fafd00"/>
                </a:solidFill>
                <a:latin typeface="Times New Roman"/>
              </a:rPr>
              <a:t>.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1252440" y="4800600"/>
            <a:ext cx="41004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200" spc="-1" strike="noStrike">
                <a:solidFill>
                  <a:srgbClr val="fafd00"/>
                </a:solidFill>
                <a:latin typeface="Times New Roman"/>
              </a:rPr>
              <a:t>.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3979800" y="4487760"/>
            <a:ext cx="1224000" cy="1011240"/>
          </a:xfrm>
          <a:prstGeom prst="rightArrow">
            <a:avLst>
              <a:gd name="adj1" fmla="val 50000"/>
              <a:gd name="adj2" fmla="val 60525"/>
            </a:avLst>
          </a:prstGeom>
          <a:solidFill>
            <a:srgbClr val="a3c14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687400" y="3467160"/>
            <a:ext cx="41004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200" spc="-1" strike="noStrike">
                <a:solidFill>
                  <a:srgbClr val="fafd00"/>
                </a:solidFill>
                <a:latin typeface="Times New Roman"/>
              </a:rPr>
              <a:t>.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374120" y="4449600"/>
            <a:ext cx="2667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65" name=""/>
          <p:cNvGrpSpPr/>
          <p:nvPr/>
        </p:nvGrpSpPr>
        <p:grpSpPr>
          <a:xfrm>
            <a:off x="5587920" y="3467160"/>
            <a:ext cx="2925720" cy="2798640"/>
            <a:chOff x="5587920" y="3467160"/>
            <a:chExt cx="2925720" cy="2798640"/>
          </a:xfrm>
        </p:grpSpPr>
        <p:sp>
          <p:nvSpPr>
            <p:cNvPr id="466" name=""/>
            <p:cNvSpPr/>
            <p:nvPr/>
          </p:nvSpPr>
          <p:spPr>
            <a:xfrm>
              <a:off x="5587920" y="3467160"/>
              <a:ext cx="290844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5587920" y="3467160"/>
              <a:ext cx="2908440" cy="172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587920" y="3467160"/>
              <a:ext cx="1800" cy="278136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587920" y="3467160"/>
              <a:ext cx="17640" cy="27813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5643720" y="3484440"/>
              <a:ext cx="11361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900" spc="-1" strike="noStrike">
                  <a:solidFill>
                    <a:srgbClr val="ffffff"/>
                  </a:solidFill>
                  <a:latin typeface="Arial"/>
                </a:rPr>
                <a:t>CURVAS#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7088400" y="3484440"/>
              <a:ext cx="13237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900" spc="-1" strike="noStrike">
                  <a:solidFill>
                    <a:srgbClr val="ffffff"/>
                  </a:solidFill>
                  <a:latin typeface="Arial"/>
                </a:rPr>
                <a:t>CURVAS-ID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6256440" y="379260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9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7647480" y="3792600"/>
              <a:ext cx="2689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9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6256440" y="409896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9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7647480" y="4098960"/>
              <a:ext cx="2689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9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6256440" y="440676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9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7647480" y="4406760"/>
              <a:ext cx="2689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9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6256440" y="471312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9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7647480" y="4713120"/>
              <a:ext cx="2689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900" spc="-1" strike="noStrike">
                  <a:solidFill>
                    <a:srgbClr val="ffffff"/>
                  </a:solidFill>
                  <a:latin typeface="Arial"/>
                </a:rPr>
                <a:t>75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6256440" y="501984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9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7647480" y="5019840"/>
              <a:ext cx="2689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900" spc="-1" strike="noStrike">
                  <a:solidFill>
                    <a:srgbClr val="ffffff"/>
                  </a:solidFill>
                  <a:latin typeface="Arial"/>
                </a:rPr>
                <a:t>75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6256440" y="532764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9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7576200" y="5327640"/>
              <a:ext cx="4032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9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6256440" y="563400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9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7576200" y="5634000"/>
              <a:ext cx="4032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900" spc="-1" strike="noStrike">
                  <a:solidFill>
                    <a:srgbClr val="ffffff"/>
                  </a:solidFill>
                  <a:latin typeface="Arial"/>
                </a:rPr>
                <a:t>125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6256440" y="594036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900" spc="-1" strike="noStrike">
                  <a:solidFill>
                    <a:srgbClr val="ffffff"/>
                  </a:solidFill>
                  <a:latin typeface="Arial"/>
                </a:rPr>
                <a:t>8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7576200" y="5940360"/>
              <a:ext cx="4032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900" spc="-1" strike="noStrike">
                  <a:solidFill>
                    <a:srgbClr val="ffffff"/>
                  </a:solidFill>
                  <a:latin typeface="Arial"/>
                </a:rPr>
                <a:t>150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587920" y="3467160"/>
              <a:ext cx="17640" cy="14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7032600" y="3467160"/>
              <a:ext cx="19080" cy="14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5605560" y="3467160"/>
              <a:ext cx="28908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5605560" y="3467160"/>
              <a:ext cx="2890800" cy="17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8478720" y="3467160"/>
              <a:ext cx="17640" cy="14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605560" y="3773520"/>
              <a:ext cx="28908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5605560" y="3773520"/>
              <a:ext cx="289080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605560" y="4081320"/>
              <a:ext cx="28908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5605560" y="4081320"/>
              <a:ext cx="2890800" cy="17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5605560" y="4387680"/>
              <a:ext cx="28908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5605560" y="4387680"/>
              <a:ext cx="289080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5605560" y="4695840"/>
              <a:ext cx="28908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5605560" y="4695840"/>
              <a:ext cx="2890800" cy="17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5605560" y="5002200"/>
              <a:ext cx="28908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5605560" y="5002200"/>
              <a:ext cx="2890800" cy="17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5605560" y="5308560"/>
              <a:ext cx="28908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5605560" y="5308560"/>
              <a:ext cx="289080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5605560" y="5616720"/>
              <a:ext cx="28908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5605560" y="5616720"/>
              <a:ext cx="2890800" cy="17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5605560" y="5923080"/>
              <a:ext cx="28908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5605560" y="5923080"/>
              <a:ext cx="2890800" cy="17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5587920" y="3467160"/>
              <a:ext cx="1800" cy="2781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5587920" y="3467160"/>
              <a:ext cx="17640" cy="2781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7032600" y="3484440"/>
              <a:ext cx="1440" cy="2764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7032600" y="3484440"/>
              <a:ext cx="19080" cy="2764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5605560" y="6229440"/>
              <a:ext cx="28908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5605560" y="6229440"/>
              <a:ext cx="289080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8478720" y="3484440"/>
              <a:ext cx="1800" cy="2764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8478720" y="3484440"/>
              <a:ext cx="17640" cy="2764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5587920" y="6248520"/>
              <a:ext cx="180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5587920" y="6248520"/>
              <a:ext cx="17640" cy="172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7032600" y="6248520"/>
              <a:ext cx="144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7032600" y="6248520"/>
              <a:ext cx="19080" cy="172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8478720" y="6248520"/>
              <a:ext cx="180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8478720" y="6248520"/>
              <a:ext cx="17640" cy="172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8496360" y="3467160"/>
              <a:ext cx="144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8496360" y="3467160"/>
              <a:ext cx="17280" cy="172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8496360" y="3773520"/>
              <a:ext cx="144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8496360" y="3773520"/>
              <a:ext cx="17280" cy="190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8496360" y="4081320"/>
              <a:ext cx="144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8496360" y="4081320"/>
              <a:ext cx="17280" cy="176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8496360" y="4387680"/>
              <a:ext cx="144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8496360" y="4387680"/>
              <a:ext cx="17280" cy="190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8496360" y="4695840"/>
              <a:ext cx="144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8496360" y="4695840"/>
              <a:ext cx="17280" cy="172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8496360" y="5002200"/>
              <a:ext cx="144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8496360" y="5002200"/>
              <a:ext cx="17280" cy="176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8496360" y="5308560"/>
              <a:ext cx="144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8496360" y="5308560"/>
              <a:ext cx="17280" cy="190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8496360" y="5616720"/>
              <a:ext cx="144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8496360" y="5616720"/>
              <a:ext cx="17280" cy="172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8496360" y="5923080"/>
              <a:ext cx="144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8496360" y="5923080"/>
              <a:ext cx="17280" cy="172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8496360" y="6229440"/>
              <a:ext cx="144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8496360" y="6229440"/>
              <a:ext cx="17280" cy="190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blinds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"/>
          <p:cNvSpPr/>
          <p:nvPr/>
        </p:nvSpPr>
        <p:spPr>
          <a:xfrm>
            <a:off x="5533920" y="2476440"/>
            <a:ext cx="3248280" cy="3038400"/>
          </a:xfrm>
          <a:prstGeom prst="rect">
            <a:avLst/>
          </a:prstGeom>
          <a:solidFill>
            <a:srgbClr val="0066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5b5d6b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Digitalización de Polígono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86080" cy="4498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os polígonos se registran mediante un proceso doble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 digitalizan sus bordes, como si fueran línea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eben finalizar en el mismo nodo en que comenzaron (Tolerancias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6" name=""/>
          <p:cNvSpPr/>
          <p:nvPr/>
        </p:nvSpPr>
        <p:spPr>
          <a:xfrm>
            <a:off x="5821200" y="2679840"/>
            <a:ext cx="2313000" cy="2449440"/>
          </a:xfrm>
          <a:custGeom>
            <a:avLst/>
            <a:gdLst/>
            <a:ahLst/>
            <a:rect l="l" t="t" r="r" b="b"/>
            <a:pathLst>
              <a:path w="1457" h="1543">
                <a:moveTo>
                  <a:pt x="574" y="31"/>
                </a:moveTo>
                <a:lnTo>
                  <a:pt x="292" y="102"/>
                </a:lnTo>
                <a:lnTo>
                  <a:pt x="118" y="180"/>
                </a:lnTo>
                <a:lnTo>
                  <a:pt x="62" y="259"/>
                </a:lnTo>
                <a:lnTo>
                  <a:pt x="23" y="323"/>
                </a:lnTo>
                <a:lnTo>
                  <a:pt x="8" y="377"/>
                </a:lnTo>
                <a:lnTo>
                  <a:pt x="0" y="433"/>
                </a:lnTo>
                <a:lnTo>
                  <a:pt x="8" y="495"/>
                </a:lnTo>
                <a:lnTo>
                  <a:pt x="31" y="567"/>
                </a:lnTo>
                <a:lnTo>
                  <a:pt x="56" y="621"/>
                </a:lnTo>
                <a:lnTo>
                  <a:pt x="79" y="669"/>
                </a:lnTo>
                <a:lnTo>
                  <a:pt x="102" y="724"/>
                </a:lnTo>
                <a:lnTo>
                  <a:pt x="134" y="779"/>
                </a:lnTo>
                <a:lnTo>
                  <a:pt x="165" y="826"/>
                </a:lnTo>
                <a:lnTo>
                  <a:pt x="174" y="857"/>
                </a:lnTo>
                <a:lnTo>
                  <a:pt x="180" y="888"/>
                </a:lnTo>
                <a:lnTo>
                  <a:pt x="188" y="928"/>
                </a:lnTo>
                <a:lnTo>
                  <a:pt x="205" y="967"/>
                </a:lnTo>
                <a:lnTo>
                  <a:pt x="220" y="1000"/>
                </a:lnTo>
                <a:lnTo>
                  <a:pt x="228" y="1023"/>
                </a:lnTo>
                <a:lnTo>
                  <a:pt x="252" y="1054"/>
                </a:lnTo>
                <a:lnTo>
                  <a:pt x="292" y="1102"/>
                </a:lnTo>
                <a:lnTo>
                  <a:pt x="331" y="1141"/>
                </a:lnTo>
                <a:lnTo>
                  <a:pt x="346" y="1164"/>
                </a:lnTo>
                <a:lnTo>
                  <a:pt x="354" y="1188"/>
                </a:lnTo>
                <a:lnTo>
                  <a:pt x="370" y="1211"/>
                </a:lnTo>
                <a:lnTo>
                  <a:pt x="402" y="1251"/>
                </a:lnTo>
                <a:lnTo>
                  <a:pt x="441" y="1282"/>
                </a:lnTo>
                <a:lnTo>
                  <a:pt x="464" y="1298"/>
                </a:lnTo>
                <a:lnTo>
                  <a:pt x="480" y="1321"/>
                </a:lnTo>
                <a:lnTo>
                  <a:pt x="528" y="1354"/>
                </a:lnTo>
                <a:lnTo>
                  <a:pt x="574" y="1385"/>
                </a:lnTo>
                <a:lnTo>
                  <a:pt x="598" y="1400"/>
                </a:lnTo>
                <a:lnTo>
                  <a:pt x="621" y="1416"/>
                </a:lnTo>
                <a:lnTo>
                  <a:pt x="638" y="1439"/>
                </a:lnTo>
                <a:lnTo>
                  <a:pt x="677" y="1464"/>
                </a:lnTo>
                <a:lnTo>
                  <a:pt x="716" y="1479"/>
                </a:lnTo>
                <a:lnTo>
                  <a:pt x="739" y="1495"/>
                </a:lnTo>
                <a:lnTo>
                  <a:pt x="764" y="1511"/>
                </a:lnTo>
                <a:lnTo>
                  <a:pt x="810" y="1518"/>
                </a:lnTo>
                <a:lnTo>
                  <a:pt x="843" y="1526"/>
                </a:lnTo>
                <a:lnTo>
                  <a:pt x="888" y="1534"/>
                </a:lnTo>
                <a:lnTo>
                  <a:pt x="921" y="1534"/>
                </a:lnTo>
                <a:lnTo>
                  <a:pt x="961" y="1542"/>
                </a:lnTo>
                <a:lnTo>
                  <a:pt x="1000" y="1542"/>
                </a:lnTo>
                <a:lnTo>
                  <a:pt x="1046" y="1542"/>
                </a:lnTo>
                <a:lnTo>
                  <a:pt x="1079" y="1542"/>
                </a:lnTo>
                <a:lnTo>
                  <a:pt x="1110" y="1542"/>
                </a:lnTo>
                <a:lnTo>
                  <a:pt x="1141" y="1542"/>
                </a:lnTo>
                <a:lnTo>
                  <a:pt x="1188" y="1534"/>
                </a:lnTo>
                <a:lnTo>
                  <a:pt x="1228" y="1526"/>
                </a:lnTo>
                <a:lnTo>
                  <a:pt x="1259" y="1526"/>
                </a:lnTo>
                <a:lnTo>
                  <a:pt x="1298" y="1495"/>
                </a:lnTo>
                <a:lnTo>
                  <a:pt x="1329" y="1472"/>
                </a:lnTo>
                <a:lnTo>
                  <a:pt x="1354" y="1447"/>
                </a:lnTo>
                <a:lnTo>
                  <a:pt x="1377" y="1408"/>
                </a:lnTo>
                <a:lnTo>
                  <a:pt x="1385" y="1377"/>
                </a:lnTo>
                <a:lnTo>
                  <a:pt x="1400" y="1346"/>
                </a:lnTo>
                <a:lnTo>
                  <a:pt x="1416" y="1306"/>
                </a:lnTo>
                <a:lnTo>
                  <a:pt x="1416" y="1259"/>
                </a:lnTo>
                <a:lnTo>
                  <a:pt x="1424" y="1211"/>
                </a:lnTo>
                <a:lnTo>
                  <a:pt x="1424" y="1149"/>
                </a:lnTo>
                <a:lnTo>
                  <a:pt x="1433" y="1102"/>
                </a:lnTo>
                <a:lnTo>
                  <a:pt x="1433" y="1070"/>
                </a:lnTo>
                <a:lnTo>
                  <a:pt x="1433" y="1039"/>
                </a:lnTo>
                <a:lnTo>
                  <a:pt x="1433" y="992"/>
                </a:lnTo>
                <a:lnTo>
                  <a:pt x="1433" y="952"/>
                </a:lnTo>
                <a:lnTo>
                  <a:pt x="1433" y="913"/>
                </a:lnTo>
                <a:lnTo>
                  <a:pt x="1424" y="874"/>
                </a:lnTo>
                <a:lnTo>
                  <a:pt x="1424" y="834"/>
                </a:lnTo>
                <a:lnTo>
                  <a:pt x="1424" y="795"/>
                </a:lnTo>
                <a:lnTo>
                  <a:pt x="1424" y="756"/>
                </a:lnTo>
                <a:lnTo>
                  <a:pt x="1424" y="724"/>
                </a:lnTo>
                <a:lnTo>
                  <a:pt x="1424" y="685"/>
                </a:lnTo>
                <a:lnTo>
                  <a:pt x="1433" y="646"/>
                </a:lnTo>
                <a:lnTo>
                  <a:pt x="1439" y="613"/>
                </a:lnTo>
                <a:lnTo>
                  <a:pt x="1439" y="582"/>
                </a:lnTo>
                <a:lnTo>
                  <a:pt x="1447" y="551"/>
                </a:lnTo>
                <a:lnTo>
                  <a:pt x="1447" y="520"/>
                </a:lnTo>
                <a:lnTo>
                  <a:pt x="1456" y="488"/>
                </a:lnTo>
                <a:lnTo>
                  <a:pt x="1456" y="456"/>
                </a:lnTo>
                <a:lnTo>
                  <a:pt x="1456" y="416"/>
                </a:lnTo>
                <a:lnTo>
                  <a:pt x="1447" y="393"/>
                </a:lnTo>
                <a:lnTo>
                  <a:pt x="1447" y="370"/>
                </a:lnTo>
                <a:lnTo>
                  <a:pt x="1433" y="346"/>
                </a:lnTo>
                <a:lnTo>
                  <a:pt x="1424" y="323"/>
                </a:lnTo>
                <a:lnTo>
                  <a:pt x="1408" y="298"/>
                </a:lnTo>
                <a:lnTo>
                  <a:pt x="1393" y="267"/>
                </a:lnTo>
                <a:lnTo>
                  <a:pt x="1369" y="236"/>
                </a:lnTo>
                <a:lnTo>
                  <a:pt x="1354" y="213"/>
                </a:lnTo>
                <a:lnTo>
                  <a:pt x="1329" y="188"/>
                </a:lnTo>
                <a:lnTo>
                  <a:pt x="1306" y="157"/>
                </a:lnTo>
                <a:lnTo>
                  <a:pt x="1267" y="126"/>
                </a:lnTo>
                <a:lnTo>
                  <a:pt x="1251" y="102"/>
                </a:lnTo>
                <a:lnTo>
                  <a:pt x="1228" y="79"/>
                </a:lnTo>
                <a:lnTo>
                  <a:pt x="1197" y="56"/>
                </a:lnTo>
                <a:lnTo>
                  <a:pt x="1157" y="39"/>
                </a:lnTo>
                <a:lnTo>
                  <a:pt x="1124" y="31"/>
                </a:lnTo>
                <a:lnTo>
                  <a:pt x="1085" y="16"/>
                </a:lnTo>
                <a:lnTo>
                  <a:pt x="1054" y="16"/>
                </a:lnTo>
                <a:lnTo>
                  <a:pt x="1006" y="0"/>
                </a:lnTo>
                <a:lnTo>
                  <a:pt x="967" y="0"/>
                </a:lnTo>
                <a:lnTo>
                  <a:pt x="928" y="0"/>
                </a:lnTo>
                <a:lnTo>
                  <a:pt x="905" y="0"/>
                </a:lnTo>
                <a:lnTo>
                  <a:pt x="882" y="0"/>
                </a:lnTo>
                <a:lnTo>
                  <a:pt x="849" y="0"/>
                </a:lnTo>
                <a:lnTo>
                  <a:pt x="826" y="0"/>
                </a:lnTo>
                <a:lnTo>
                  <a:pt x="803" y="0"/>
                </a:lnTo>
                <a:lnTo>
                  <a:pt x="770" y="0"/>
                </a:lnTo>
                <a:lnTo>
                  <a:pt x="747" y="0"/>
                </a:lnTo>
                <a:lnTo>
                  <a:pt x="716" y="16"/>
                </a:lnTo>
                <a:lnTo>
                  <a:pt x="692" y="23"/>
                </a:lnTo>
                <a:lnTo>
                  <a:pt x="724" y="16"/>
                </a:lnTo>
                <a:lnTo>
                  <a:pt x="685" y="16"/>
                </a:lnTo>
                <a:lnTo>
                  <a:pt x="638" y="16"/>
                </a:lnTo>
                <a:lnTo>
                  <a:pt x="574" y="8"/>
                </a:lnTo>
                <a:lnTo>
                  <a:pt x="528" y="8"/>
                </a:lnTo>
                <a:lnTo>
                  <a:pt x="534" y="31"/>
                </a:lnTo>
                <a:lnTo>
                  <a:pt x="559" y="47"/>
                </a:lnTo>
                <a:lnTo>
                  <a:pt x="582" y="47"/>
                </a:lnTo>
                <a:lnTo>
                  <a:pt x="606" y="31"/>
                </a:lnTo>
                <a:lnTo>
                  <a:pt x="629" y="23"/>
                </a:lnTo>
                <a:lnTo>
                  <a:pt x="606" y="31"/>
                </a:lnTo>
                <a:lnTo>
                  <a:pt x="582" y="39"/>
                </a:lnTo>
                <a:lnTo>
                  <a:pt x="574" y="31"/>
                </a:lnTo>
              </a:path>
            </a:pathLst>
          </a:custGeom>
          <a:noFill/>
          <a:ln cap="rnd"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6486480" y="1654200"/>
            <a:ext cx="460440" cy="14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800" spc="-1" strike="noStrike">
                <a:solidFill>
                  <a:srgbClr val="fafd00"/>
                </a:solidFill>
                <a:latin typeface="Times New Roman"/>
              </a:rPr>
              <a:t>.</a:t>
            </a:r>
            <a:endParaRPr b="0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"/>
          <p:cNvSpPr/>
          <p:nvPr/>
        </p:nvSpPr>
        <p:spPr>
          <a:xfrm>
            <a:off x="5533920" y="2462040"/>
            <a:ext cx="3248280" cy="3038760"/>
          </a:xfrm>
          <a:prstGeom prst="rect">
            <a:avLst/>
          </a:prstGeom>
          <a:solidFill>
            <a:srgbClr val="0066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Digitalización de Polígono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0" name=""/>
          <p:cNvSpPr/>
          <p:nvPr/>
        </p:nvSpPr>
        <p:spPr>
          <a:xfrm>
            <a:off x="5821200" y="2679840"/>
            <a:ext cx="2313000" cy="2449440"/>
          </a:xfrm>
          <a:custGeom>
            <a:avLst/>
            <a:gdLst/>
            <a:ahLst/>
            <a:rect l="l" t="t" r="r" b="b"/>
            <a:pathLst>
              <a:path w="1457" h="1543">
                <a:moveTo>
                  <a:pt x="574" y="31"/>
                </a:moveTo>
                <a:lnTo>
                  <a:pt x="292" y="102"/>
                </a:lnTo>
                <a:lnTo>
                  <a:pt x="118" y="180"/>
                </a:lnTo>
                <a:lnTo>
                  <a:pt x="62" y="259"/>
                </a:lnTo>
                <a:lnTo>
                  <a:pt x="23" y="323"/>
                </a:lnTo>
                <a:lnTo>
                  <a:pt x="8" y="377"/>
                </a:lnTo>
                <a:lnTo>
                  <a:pt x="0" y="433"/>
                </a:lnTo>
                <a:lnTo>
                  <a:pt x="8" y="495"/>
                </a:lnTo>
                <a:lnTo>
                  <a:pt x="31" y="567"/>
                </a:lnTo>
                <a:lnTo>
                  <a:pt x="56" y="621"/>
                </a:lnTo>
                <a:lnTo>
                  <a:pt x="79" y="669"/>
                </a:lnTo>
                <a:lnTo>
                  <a:pt x="102" y="724"/>
                </a:lnTo>
                <a:lnTo>
                  <a:pt x="134" y="779"/>
                </a:lnTo>
                <a:lnTo>
                  <a:pt x="165" y="826"/>
                </a:lnTo>
                <a:lnTo>
                  <a:pt x="174" y="857"/>
                </a:lnTo>
                <a:lnTo>
                  <a:pt x="180" y="888"/>
                </a:lnTo>
                <a:lnTo>
                  <a:pt x="188" y="928"/>
                </a:lnTo>
                <a:lnTo>
                  <a:pt x="205" y="967"/>
                </a:lnTo>
                <a:lnTo>
                  <a:pt x="220" y="1000"/>
                </a:lnTo>
                <a:lnTo>
                  <a:pt x="228" y="1023"/>
                </a:lnTo>
                <a:lnTo>
                  <a:pt x="252" y="1054"/>
                </a:lnTo>
                <a:lnTo>
                  <a:pt x="292" y="1102"/>
                </a:lnTo>
                <a:lnTo>
                  <a:pt x="331" y="1141"/>
                </a:lnTo>
                <a:lnTo>
                  <a:pt x="346" y="1164"/>
                </a:lnTo>
                <a:lnTo>
                  <a:pt x="354" y="1188"/>
                </a:lnTo>
                <a:lnTo>
                  <a:pt x="370" y="1211"/>
                </a:lnTo>
                <a:lnTo>
                  <a:pt x="402" y="1251"/>
                </a:lnTo>
                <a:lnTo>
                  <a:pt x="441" y="1282"/>
                </a:lnTo>
                <a:lnTo>
                  <a:pt x="464" y="1298"/>
                </a:lnTo>
                <a:lnTo>
                  <a:pt x="480" y="1321"/>
                </a:lnTo>
                <a:lnTo>
                  <a:pt x="528" y="1354"/>
                </a:lnTo>
                <a:lnTo>
                  <a:pt x="574" y="1385"/>
                </a:lnTo>
                <a:lnTo>
                  <a:pt x="598" y="1400"/>
                </a:lnTo>
                <a:lnTo>
                  <a:pt x="621" y="1416"/>
                </a:lnTo>
                <a:lnTo>
                  <a:pt x="638" y="1439"/>
                </a:lnTo>
                <a:lnTo>
                  <a:pt x="677" y="1464"/>
                </a:lnTo>
                <a:lnTo>
                  <a:pt x="716" y="1479"/>
                </a:lnTo>
                <a:lnTo>
                  <a:pt x="739" y="1495"/>
                </a:lnTo>
                <a:lnTo>
                  <a:pt x="764" y="1511"/>
                </a:lnTo>
                <a:lnTo>
                  <a:pt x="810" y="1518"/>
                </a:lnTo>
                <a:lnTo>
                  <a:pt x="843" y="1526"/>
                </a:lnTo>
                <a:lnTo>
                  <a:pt x="888" y="1534"/>
                </a:lnTo>
                <a:lnTo>
                  <a:pt x="921" y="1534"/>
                </a:lnTo>
                <a:lnTo>
                  <a:pt x="961" y="1542"/>
                </a:lnTo>
                <a:lnTo>
                  <a:pt x="1000" y="1542"/>
                </a:lnTo>
                <a:lnTo>
                  <a:pt x="1046" y="1542"/>
                </a:lnTo>
                <a:lnTo>
                  <a:pt x="1079" y="1542"/>
                </a:lnTo>
                <a:lnTo>
                  <a:pt x="1110" y="1542"/>
                </a:lnTo>
                <a:lnTo>
                  <a:pt x="1141" y="1542"/>
                </a:lnTo>
                <a:lnTo>
                  <a:pt x="1188" y="1534"/>
                </a:lnTo>
                <a:lnTo>
                  <a:pt x="1228" y="1526"/>
                </a:lnTo>
                <a:lnTo>
                  <a:pt x="1259" y="1526"/>
                </a:lnTo>
                <a:lnTo>
                  <a:pt x="1298" y="1495"/>
                </a:lnTo>
                <a:lnTo>
                  <a:pt x="1329" y="1472"/>
                </a:lnTo>
                <a:lnTo>
                  <a:pt x="1354" y="1447"/>
                </a:lnTo>
                <a:lnTo>
                  <a:pt x="1377" y="1408"/>
                </a:lnTo>
                <a:lnTo>
                  <a:pt x="1385" y="1377"/>
                </a:lnTo>
                <a:lnTo>
                  <a:pt x="1400" y="1346"/>
                </a:lnTo>
                <a:lnTo>
                  <a:pt x="1416" y="1306"/>
                </a:lnTo>
                <a:lnTo>
                  <a:pt x="1416" y="1259"/>
                </a:lnTo>
                <a:lnTo>
                  <a:pt x="1424" y="1211"/>
                </a:lnTo>
                <a:lnTo>
                  <a:pt x="1424" y="1149"/>
                </a:lnTo>
                <a:lnTo>
                  <a:pt x="1433" y="1102"/>
                </a:lnTo>
                <a:lnTo>
                  <a:pt x="1433" y="1070"/>
                </a:lnTo>
                <a:lnTo>
                  <a:pt x="1433" y="1039"/>
                </a:lnTo>
                <a:lnTo>
                  <a:pt x="1433" y="992"/>
                </a:lnTo>
                <a:lnTo>
                  <a:pt x="1433" y="952"/>
                </a:lnTo>
                <a:lnTo>
                  <a:pt x="1433" y="913"/>
                </a:lnTo>
                <a:lnTo>
                  <a:pt x="1424" y="874"/>
                </a:lnTo>
                <a:lnTo>
                  <a:pt x="1424" y="834"/>
                </a:lnTo>
                <a:lnTo>
                  <a:pt x="1424" y="795"/>
                </a:lnTo>
                <a:lnTo>
                  <a:pt x="1424" y="756"/>
                </a:lnTo>
                <a:lnTo>
                  <a:pt x="1424" y="724"/>
                </a:lnTo>
                <a:lnTo>
                  <a:pt x="1424" y="685"/>
                </a:lnTo>
                <a:lnTo>
                  <a:pt x="1433" y="646"/>
                </a:lnTo>
                <a:lnTo>
                  <a:pt x="1439" y="613"/>
                </a:lnTo>
                <a:lnTo>
                  <a:pt x="1439" y="582"/>
                </a:lnTo>
                <a:lnTo>
                  <a:pt x="1447" y="551"/>
                </a:lnTo>
                <a:lnTo>
                  <a:pt x="1447" y="520"/>
                </a:lnTo>
                <a:lnTo>
                  <a:pt x="1456" y="488"/>
                </a:lnTo>
                <a:lnTo>
                  <a:pt x="1456" y="456"/>
                </a:lnTo>
                <a:lnTo>
                  <a:pt x="1456" y="416"/>
                </a:lnTo>
                <a:lnTo>
                  <a:pt x="1447" y="393"/>
                </a:lnTo>
                <a:lnTo>
                  <a:pt x="1447" y="370"/>
                </a:lnTo>
                <a:lnTo>
                  <a:pt x="1433" y="346"/>
                </a:lnTo>
                <a:lnTo>
                  <a:pt x="1424" y="323"/>
                </a:lnTo>
                <a:lnTo>
                  <a:pt x="1408" y="298"/>
                </a:lnTo>
                <a:lnTo>
                  <a:pt x="1393" y="267"/>
                </a:lnTo>
                <a:lnTo>
                  <a:pt x="1369" y="236"/>
                </a:lnTo>
                <a:lnTo>
                  <a:pt x="1354" y="213"/>
                </a:lnTo>
                <a:lnTo>
                  <a:pt x="1329" y="188"/>
                </a:lnTo>
                <a:lnTo>
                  <a:pt x="1306" y="157"/>
                </a:lnTo>
                <a:lnTo>
                  <a:pt x="1267" y="126"/>
                </a:lnTo>
                <a:lnTo>
                  <a:pt x="1251" y="102"/>
                </a:lnTo>
                <a:lnTo>
                  <a:pt x="1228" y="79"/>
                </a:lnTo>
                <a:lnTo>
                  <a:pt x="1197" y="56"/>
                </a:lnTo>
                <a:lnTo>
                  <a:pt x="1157" y="39"/>
                </a:lnTo>
                <a:lnTo>
                  <a:pt x="1124" y="31"/>
                </a:lnTo>
                <a:lnTo>
                  <a:pt x="1085" y="16"/>
                </a:lnTo>
                <a:lnTo>
                  <a:pt x="1054" y="16"/>
                </a:lnTo>
                <a:lnTo>
                  <a:pt x="1006" y="0"/>
                </a:lnTo>
                <a:lnTo>
                  <a:pt x="967" y="0"/>
                </a:lnTo>
                <a:lnTo>
                  <a:pt x="928" y="0"/>
                </a:lnTo>
                <a:lnTo>
                  <a:pt x="905" y="0"/>
                </a:lnTo>
                <a:lnTo>
                  <a:pt x="882" y="0"/>
                </a:lnTo>
                <a:lnTo>
                  <a:pt x="849" y="0"/>
                </a:lnTo>
                <a:lnTo>
                  <a:pt x="826" y="0"/>
                </a:lnTo>
                <a:lnTo>
                  <a:pt x="803" y="0"/>
                </a:lnTo>
                <a:lnTo>
                  <a:pt x="770" y="0"/>
                </a:lnTo>
                <a:lnTo>
                  <a:pt x="747" y="0"/>
                </a:lnTo>
                <a:lnTo>
                  <a:pt x="716" y="16"/>
                </a:lnTo>
                <a:lnTo>
                  <a:pt x="692" y="23"/>
                </a:lnTo>
                <a:lnTo>
                  <a:pt x="724" y="16"/>
                </a:lnTo>
                <a:lnTo>
                  <a:pt x="685" y="16"/>
                </a:lnTo>
                <a:lnTo>
                  <a:pt x="638" y="16"/>
                </a:lnTo>
                <a:lnTo>
                  <a:pt x="574" y="8"/>
                </a:lnTo>
                <a:lnTo>
                  <a:pt x="528" y="8"/>
                </a:lnTo>
                <a:lnTo>
                  <a:pt x="534" y="31"/>
                </a:lnTo>
                <a:lnTo>
                  <a:pt x="559" y="47"/>
                </a:lnTo>
                <a:lnTo>
                  <a:pt x="582" y="47"/>
                </a:lnTo>
                <a:lnTo>
                  <a:pt x="606" y="31"/>
                </a:lnTo>
                <a:lnTo>
                  <a:pt x="629" y="23"/>
                </a:lnTo>
                <a:lnTo>
                  <a:pt x="606" y="31"/>
                </a:lnTo>
                <a:lnTo>
                  <a:pt x="582" y="39"/>
                </a:lnTo>
                <a:lnTo>
                  <a:pt x="574" y="31"/>
                </a:lnTo>
              </a:path>
            </a:pathLst>
          </a:custGeom>
          <a:noFill/>
          <a:ln cap="rnd"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6854400" y="3757680"/>
            <a:ext cx="355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6891840" y="3624120"/>
            <a:ext cx="5608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2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129528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Los polígonos se registran mediante un proceso dobl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lnSpc>
                <a:spcPct val="100000"/>
              </a:lnSpc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Se digitalizan sus bordes, como si fueran línea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lnSpc>
                <a:spcPct val="100000"/>
              </a:lnSpc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Para identificarlos, se digitaliza un tipo especial de nodo al que se asigna una etiqueta (Labelpoint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6514920" y="1725480"/>
            <a:ext cx="435960" cy="13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0" spc="-1" strike="noStrike">
                <a:solidFill>
                  <a:srgbClr val="fafd00"/>
                </a:solidFill>
                <a:latin typeface="Times New Roman"/>
              </a:rPr>
              <a:t>.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5b5d6b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Tahoma"/>
              </a:rPr>
              <a:t>Etiquetado o Labeling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 emplea para asignar el identificador único a cada uno de los objetos geográficos digitalizado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ste identificador, está formado por dos parte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n identificador Secuencial (generalmente asignado por el software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n identificador del Usuario (asignado por el usuario a su arbitrio, de acuerdo con el esquema de codificación definido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5b5d6b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La Digitalizació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7" name=""/>
          <p:cNvSpPr/>
          <p:nvPr/>
        </p:nvSpPr>
        <p:spPr>
          <a:xfrm>
            <a:off x="4959360" y="2216160"/>
            <a:ext cx="1434960" cy="1816200"/>
          </a:xfrm>
          <a:prstGeom prst="rect">
            <a:avLst/>
          </a:prstGeom>
          <a:solidFill>
            <a:srgbClr val="5b5d6b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86080" cy="4498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Es una forma de conversión de datos analógicos a digita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Consta de Tres etapas sucesiva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Preparación de Dat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Digitalización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Edición o Corrección de Error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Atributació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389" name=""/>
          <p:cNvGrpSpPr/>
          <p:nvPr/>
        </p:nvGrpSpPr>
        <p:grpSpPr>
          <a:xfrm>
            <a:off x="7289640" y="4533840"/>
            <a:ext cx="1500480" cy="1913040"/>
            <a:chOff x="7289640" y="4533840"/>
            <a:chExt cx="1500480" cy="1913040"/>
          </a:xfrm>
        </p:grpSpPr>
        <p:grpSp>
          <p:nvGrpSpPr>
            <p:cNvPr id="390" name=""/>
            <p:cNvGrpSpPr/>
            <p:nvPr/>
          </p:nvGrpSpPr>
          <p:grpSpPr>
            <a:xfrm>
              <a:off x="7289640" y="4533840"/>
              <a:ext cx="1500480" cy="1913040"/>
              <a:chOff x="7289640" y="4533840"/>
              <a:chExt cx="1500480" cy="1913040"/>
            </a:xfrm>
          </p:grpSpPr>
          <p:sp>
            <p:nvSpPr>
              <p:cNvPr id="391" name=""/>
              <p:cNvSpPr/>
              <p:nvPr/>
            </p:nvSpPr>
            <p:spPr>
              <a:xfrm>
                <a:off x="7483320" y="5834160"/>
                <a:ext cx="1140120" cy="446040"/>
              </a:xfrm>
              <a:custGeom>
                <a:avLst/>
                <a:gdLst/>
                <a:ahLst/>
                <a:rect l="l" t="t" r="r" b="b"/>
                <a:pathLst>
                  <a:path w="718" h="281">
                    <a:moveTo>
                      <a:pt x="110" y="0"/>
                    </a:moveTo>
                    <a:lnTo>
                      <a:pt x="0" y="280"/>
                    </a:lnTo>
                    <a:lnTo>
                      <a:pt x="717" y="280"/>
                    </a:lnTo>
                    <a:lnTo>
                      <a:pt x="594" y="0"/>
                    </a:lnTo>
                    <a:lnTo>
                      <a:pt x="110" y="0"/>
                    </a:lnTo>
                  </a:path>
                </a:pathLst>
              </a:custGeom>
              <a:solidFill>
                <a:srgbClr val="a0a0a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7748640" y="5948280"/>
                <a:ext cx="582480" cy="192240"/>
              </a:xfrm>
              <a:prstGeom prst="ellipse">
                <a:avLst/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7570800" y="5899320"/>
                <a:ext cx="938160" cy="153720"/>
              </a:xfrm>
              <a:prstGeom prst="rect">
                <a:avLst/>
              </a:prstGeom>
              <a:solidFill>
                <a:srgbClr val="a0a0a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7289640" y="4533840"/>
                <a:ext cx="1500480" cy="1406520"/>
              </a:xfrm>
              <a:prstGeom prst="roundRect">
                <a:avLst>
                  <a:gd name="adj" fmla="val 12273"/>
                </a:avLst>
              </a:prstGeom>
              <a:solidFill>
                <a:srgbClr val="c0c0c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7435800" y="6281640"/>
                <a:ext cx="1224000" cy="165240"/>
              </a:xfrm>
              <a:custGeom>
                <a:avLst/>
                <a:gdLst/>
                <a:ahLst/>
                <a:rect l="l" t="t" r="r" b="b"/>
                <a:pathLst>
                  <a:path w="771" h="104">
                    <a:moveTo>
                      <a:pt x="30" y="0"/>
                    </a:moveTo>
                    <a:lnTo>
                      <a:pt x="747" y="0"/>
                    </a:lnTo>
                    <a:lnTo>
                      <a:pt x="770" y="103"/>
                    </a:lnTo>
                    <a:lnTo>
                      <a:pt x="0" y="103"/>
                    </a:lnTo>
                    <a:lnTo>
                      <a:pt x="30" y="0"/>
                    </a:lnTo>
                  </a:path>
                </a:pathLst>
              </a:custGeom>
              <a:solidFill>
                <a:srgbClr val="c0c0c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96" name=""/>
            <p:cNvGrpSpPr/>
            <p:nvPr/>
          </p:nvGrpSpPr>
          <p:grpSpPr>
            <a:xfrm>
              <a:off x="7459560" y="4687920"/>
              <a:ext cx="1160640" cy="1092240"/>
              <a:chOff x="7459560" y="4687920"/>
              <a:chExt cx="1160640" cy="1092240"/>
            </a:xfrm>
          </p:grpSpPr>
          <p:sp>
            <p:nvSpPr>
              <p:cNvPr id="397" name=""/>
              <p:cNvSpPr/>
              <p:nvPr/>
            </p:nvSpPr>
            <p:spPr>
              <a:xfrm>
                <a:off x="7459560" y="4687920"/>
                <a:ext cx="1146240" cy="1073160"/>
              </a:xfrm>
              <a:prstGeom prst="roundRect">
                <a:avLst>
                  <a:gd name="adj" fmla="val 12384"/>
                </a:avLst>
              </a:prstGeom>
              <a:solidFill>
                <a:srgbClr val="c0c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7473960" y="4705200"/>
                <a:ext cx="1146240" cy="1074960"/>
              </a:xfrm>
              <a:prstGeom prst="roundRect">
                <a:avLst>
                  <a:gd name="adj" fmla="val 12366"/>
                </a:avLst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7469280" y="4694400"/>
                <a:ext cx="1144440" cy="1073160"/>
              </a:xfrm>
              <a:prstGeom prst="roundRect">
                <a:avLst>
                  <a:gd name="adj" fmla="val 12384"/>
                </a:avLst>
              </a:prstGeom>
              <a:solidFill>
                <a:srgbClr val="404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00" name=""/>
          <p:cNvSpPr/>
          <p:nvPr/>
        </p:nvSpPr>
        <p:spPr>
          <a:xfrm rot="2280000">
            <a:off x="6407280" y="4044960"/>
            <a:ext cx="901440" cy="596880"/>
          </a:xfrm>
          <a:prstGeom prst="rightArrow">
            <a:avLst>
              <a:gd name="adj1" fmla="val 50000"/>
              <a:gd name="adj2" fmla="val 75519"/>
            </a:avLst>
          </a:prstGeom>
          <a:solidFill>
            <a:srgbClr val="9383b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7772400" y="4800600"/>
            <a:ext cx="687240" cy="763560"/>
          </a:xfrm>
          <a:custGeom>
            <a:avLst/>
            <a:gdLst/>
            <a:ahLst/>
            <a:rect l="l" t="t" r="r" b="b"/>
            <a:pathLst>
              <a:path w="433" h="481">
                <a:moveTo>
                  <a:pt x="0" y="480"/>
                </a:moveTo>
                <a:lnTo>
                  <a:pt x="21" y="480"/>
                </a:lnTo>
                <a:lnTo>
                  <a:pt x="50" y="461"/>
                </a:lnTo>
                <a:lnTo>
                  <a:pt x="77" y="443"/>
                </a:lnTo>
                <a:lnTo>
                  <a:pt x="97" y="437"/>
                </a:lnTo>
                <a:lnTo>
                  <a:pt x="118" y="431"/>
                </a:lnTo>
                <a:lnTo>
                  <a:pt x="138" y="414"/>
                </a:lnTo>
                <a:lnTo>
                  <a:pt x="152" y="396"/>
                </a:lnTo>
                <a:lnTo>
                  <a:pt x="165" y="371"/>
                </a:lnTo>
                <a:lnTo>
                  <a:pt x="186" y="360"/>
                </a:lnTo>
                <a:lnTo>
                  <a:pt x="192" y="336"/>
                </a:lnTo>
                <a:lnTo>
                  <a:pt x="199" y="306"/>
                </a:lnTo>
                <a:lnTo>
                  <a:pt x="213" y="287"/>
                </a:lnTo>
                <a:lnTo>
                  <a:pt x="226" y="270"/>
                </a:lnTo>
                <a:lnTo>
                  <a:pt x="247" y="258"/>
                </a:lnTo>
                <a:lnTo>
                  <a:pt x="255" y="240"/>
                </a:lnTo>
                <a:lnTo>
                  <a:pt x="275" y="221"/>
                </a:lnTo>
                <a:lnTo>
                  <a:pt x="275" y="203"/>
                </a:lnTo>
                <a:lnTo>
                  <a:pt x="289" y="186"/>
                </a:lnTo>
                <a:lnTo>
                  <a:pt x="302" y="168"/>
                </a:lnTo>
                <a:lnTo>
                  <a:pt x="309" y="150"/>
                </a:lnTo>
                <a:lnTo>
                  <a:pt x="323" y="131"/>
                </a:lnTo>
                <a:lnTo>
                  <a:pt x="343" y="120"/>
                </a:lnTo>
                <a:lnTo>
                  <a:pt x="358" y="96"/>
                </a:lnTo>
                <a:lnTo>
                  <a:pt x="358" y="78"/>
                </a:lnTo>
                <a:lnTo>
                  <a:pt x="370" y="60"/>
                </a:lnTo>
                <a:lnTo>
                  <a:pt x="378" y="41"/>
                </a:lnTo>
                <a:lnTo>
                  <a:pt x="392" y="24"/>
                </a:lnTo>
                <a:lnTo>
                  <a:pt x="412" y="11"/>
                </a:lnTo>
                <a:lnTo>
                  <a:pt x="432" y="0"/>
                </a:lnTo>
              </a:path>
            </a:pathLst>
          </a:custGeom>
          <a:noFill/>
          <a:ln cap="rnd"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111640" y="3733920"/>
            <a:ext cx="444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111640" y="3809880"/>
            <a:ext cx="444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111640" y="3886200"/>
            <a:ext cx="444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5111640" y="3962520"/>
            <a:ext cx="444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019920" y="3740040"/>
            <a:ext cx="0" cy="1396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111640" y="2368440"/>
            <a:ext cx="1130400" cy="1282680"/>
          </a:xfrm>
          <a:prstGeom prst="rect">
            <a:avLst/>
          </a:prstGeom>
          <a:solidFill>
            <a:srgbClr val="5a5c6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257800" y="2505240"/>
            <a:ext cx="789120" cy="1001520"/>
          </a:xfrm>
          <a:custGeom>
            <a:avLst/>
            <a:gdLst/>
            <a:ahLst/>
            <a:rect l="l" t="t" r="r" b="b"/>
            <a:pathLst>
              <a:path w="497" h="631">
                <a:moveTo>
                  <a:pt x="0" y="630"/>
                </a:moveTo>
                <a:lnTo>
                  <a:pt x="24" y="630"/>
                </a:lnTo>
                <a:lnTo>
                  <a:pt x="57" y="605"/>
                </a:lnTo>
                <a:lnTo>
                  <a:pt x="88" y="582"/>
                </a:lnTo>
                <a:lnTo>
                  <a:pt x="111" y="574"/>
                </a:lnTo>
                <a:lnTo>
                  <a:pt x="135" y="566"/>
                </a:lnTo>
                <a:lnTo>
                  <a:pt x="158" y="543"/>
                </a:lnTo>
                <a:lnTo>
                  <a:pt x="175" y="520"/>
                </a:lnTo>
                <a:lnTo>
                  <a:pt x="189" y="487"/>
                </a:lnTo>
                <a:lnTo>
                  <a:pt x="214" y="472"/>
                </a:lnTo>
                <a:lnTo>
                  <a:pt x="220" y="441"/>
                </a:lnTo>
                <a:lnTo>
                  <a:pt x="229" y="402"/>
                </a:lnTo>
                <a:lnTo>
                  <a:pt x="245" y="377"/>
                </a:lnTo>
                <a:lnTo>
                  <a:pt x="260" y="354"/>
                </a:lnTo>
                <a:lnTo>
                  <a:pt x="284" y="338"/>
                </a:lnTo>
                <a:lnTo>
                  <a:pt x="293" y="315"/>
                </a:lnTo>
                <a:lnTo>
                  <a:pt x="316" y="290"/>
                </a:lnTo>
                <a:lnTo>
                  <a:pt x="316" y="267"/>
                </a:lnTo>
                <a:lnTo>
                  <a:pt x="332" y="244"/>
                </a:lnTo>
                <a:lnTo>
                  <a:pt x="347" y="220"/>
                </a:lnTo>
                <a:lnTo>
                  <a:pt x="355" y="197"/>
                </a:lnTo>
                <a:lnTo>
                  <a:pt x="371" y="172"/>
                </a:lnTo>
                <a:lnTo>
                  <a:pt x="394" y="157"/>
                </a:lnTo>
                <a:lnTo>
                  <a:pt x="411" y="126"/>
                </a:lnTo>
                <a:lnTo>
                  <a:pt x="411" y="102"/>
                </a:lnTo>
                <a:lnTo>
                  <a:pt x="425" y="79"/>
                </a:lnTo>
                <a:lnTo>
                  <a:pt x="434" y="54"/>
                </a:lnTo>
                <a:lnTo>
                  <a:pt x="450" y="31"/>
                </a:lnTo>
                <a:lnTo>
                  <a:pt x="473" y="15"/>
                </a:lnTo>
                <a:lnTo>
                  <a:pt x="496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Tahoma"/>
              </a:rPr>
              <a:t>Labels o etiqueta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558" name=""/>
          <p:cNvGraphicFramePr/>
          <p:nvPr/>
        </p:nvGraphicFramePr>
        <p:xfrm>
          <a:off x="1285920" y="2319480"/>
          <a:ext cx="5898960" cy="3260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85920" y="2319480"/>
                    <a:ext cx="5898960" cy="32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0" name=""/>
          <p:cNvSpPr/>
          <p:nvPr/>
        </p:nvSpPr>
        <p:spPr>
          <a:xfrm>
            <a:off x="775440" y="1836720"/>
            <a:ext cx="595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9383b3"/>
                </a:solidFill>
                <a:latin typeface="Impact"/>
              </a:rPr>
              <a:t>Layer: Vías de Comunicació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6632640" y="3164040"/>
            <a:ext cx="334800" cy="2322360"/>
          </a:xfrm>
          <a:custGeom>
            <a:avLst/>
            <a:gdLst>
              <a:gd name="textAreaLeft" fmla="*/ 0 w 334800"/>
              <a:gd name="textAreaRight" fmla="*/ 120960 w 334800"/>
              <a:gd name="textAreaTop" fmla="*/ 60480 h 2322360"/>
              <a:gd name="textAreaBottom" fmla="*/ 2261880 h 232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7227720" y="4092480"/>
            <a:ext cx="164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odifica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"/>
          <p:cNvSpPr/>
          <p:nvPr/>
        </p:nvSpPr>
        <p:spPr>
          <a:xfrm>
            <a:off x="129528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Tahoma"/>
              </a:rPr>
              <a:t>Labels o etiqueta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64" name=""/>
          <p:cNvGraphicFramePr/>
          <p:nvPr/>
        </p:nvGraphicFramePr>
        <p:xfrm>
          <a:off x="893880" y="2341440"/>
          <a:ext cx="5881680" cy="3203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93880" y="2341440"/>
                    <a:ext cx="5881680" cy="32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6" name=""/>
          <p:cNvSpPr/>
          <p:nvPr/>
        </p:nvSpPr>
        <p:spPr>
          <a:xfrm>
            <a:off x="995400" y="1836720"/>
            <a:ext cx="322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9383b3"/>
                </a:solidFill>
                <a:latin typeface="Impact"/>
              </a:rPr>
              <a:t>Layer:  Roda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6632640" y="3164040"/>
            <a:ext cx="334800" cy="2322360"/>
          </a:xfrm>
          <a:custGeom>
            <a:avLst/>
            <a:gdLst>
              <a:gd name="textAreaLeft" fmla="*/ 0 w 334800"/>
              <a:gd name="textAreaRight" fmla="*/ 120960 w 334800"/>
              <a:gd name="textAreaTop" fmla="*/ 60480 h 2322360"/>
              <a:gd name="textAreaBottom" fmla="*/ 2261880 h 232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7227720" y="4092480"/>
            <a:ext cx="164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odifica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5b5d6b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3. Corrección de Errores: Edició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s un aspecto de vital importancia, puesto que influye directamente sobre los procesos de análisis posterio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ay numerosas fuentes de error, agrupándose en dos categoría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rrores debidos a causas externa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rrores debidos causas operacional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blinds dir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5b5d6b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ausas Externa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Se producen por la naturaleza del papel, el que absorve y pierde humedad, causando algunas décimas o milésimas de milímetro de deformacion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También se producen por malas mallas de referencia o ausencia de ella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Por el uso de mapas antiguos o en mal estado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blinds dir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5b5d6b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onsecuencia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sto redunda en que las posiciones de las entidades estarán desplazadas respecto de la realida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blinds dir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5b5d6b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Este problema no puede evitarse, pero se debe tratar de disminuir al máximo, utilizando papeles de alta calidad (polyester, glossy, fotográfico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Además, todos los programas de digitalización permiten cuantificar este error (RMS) con el fin de medir el desplazamiento entre los puntos de control del mapa y sus coordenadas real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blinds dir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ausas operacional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Surgen debido a la  intervención humana durante el proceso de digitalizació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Se producen principalmente por la inexacta colocación del cursor sobre una línea, o por mala confirmación de los puntos de contro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Se pueden agrupar en errores de “Dibujo” y en errores de atributació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blinds dir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5b5d6b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Errores operacionales: “Dibujo”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806040" y="19335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Provienen en general de problemas en el registro de los nodos y arcos que componen las línea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Dentro de ellos encontramo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Undershoo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Overshoo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81" name="" descr=""/>
          <p:cNvPicPr/>
          <p:nvPr/>
        </p:nvPicPr>
        <p:blipFill>
          <a:blip r:embed="rId1"/>
          <a:srcRect l="31847" t="0" r="0" b="0"/>
          <a:stretch/>
        </p:blipFill>
        <p:spPr>
          <a:xfrm>
            <a:off x="4572000" y="2073240"/>
            <a:ext cx="4145040" cy="271152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"/>
          <p:cNvSpPr/>
          <p:nvPr/>
        </p:nvSpPr>
        <p:spPr>
          <a:xfrm>
            <a:off x="800280" y="1816200"/>
            <a:ext cx="2768400" cy="4876560"/>
          </a:xfrm>
          <a:prstGeom prst="rect">
            <a:avLst/>
          </a:prstGeom>
          <a:solidFill>
            <a:srgbClr val="0066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1019160" y="5186520"/>
            <a:ext cx="1204920" cy="1230120"/>
          </a:xfrm>
          <a:custGeom>
            <a:avLst/>
            <a:gdLst/>
            <a:ahLst/>
            <a:rect l="l" t="t" r="r" b="b"/>
            <a:pathLst>
              <a:path w="759" h="775">
                <a:moveTo>
                  <a:pt x="199" y="0"/>
                </a:moveTo>
                <a:cubicBezTo>
                  <a:pt x="374" y="28"/>
                  <a:pt x="539" y="47"/>
                  <a:pt x="719" y="56"/>
                </a:cubicBezTo>
                <a:cubicBezTo>
                  <a:pt x="745" y="128"/>
                  <a:pt x="755" y="192"/>
                  <a:pt x="685" y="237"/>
                </a:cubicBezTo>
                <a:cubicBezTo>
                  <a:pt x="678" y="248"/>
                  <a:pt x="665" y="258"/>
                  <a:pt x="663" y="271"/>
                </a:cubicBezTo>
                <a:cubicBezTo>
                  <a:pt x="657" y="306"/>
                  <a:pt x="713" y="347"/>
                  <a:pt x="731" y="373"/>
                </a:cubicBezTo>
                <a:cubicBezTo>
                  <a:pt x="759" y="461"/>
                  <a:pt x="756" y="435"/>
                  <a:pt x="731" y="599"/>
                </a:cubicBezTo>
                <a:cubicBezTo>
                  <a:pt x="725" y="639"/>
                  <a:pt x="640" y="679"/>
                  <a:pt x="640" y="679"/>
                </a:cubicBezTo>
                <a:cubicBezTo>
                  <a:pt x="636" y="690"/>
                  <a:pt x="637" y="705"/>
                  <a:pt x="629" y="713"/>
                </a:cubicBezTo>
                <a:cubicBezTo>
                  <a:pt x="621" y="721"/>
                  <a:pt x="605" y="718"/>
                  <a:pt x="595" y="724"/>
                </a:cubicBezTo>
                <a:cubicBezTo>
                  <a:pt x="505" y="775"/>
                  <a:pt x="599" y="749"/>
                  <a:pt x="493" y="769"/>
                </a:cubicBezTo>
                <a:cubicBezTo>
                  <a:pt x="435" y="760"/>
                  <a:pt x="379" y="750"/>
                  <a:pt x="323" y="735"/>
                </a:cubicBezTo>
                <a:cubicBezTo>
                  <a:pt x="240" y="739"/>
                  <a:pt x="157" y="750"/>
                  <a:pt x="74" y="747"/>
                </a:cubicBezTo>
                <a:cubicBezTo>
                  <a:pt x="50" y="746"/>
                  <a:pt x="13" y="747"/>
                  <a:pt x="6" y="724"/>
                </a:cubicBezTo>
                <a:cubicBezTo>
                  <a:pt x="0" y="704"/>
                  <a:pt x="44" y="541"/>
                  <a:pt x="52" y="509"/>
                </a:cubicBezTo>
                <a:cubicBezTo>
                  <a:pt x="57" y="490"/>
                  <a:pt x="55" y="470"/>
                  <a:pt x="63" y="452"/>
                </a:cubicBezTo>
                <a:cubicBezTo>
                  <a:pt x="78" y="420"/>
                  <a:pt x="119" y="362"/>
                  <a:pt x="119" y="362"/>
                </a:cubicBezTo>
                <a:cubicBezTo>
                  <a:pt x="137" y="294"/>
                  <a:pt x="159" y="227"/>
                  <a:pt x="176" y="158"/>
                </a:cubicBezTo>
                <a:cubicBezTo>
                  <a:pt x="164" y="18"/>
                  <a:pt x="136" y="63"/>
                  <a:pt x="199" y="0"/>
                </a:cubicBezTo>
                <a:close/>
              </a:path>
            </a:pathLst>
          </a:custGeom>
          <a:solidFill>
            <a:srgbClr val="9966ff"/>
          </a:solidFill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1839960" y="5032440"/>
            <a:ext cx="1403280" cy="1490760"/>
          </a:xfrm>
          <a:custGeom>
            <a:avLst/>
            <a:gdLst/>
            <a:ahLst/>
            <a:rect l="l" t="t" r="r" b="b"/>
            <a:pathLst>
              <a:path w="884" h="939">
                <a:moveTo>
                  <a:pt x="196" y="153"/>
                </a:moveTo>
                <a:cubicBezTo>
                  <a:pt x="200" y="166"/>
                  <a:pt x="208" y="176"/>
                  <a:pt x="212" y="189"/>
                </a:cubicBezTo>
                <a:cubicBezTo>
                  <a:pt x="217" y="240"/>
                  <a:pt x="220" y="280"/>
                  <a:pt x="204" y="329"/>
                </a:cubicBezTo>
                <a:cubicBezTo>
                  <a:pt x="199" y="366"/>
                  <a:pt x="190" y="408"/>
                  <a:pt x="212" y="441"/>
                </a:cubicBezTo>
                <a:cubicBezTo>
                  <a:pt x="216" y="460"/>
                  <a:pt x="228" y="497"/>
                  <a:pt x="228" y="497"/>
                </a:cubicBezTo>
                <a:cubicBezTo>
                  <a:pt x="232" y="538"/>
                  <a:pt x="249" y="592"/>
                  <a:pt x="224" y="629"/>
                </a:cubicBezTo>
                <a:cubicBezTo>
                  <a:pt x="215" y="665"/>
                  <a:pt x="215" y="703"/>
                  <a:pt x="200" y="737"/>
                </a:cubicBezTo>
                <a:cubicBezTo>
                  <a:pt x="195" y="750"/>
                  <a:pt x="196" y="768"/>
                  <a:pt x="184" y="777"/>
                </a:cubicBezTo>
                <a:cubicBezTo>
                  <a:pt x="169" y="789"/>
                  <a:pt x="142" y="801"/>
                  <a:pt x="124" y="809"/>
                </a:cubicBezTo>
                <a:cubicBezTo>
                  <a:pt x="116" y="812"/>
                  <a:pt x="100" y="817"/>
                  <a:pt x="100" y="817"/>
                </a:cubicBezTo>
                <a:cubicBezTo>
                  <a:pt x="88" y="841"/>
                  <a:pt x="63" y="858"/>
                  <a:pt x="40" y="873"/>
                </a:cubicBezTo>
                <a:cubicBezTo>
                  <a:pt x="26" y="868"/>
                  <a:pt x="14" y="862"/>
                  <a:pt x="0" y="857"/>
                </a:cubicBezTo>
                <a:cubicBezTo>
                  <a:pt x="12" y="904"/>
                  <a:pt x="98" y="912"/>
                  <a:pt x="136" y="917"/>
                </a:cubicBezTo>
                <a:cubicBezTo>
                  <a:pt x="203" y="939"/>
                  <a:pt x="511" y="921"/>
                  <a:pt x="528" y="921"/>
                </a:cubicBezTo>
                <a:cubicBezTo>
                  <a:pt x="575" y="918"/>
                  <a:pt x="621" y="913"/>
                  <a:pt x="668" y="905"/>
                </a:cubicBezTo>
                <a:cubicBezTo>
                  <a:pt x="687" y="897"/>
                  <a:pt x="705" y="889"/>
                  <a:pt x="724" y="881"/>
                </a:cubicBezTo>
                <a:cubicBezTo>
                  <a:pt x="738" y="862"/>
                  <a:pt x="756" y="848"/>
                  <a:pt x="764" y="825"/>
                </a:cubicBezTo>
                <a:cubicBezTo>
                  <a:pt x="762" y="755"/>
                  <a:pt x="764" y="710"/>
                  <a:pt x="744" y="649"/>
                </a:cubicBezTo>
                <a:cubicBezTo>
                  <a:pt x="739" y="509"/>
                  <a:pt x="735" y="574"/>
                  <a:pt x="752" y="453"/>
                </a:cubicBezTo>
                <a:cubicBezTo>
                  <a:pt x="765" y="362"/>
                  <a:pt x="851" y="292"/>
                  <a:pt x="884" y="209"/>
                </a:cubicBezTo>
                <a:cubicBezTo>
                  <a:pt x="881" y="171"/>
                  <a:pt x="880" y="144"/>
                  <a:pt x="868" y="109"/>
                </a:cubicBezTo>
                <a:cubicBezTo>
                  <a:pt x="867" y="76"/>
                  <a:pt x="874" y="41"/>
                  <a:pt x="864" y="9"/>
                </a:cubicBezTo>
                <a:cubicBezTo>
                  <a:pt x="861" y="0"/>
                  <a:pt x="851" y="23"/>
                  <a:pt x="844" y="29"/>
                </a:cubicBezTo>
                <a:cubicBezTo>
                  <a:pt x="838" y="35"/>
                  <a:pt x="831" y="40"/>
                  <a:pt x="824" y="45"/>
                </a:cubicBezTo>
                <a:cubicBezTo>
                  <a:pt x="792" y="67"/>
                  <a:pt x="760" y="90"/>
                  <a:pt x="728" y="113"/>
                </a:cubicBezTo>
                <a:cubicBezTo>
                  <a:pt x="709" y="126"/>
                  <a:pt x="685" y="132"/>
                  <a:pt x="664" y="141"/>
                </a:cubicBezTo>
                <a:cubicBezTo>
                  <a:pt x="580" y="176"/>
                  <a:pt x="505" y="198"/>
                  <a:pt x="412" y="205"/>
                </a:cubicBezTo>
                <a:cubicBezTo>
                  <a:pt x="369" y="204"/>
                  <a:pt x="327" y="203"/>
                  <a:pt x="284" y="201"/>
                </a:cubicBezTo>
                <a:cubicBezTo>
                  <a:pt x="263" y="200"/>
                  <a:pt x="238" y="182"/>
                  <a:pt x="216" y="177"/>
                </a:cubicBezTo>
                <a:cubicBezTo>
                  <a:pt x="205" y="160"/>
                  <a:pt x="211" y="168"/>
                  <a:pt x="196" y="153"/>
                </a:cubicBezTo>
                <a:close/>
              </a:path>
            </a:pathLst>
          </a:custGeom>
          <a:solidFill>
            <a:srgbClr val="9966ff"/>
          </a:solidFill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5b5d6b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Errores Operacionales “Dibujo”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2670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os errores posibles de encontrar son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olígonos abiert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olígonos Entrecruzad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uecos entre polígonos que no los tien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7" name=""/>
          <p:cNvSpPr/>
          <p:nvPr/>
        </p:nvSpPr>
        <p:spPr>
          <a:xfrm>
            <a:off x="1295280" y="1905120"/>
            <a:ext cx="1173240" cy="1344600"/>
          </a:xfrm>
          <a:custGeom>
            <a:avLst/>
            <a:gdLst/>
            <a:ahLst/>
            <a:rect l="l" t="t" r="r" b="b"/>
            <a:pathLst>
              <a:path w="739" h="847">
                <a:moveTo>
                  <a:pt x="132" y="136"/>
                </a:moveTo>
                <a:lnTo>
                  <a:pt x="92" y="150"/>
                </a:lnTo>
                <a:lnTo>
                  <a:pt x="53" y="205"/>
                </a:lnTo>
                <a:lnTo>
                  <a:pt x="13" y="246"/>
                </a:lnTo>
                <a:lnTo>
                  <a:pt x="0" y="300"/>
                </a:lnTo>
                <a:lnTo>
                  <a:pt x="0" y="355"/>
                </a:lnTo>
                <a:lnTo>
                  <a:pt x="0" y="409"/>
                </a:lnTo>
                <a:lnTo>
                  <a:pt x="0" y="450"/>
                </a:lnTo>
                <a:lnTo>
                  <a:pt x="0" y="505"/>
                </a:lnTo>
                <a:lnTo>
                  <a:pt x="13" y="559"/>
                </a:lnTo>
                <a:lnTo>
                  <a:pt x="40" y="600"/>
                </a:lnTo>
                <a:lnTo>
                  <a:pt x="79" y="655"/>
                </a:lnTo>
                <a:lnTo>
                  <a:pt x="119" y="669"/>
                </a:lnTo>
                <a:lnTo>
                  <a:pt x="158" y="723"/>
                </a:lnTo>
                <a:lnTo>
                  <a:pt x="198" y="764"/>
                </a:lnTo>
                <a:lnTo>
                  <a:pt x="250" y="791"/>
                </a:lnTo>
                <a:lnTo>
                  <a:pt x="329" y="832"/>
                </a:lnTo>
                <a:lnTo>
                  <a:pt x="369" y="846"/>
                </a:lnTo>
                <a:lnTo>
                  <a:pt x="409" y="846"/>
                </a:lnTo>
                <a:lnTo>
                  <a:pt x="448" y="846"/>
                </a:lnTo>
                <a:lnTo>
                  <a:pt x="501" y="846"/>
                </a:lnTo>
                <a:lnTo>
                  <a:pt x="540" y="846"/>
                </a:lnTo>
                <a:lnTo>
                  <a:pt x="593" y="819"/>
                </a:lnTo>
                <a:lnTo>
                  <a:pt x="646" y="764"/>
                </a:lnTo>
                <a:lnTo>
                  <a:pt x="685" y="710"/>
                </a:lnTo>
                <a:lnTo>
                  <a:pt x="698" y="655"/>
                </a:lnTo>
                <a:lnTo>
                  <a:pt x="712" y="600"/>
                </a:lnTo>
                <a:lnTo>
                  <a:pt x="725" y="559"/>
                </a:lnTo>
                <a:lnTo>
                  <a:pt x="725" y="519"/>
                </a:lnTo>
                <a:lnTo>
                  <a:pt x="738" y="464"/>
                </a:lnTo>
                <a:lnTo>
                  <a:pt x="738" y="409"/>
                </a:lnTo>
                <a:lnTo>
                  <a:pt x="725" y="368"/>
                </a:lnTo>
                <a:lnTo>
                  <a:pt x="725" y="327"/>
                </a:lnTo>
                <a:lnTo>
                  <a:pt x="725" y="273"/>
                </a:lnTo>
                <a:lnTo>
                  <a:pt x="712" y="205"/>
                </a:lnTo>
                <a:lnTo>
                  <a:pt x="712" y="164"/>
                </a:lnTo>
                <a:lnTo>
                  <a:pt x="698" y="109"/>
                </a:lnTo>
                <a:lnTo>
                  <a:pt x="659" y="68"/>
                </a:lnTo>
                <a:lnTo>
                  <a:pt x="606" y="27"/>
                </a:lnTo>
                <a:lnTo>
                  <a:pt x="567" y="14"/>
                </a:lnTo>
                <a:lnTo>
                  <a:pt x="501" y="0"/>
                </a:lnTo>
                <a:lnTo>
                  <a:pt x="461" y="0"/>
                </a:lnTo>
                <a:lnTo>
                  <a:pt x="422" y="0"/>
                </a:lnTo>
                <a:lnTo>
                  <a:pt x="382" y="14"/>
                </a:lnTo>
                <a:lnTo>
                  <a:pt x="343" y="27"/>
                </a:lnTo>
                <a:lnTo>
                  <a:pt x="303" y="68"/>
                </a:lnTo>
                <a:lnTo>
                  <a:pt x="264" y="96"/>
                </a:lnTo>
              </a:path>
            </a:pathLst>
          </a:custGeom>
          <a:noFill/>
          <a:ln cap="rnd"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88" name=""/>
          <p:cNvGrpSpPr/>
          <p:nvPr/>
        </p:nvGrpSpPr>
        <p:grpSpPr>
          <a:xfrm>
            <a:off x="1143000" y="3581280"/>
            <a:ext cx="2116080" cy="1087560"/>
            <a:chOff x="1143000" y="3581280"/>
            <a:chExt cx="2116080" cy="1087560"/>
          </a:xfrm>
        </p:grpSpPr>
        <p:sp>
          <p:nvSpPr>
            <p:cNvPr id="589" name=""/>
            <p:cNvSpPr/>
            <p:nvPr/>
          </p:nvSpPr>
          <p:spPr>
            <a:xfrm>
              <a:off x="1143000" y="3637080"/>
              <a:ext cx="1209600" cy="1031760"/>
            </a:xfrm>
            <a:custGeom>
              <a:avLst/>
              <a:gdLst/>
              <a:ahLst/>
              <a:rect l="l" t="t" r="r" b="b"/>
              <a:pathLst>
                <a:path w="762" h="650">
                  <a:moveTo>
                    <a:pt x="159" y="59"/>
                  </a:moveTo>
                  <a:lnTo>
                    <a:pt x="111" y="83"/>
                  </a:lnTo>
                  <a:lnTo>
                    <a:pt x="63" y="118"/>
                  </a:lnTo>
                  <a:lnTo>
                    <a:pt x="16" y="165"/>
                  </a:lnTo>
                  <a:lnTo>
                    <a:pt x="0" y="201"/>
                  </a:lnTo>
                  <a:lnTo>
                    <a:pt x="0" y="236"/>
                  </a:lnTo>
                  <a:lnTo>
                    <a:pt x="32" y="295"/>
                  </a:lnTo>
                  <a:lnTo>
                    <a:pt x="63" y="330"/>
                  </a:lnTo>
                  <a:lnTo>
                    <a:pt x="79" y="366"/>
                  </a:lnTo>
                  <a:lnTo>
                    <a:pt x="111" y="413"/>
                  </a:lnTo>
                  <a:lnTo>
                    <a:pt x="143" y="460"/>
                  </a:lnTo>
                  <a:lnTo>
                    <a:pt x="190" y="496"/>
                  </a:lnTo>
                  <a:lnTo>
                    <a:pt x="222" y="543"/>
                  </a:lnTo>
                  <a:lnTo>
                    <a:pt x="270" y="566"/>
                  </a:lnTo>
                  <a:lnTo>
                    <a:pt x="317" y="590"/>
                  </a:lnTo>
                  <a:lnTo>
                    <a:pt x="365" y="625"/>
                  </a:lnTo>
                  <a:lnTo>
                    <a:pt x="444" y="637"/>
                  </a:lnTo>
                  <a:lnTo>
                    <a:pt x="507" y="649"/>
                  </a:lnTo>
                  <a:lnTo>
                    <a:pt x="571" y="649"/>
                  </a:lnTo>
                  <a:lnTo>
                    <a:pt x="634" y="649"/>
                  </a:lnTo>
                  <a:lnTo>
                    <a:pt x="682" y="649"/>
                  </a:lnTo>
                  <a:lnTo>
                    <a:pt x="729" y="625"/>
                  </a:lnTo>
                  <a:lnTo>
                    <a:pt x="745" y="590"/>
                  </a:lnTo>
                  <a:lnTo>
                    <a:pt x="761" y="543"/>
                  </a:lnTo>
                  <a:lnTo>
                    <a:pt x="761" y="507"/>
                  </a:lnTo>
                  <a:lnTo>
                    <a:pt x="761" y="460"/>
                  </a:lnTo>
                  <a:lnTo>
                    <a:pt x="761" y="425"/>
                  </a:lnTo>
                  <a:lnTo>
                    <a:pt x="761" y="378"/>
                  </a:lnTo>
                  <a:lnTo>
                    <a:pt x="761" y="330"/>
                  </a:lnTo>
                  <a:lnTo>
                    <a:pt x="761" y="295"/>
                  </a:lnTo>
                  <a:lnTo>
                    <a:pt x="745" y="248"/>
                  </a:lnTo>
                  <a:lnTo>
                    <a:pt x="729" y="201"/>
                  </a:lnTo>
                  <a:lnTo>
                    <a:pt x="698" y="165"/>
                  </a:lnTo>
                  <a:lnTo>
                    <a:pt x="650" y="118"/>
                  </a:lnTo>
                  <a:lnTo>
                    <a:pt x="602" y="71"/>
                  </a:lnTo>
                  <a:lnTo>
                    <a:pt x="539" y="35"/>
                  </a:lnTo>
                  <a:lnTo>
                    <a:pt x="491" y="12"/>
                  </a:lnTo>
                  <a:lnTo>
                    <a:pt x="444" y="0"/>
                  </a:lnTo>
                  <a:lnTo>
                    <a:pt x="396" y="0"/>
                  </a:lnTo>
                  <a:lnTo>
                    <a:pt x="349" y="24"/>
                  </a:lnTo>
                  <a:lnTo>
                    <a:pt x="301" y="24"/>
                  </a:lnTo>
                  <a:lnTo>
                    <a:pt x="254" y="35"/>
                  </a:lnTo>
                  <a:lnTo>
                    <a:pt x="206" y="47"/>
                  </a:lnTo>
                  <a:lnTo>
                    <a:pt x="159" y="59"/>
                  </a:lnTo>
                  <a:lnTo>
                    <a:pt x="159" y="59"/>
                  </a:lnTo>
                </a:path>
              </a:pathLst>
            </a:custGeom>
            <a:solidFill>
              <a:srgbClr val="9966ff"/>
            </a:solidFill>
            <a:ln cap="rnd"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1947600" y="3581280"/>
              <a:ext cx="1311480" cy="1032120"/>
            </a:xfrm>
            <a:custGeom>
              <a:avLst/>
              <a:gdLst/>
              <a:ahLst/>
              <a:rect l="l" t="t" r="r" b="b"/>
              <a:pathLst>
                <a:path w="826" h="650">
                  <a:moveTo>
                    <a:pt x="381" y="71"/>
                  </a:moveTo>
                  <a:lnTo>
                    <a:pt x="301" y="83"/>
                  </a:lnTo>
                  <a:lnTo>
                    <a:pt x="254" y="83"/>
                  </a:lnTo>
                  <a:lnTo>
                    <a:pt x="206" y="83"/>
                  </a:lnTo>
                  <a:lnTo>
                    <a:pt x="143" y="106"/>
                  </a:lnTo>
                  <a:lnTo>
                    <a:pt x="95" y="130"/>
                  </a:lnTo>
                  <a:lnTo>
                    <a:pt x="48" y="177"/>
                  </a:lnTo>
                  <a:lnTo>
                    <a:pt x="32" y="212"/>
                  </a:lnTo>
                  <a:lnTo>
                    <a:pt x="0" y="248"/>
                  </a:lnTo>
                  <a:lnTo>
                    <a:pt x="0" y="295"/>
                  </a:lnTo>
                  <a:lnTo>
                    <a:pt x="0" y="330"/>
                  </a:lnTo>
                  <a:lnTo>
                    <a:pt x="16" y="366"/>
                  </a:lnTo>
                  <a:lnTo>
                    <a:pt x="32" y="413"/>
                  </a:lnTo>
                  <a:lnTo>
                    <a:pt x="63" y="448"/>
                  </a:lnTo>
                  <a:lnTo>
                    <a:pt x="95" y="484"/>
                  </a:lnTo>
                  <a:lnTo>
                    <a:pt x="143" y="519"/>
                  </a:lnTo>
                  <a:lnTo>
                    <a:pt x="190" y="555"/>
                  </a:lnTo>
                  <a:lnTo>
                    <a:pt x="222" y="590"/>
                  </a:lnTo>
                  <a:lnTo>
                    <a:pt x="270" y="614"/>
                  </a:lnTo>
                  <a:lnTo>
                    <a:pt x="317" y="637"/>
                  </a:lnTo>
                  <a:lnTo>
                    <a:pt x="365" y="649"/>
                  </a:lnTo>
                  <a:lnTo>
                    <a:pt x="413" y="649"/>
                  </a:lnTo>
                  <a:lnTo>
                    <a:pt x="476" y="649"/>
                  </a:lnTo>
                  <a:lnTo>
                    <a:pt x="539" y="649"/>
                  </a:lnTo>
                  <a:lnTo>
                    <a:pt x="619" y="649"/>
                  </a:lnTo>
                  <a:lnTo>
                    <a:pt x="666" y="649"/>
                  </a:lnTo>
                  <a:lnTo>
                    <a:pt x="714" y="625"/>
                  </a:lnTo>
                  <a:lnTo>
                    <a:pt x="746" y="590"/>
                  </a:lnTo>
                  <a:lnTo>
                    <a:pt x="746" y="555"/>
                  </a:lnTo>
                  <a:lnTo>
                    <a:pt x="762" y="519"/>
                  </a:lnTo>
                  <a:lnTo>
                    <a:pt x="762" y="484"/>
                  </a:lnTo>
                  <a:lnTo>
                    <a:pt x="762" y="448"/>
                  </a:lnTo>
                  <a:lnTo>
                    <a:pt x="762" y="413"/>
                  </a:lnTo>
                  <a:lnTo>
                    <a:pt x="809" y="378"/>
                  </a:lnTo>
                  <a:lnTo>
                    <a:pt x="809" y="342"/>
                  </a:lnTo>
                  <a:lnTo>
                    <a:pt x="825" y="307"/>
                  </a:lnTo>
                  <a:lnTo>
                    <a:pt x="825" y="271"/>
                  </a:lnTo>
                  <a:lnTo>
                    <a:pt x="809" y="224"/>
                  </a:lnTo>
                  <a:lnTo>
                    <a:pt x="809" y="189"/>
                  </a:lnTo>
                  <a:lnTo>
                    <a:pt x="809" y="153"/>
                  </a:lnTo>
                  <a:lnTo>
                    <a:pt x="777" y="106"/>
                  </a:lnTo>
                  <a:lnTo>
                    <a:pt x="762" y="71"/>
                  </a:lnTo>
                  <a:lnTo>
                    <a:pt x="730" y="35"/>
                  </a:lnTo>
                  <a:lnTo>
                    <a:pt x="682" y="12"/>
                  </a:lnTo>
                  <a:lnTo>
                    <a:pt x="635" y="0"/>
                  </a:lnTo>
                  <a:lnTo>
                    <a:pt x="587" y="0"/>
                  </a:lnTo>
                  <a:lnTo>
                    <a:pt x="539" y="12"/>
                  </a:lnTo>
                  <a:lnTo>
                    <a:pt x="492" y="12"/>
                  </a:lnTo>
                  <a:lnTo>
                    <a:pt x="444" y="24"/>
                  </a:lnTo>
                  <a:lnTo>
                    <a:pt x="397" y="35"/>
                  </a:lnTo>
                  <a:lnTo>
                    <a:pt x="349" y="59"/>
                  </a:lnTo>
                  <a:lnTo>
                    <a:pt x="381" y="71"/>
                  </a:lnTo>
                </a:path>
              </a:pathLst>
            </a:custGeom>
            <a:solidFill>
              <a:srgbClr val="9966ff"/>
            </a:solidFill>
            <a:ln cap="rnd"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1690200" y="2414520"/>
            <a:ext cx="3535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566360" y="3976560"/>
            <a:ext cx="3535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2738160" y="3890880"/>
            <a:ext cx="3535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1485360" y="5638680"/>
            <a:ext cx="3535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2514240" y="5638680"/>
            <a:ext cx="3535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1933560" y="3772080"/>
            <a:ext cx="442800" cy="780840"/>
          </a:xfrm>
          <a:custGeom>
            <a:avLst/>
            <a:gdLst/>
            <a:ahLst/>
            <a:rect l="l" t="t" r="r" b="b"/>
            <a:pathLst>
              <a:path w="279" h="492">
                <a:moveTo>
                  <a:pt x="108" y="6"/>
                </a:moveTo>
                <a:cubicBezTo>
                  <a:pt x="104" y="19"/>
                  <a:pt x="101" y="32"/>
                  <a:pt x="90" y="42"/>
                </a:cubicBezTo>
                <a:cubicBezTo>
                  <a:pt x="79" y="51"/>
                  <a:pt x="54" y="66"/>
                  <a:pt x="54" y="66"/>
                </a:cubicBezTo>
                <a:cubicBezTo>
                  <a:pt x="37" y="91"/>
                  <a:pt x="21" y="110"/>
                  <a:pt x="12" y="138"/>
                </a:cubicBezTo>
                <a:cubicBezTo>
                  <a:pt x="0" y="221"/>
                  <a:pt x="15" y="246"/>
                  <a:pt x="48" y="312"/>
                </a:cubicBezTo>
                <a:cubicBezTo>
                  <a:pt x="60" y="335"/>
                  <a:pt x="61" y="345"/>
                  <a:pt x="84" y="360"/>
                </a:cubicBezTo>
                <a:cubicBezTo>
                  <a:pt x="98" y="381"/>
                  <a:pt x="108" y="394"/>
                  <a:pt x="132" y="402"/>
                </a:cubicBezTo>
                <a:cubicBezTo>
                  <a:pt x="161" y="445"/>
                  <a:pt x="120" y="392"/>
                  <a:pt x="180" y="432"/>
                </a:cubicBezTo>
                <a:cubicBezTo>
                  <a:pt x="192" y="440"/>
                  <a:pt x="216" y="456"/>
                  <a:pt x="216" y="456"/>
                </a:cubicBezTo>
                <a:cubicBezTo>
                  <a:pt x="220" y="461"/>
                  <a:pt x="238" y="492"/>
                  <a:pt x="246" y="492"/>
                </a:cubicBezTo>
                <a:cubicBezTo>
                  <a:pt x="252" y="492"/>
                  <a:pt x="251" y="480"/>
                  <a:pt x="252" y="474"/>
                </a:cubicBezTo>
                <a:cubicBezTo>
                  <a:pt x="255" y="462"/>
                  <a:pt x="257" y="450"/>
                  <a:pt x="258" y="438"/>
                </a:cubicBezTo>
                <a:cubicBezTo>
                  <a:pt x="263" y="394"/>
                  <a:pt x="266" y="350"/>
                  <a:pt x="270" y="306"/>
                </a:cubicBezTo>
                <a:cubicBezTo>
                  <a:pt x="265" y="207"/>
                  <a:pt x="279" y="165"/>
                  <a:pt x="216" y="102"/>
                </a:cubicBezTo>
                <a:cubicBezTo>
                  <a:pt x="208" y="78"/>
                  <a:pt x="201" y="68"/>
                  <a:pt x="180" y="54"/>
                </a:cubicBezTo>
                <a:cubicBezTo>
                  <a:pt x="170" y="23"/>
                  <a:pt x="157" y="10"/>
                  <a:pt x="126" y="0"/>
                </a:cubicBezTo>
                <a:cubicBezTo>
                  <a:pt x="120" y="2"/>
                  <a:pt x="108" y="6"/>
                  <a:pt x="108" y="6"/>
                </a:cubicBezTo>
                <a:close/>
              </a:path>
            </a:pathLst>
          </a:custGeom>
          <a:solidFill>
            <a:srgbClr val="5b5d6b"/>
          </a:solidFill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219320" y="1519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5b5d6b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Tahoma"/>
              </a:rPr>
              <a:t>Ej: Errores de “Dibujo”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8" name=""/>
          <p:cNvSpPr/>
          <p:nvPr/>
        </p:nvSpPr>
        <p:spPr>
          <a:xfrm>
            <a:off x="1906560" y="1587600"/>
            <a:ext cx="6273720" cy="457668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1565280" y="4927680"/>
            <a:ext cx="285840" cy="2952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1589040" y="3284640"/>
            <a:ext cx="241200" cy="30636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4906800" y="6242040"/>
            <a:ext cx="284400" cy="30636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4381560" y="3152880"/>
            <a:ext cx="272880" cy="29664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5016600" y="4554360"/>
            <a:ext cx="272880" cy="29556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5421240" y="1225440"/>
            <a:ext cx="284400" cy="2970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6461280" y="1216080"/>
            <a:ext cx="272880" cy="31752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8256600" y="2813040"/>
            <a:ext cx="263520" cy="28404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6076800" y="3602160"/>
            <a:ext cx="382680" cy="372960"/>
          </a:xfrm>
          <a:prstGeom prst="flowChartDecision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964200" y="2320920"/>
            <a:ext cx="317520" cy="371520"/>
          </a:xfrm>
          <a:prstGeom prst="flowChartDecision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8015400" y="1808280"/>
            <a:ext cx="307800" cy="338040"/>
          </a:xfrm>
          <a:prstGeom prst="flowChartDecision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731960" y="1390680"/>
            <a:ext cx="3830760" cy="2233440"/>
          </a:xfrm>
          <a:custGeom>
            <a:avLst/>
            <a:gdLst/>
            <a:ahLst/>
            <a:rect l="l" t="t" r="r" b="b"/>
            <a:pathLst>
              <a:path w="2413" h="1407">
                <a:moveTo>
                  <a:pt x="0" y="1276"/>
                </a:moveTo>
                <a:cubicBezTo>
                  <a:pt x="25" y="1282"/>
                  <a:pt x="55" y="1281"/>
                  <a:pt x="75" y="1297"/>
                </a:cubicBezTo>
                <a:cubicBezTo>
                  <a:pt x="148" y="1355"/>
                  <a:pt x="100" y="1342"/>
                  <a:pt x="186" y="1359"/>
                </a:cubicBezTo>
                <a:cubicBezTo>
                  <a:pt x="245" y="1390"/>
                  <a:pt x="306" y="1397"/>
                  <a:pt x="372" y="1407"/>
                </a:cubicBezTo>
                <a:cubicBezTo>
                  <a:pt x="592" y="1403"/>
                  <a:pt x="701" y="1397"/>
                  <a:pt x="882" y="1379"/>
                </a:cubicBezTo>
                <a:cubicBezTo>
                  <a:pt x="946" y="1361"/>
                  <a:pt x="856" y="1389"/>
                  <a:pt x="924" y="1359"/>
                </a:cubicBezTo>
                <a:cubicBezTo>
                  <a:pt x="982" y="1334"/>
                  <a:pt x="1062" y="1332"/>
                  <a:pt x="1124" y="1324"/>
                </a:cubicBezTo>
                <a:cubicBezTo>
                  <a:pt x="1133" y="1322"/>
                  <a:pt x="1143" y="1321"/>
                  <a:pt x="1151" y="1317"/>
                </a:cubicBezTo>
                <a:cubicBezTo>
                  <a:pt x="1170" y="1307"/>
                  <a:pt x="1186" y="1290"/>
                  <a:pt x="1206" y="1283"/>
                </a:cubicBezTo>
                <a:cubicBezTo>
                  <a:pt x="1243" y="1271"/>
                  <a:pt x="1280" y="1259"/>
                  <a:pt x="1317" y="1248"/>
                </a:cubicBezTo>
                <a:cubicBezTo>
                  <a:pt x="1333" y="1243"/>
                  <a:pt x="1349" y="1239"/>
                  <a:pt x="1365" y="1235"/>
                </a:cubicBezTo>
                <a:cubicBezTo>
                  <a:pt x="1383" y="1230"/>
                  <a:pt x="1420" y="1221"/>
                  <a:pt x="1420" y="1221"/>
                </a:cubicBezTo>
                <a:cubicBezTo>
                  <a:pt x="1454" y="1195"/>
                  <a:pt x="1494" y="1182"/>
                  <a:pt x="1531" y="1159"/>
                </a:cubicBezTo>
                <a:cubicBezTo>
                  <a:pt x="1591" y="1122"/>
                  <a:pt x="1532" y="1155"/>
                  <a:pt x="1572" y="1117"/>
                </a:cubicBezTo>
                <a:cubicBezTo>
                  <a:pt x="1588" y="1102"/>
                  <a:pt x="1621" y="1085"/>
                  <a:pt x="1641" y="1076"/>
                </a:cubicBezTo>
                <a:cubicBezTo>
                  <a:pt x="1659" y="1068"/>
                  <a:pt x="1678" y="1063"/>
                  <a:pt x="1696" y="1055"/>
                </a:cubicBezTo>
                <a:cubicBezTo>
                  <a:pt x="1715" y="1047"/>
                  <a:pt x="1751" y="1028"/>
                  <a:pt x="1751" y="1028"/>
                </a:cubicBezTo>
                <a:cubicBezTo>
                  <a:pt x="1790" y="969"/>
                  <a:pt x="1868" y="959"/>
                  <a:pt x="1917" y="910"/>
                </a:cubicBezTo>
                <a:cubicBezTo>
                  <a:pt x="1971" y="856"/>
                  <a:pt x="1996" y="787"/>
                  <a:pt x="2034" y="724"/>
                </a:cubicBezTo>
                <a:cubicBezTo>
                  <a:pt x="2043" y="681"/>
                  <a:pt x="2054" y="683"/>
                  <a:pt x="2082" y="655"/>
                </a:cubicBezTo>
                <a:cubicBezTo>
                  <a:pt x="2109" y="628"/>
                  <a:pt x="2122" y="596"/>
                  <a:pt x="2144" y="566"/>
                </a:cubicBezTo>
                <a:cubicBezTo>
                  <a:pt x="2153" y="523"/>
                  <a:pt x="2168" y="478"/>
                  <a:pt x="2193" y="441"/>
                </a:cubicBezTo>
                <a:cubicBezTo>
                  <a:pt x="2200" y="400"/>
                  <a:pt x="2216" y="376"/>
                  <a:pt x="2234" y="338"/>
                </a:cubicBezTo>
                <a:cubicBezTo>
                  <a:pt x="2243" y="319"/>
                  <a:pt x="2262" y="283"/>
                  <a:pt x="2262" y="283"/>
                </a:cubicBezTo>
                <a:cubicBezTo>
                  <a:pt x="2268" y="239"/>
                  <a:pt x="2275" y="195"/>
                  <a:pt x="2282" y="152"/>
                </a:cubicBezTo>
                <a:cubicBezTo>
                  <a:pt x="2284" y="143"/>
                  <a:pt x="2283" y="132"/>
                  <a:pt x="2289" y="124"/>
                </a:cubicBezTo>
                <a:cubicBezTo>
                  <a:pt x="2294" y="118"/>
                  <a:pt x="2303" y="119"/>
                  <a:pt x="2310" y="117"/>
                </a:cubicBezTo>
                <a:cubicBezTo>
                  <a:pt x="2315" y="110"/>
                  <a:pt x="2318" y="103"/>
                  <a:pt x="2324" y="97"/>
                </a:cubicBezTo>
                <a:cubicBezTo>
                  <a:pt x="2330" y="91"/>
                  <a:pt x="2340" y="90"/>
                  <a:pt x="2344" y="83"/>
                </a:cubicBezTo>
                <a:cubicBezTo>
                  <a:pt x="2349" y="76"/>
                  <a:pt x="2364" y="20"/>
                  <a:pt x="2372" y="14"/>
                </a:cubicBezTo>
                <a:cubicBezTo>
                  <a:pt x="2384" y="6"/>
                  <a:pt x="2413" y="0"/>
                  <a:pt x="2413" y="0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763640" y="4697280"/>
            <a:ext cx="3427560" cy="371520"/>
          </a:xfrm>
          <a:custGeom>
            <a:avLst/>
            <a:gdLst/>
            <a:ahLst/>
            <a:rect l="l" t="t" r="r" b="b"/>
            <a:pathLst>
              <a:path w="2159" h="234">
                <a:moveTo>
                  <a:pt x="0" y="228"/>
                </a:moveTo>
                <a:cubicBezTo>
                  <a:pt x="44" y="206"/>
                  <a:pt x="82" y="187"/>
                  <a:pt x="131" y="179"/>
                </a:cubicBezTo>
                <a:cubicBezTo>
                  <a:pt x="140" y="172"/>
                  <a:pt x="149" y="165"/>
                  <a:pt x="159" y="159"/>
                </a:cubicBezTo>
                <a:cubicBezTo>
                  <a:pt x="165" y="155"/>
                  <a:pt x="174" y="157"/>
                  <a:pt x="180" y="152"/>
                </a:cubicBezTo>
                <a:cubicBezTo>
                  <a:pt x="186" y="147"/>
                  <a:pt x="187" y="136"/>
                  <a:pt x="193" y="131"/>
                </a:cubicBezTo>
                <a:cubicBezTo>
                  <a:pt x="203" y="123"/>
                  <a:pt x="241" y="109"/>
                  <a:pt x="255" y="103"/>
                </a:cubicBezTo>
                <a:cubicBezTo>
                  <a:pt x="264" y="99"/>
                  <a:pt x="273" y="94"/>
                  <a:pt x="283" y="90"/>
                </a:cubicBezTo>
                <a:cubicBezTo>
                  <a:pt x="296" y="85"/>
                  <a:pt x="324" y="76"/>
                  <a:pt x="324" y="76"/>
                </a:cubicBezTo>
                <a:cubicBezTo>
                  <a:pt x="352" y="78"/>
                  <a:pt x="379" y="79"/>
                  <a:pt x="407" y="83"/>
                </a:cubicBezTo>
                <a:cubicBezTo>
                  <a:pt x="450" y="89"/>
                  <a:pt x="494" y="120"/>
                  <a:pt x="538" y="131"/>
                </a:cubicBezTo>
                <a:cubicBezTo>
                  <a:pt x="603" y="175"/>
                  <a:pt x="674" y="185"/>
                  <a:pt x="752" y="193"/>
                </a:cubicBezTo>
                <a:cubicBezTo>
                  <a:pt x="763" y="198"/>
                  <a:pt x="774" y="203"/>
                  <a:pt x="786" y="207"/>
                </a:cubicBezTo>
                <a:cubicBezTo>
                  <a:pt x="800" y="212"/>
                  <a:pt x="828" y="221"/>
                  <a:pt x="828" y="221"/>
                </a:cubicBezTo>
                <a:cubicBezTo>
                  <a:pt x="1034" y="212"/>
                  <a:pt x="1237" y="219"/>
                  <a:pt x="1442" y="234"/>
                </a:cubicBezTo>
                <a:cubicBezTo>
                  <a:pt x="1548" y="232"/>
                  <a:pt x="1653" y="234"/>
                  <a:pt x="1759" y="228"/>
                </a:cubicBezTo>
                <a:cubicBezTo>
                  <a:pt x="1786" y="226"/>
                  <a:pt x="1797" y="187"/>
                  <a:pt x="1828" y="179"/>
                </a:cubicBezTo>
                <a:cubicBezTo>
                  <a:pt x="1842" y="138"/>
                  <a:pt x="1906" y="132"/>
                  <a:pt x="1945" y="124"/>
                </a:cubicBezTo>
                <a:cubicBezTo>
                  <a:pt x="1970" y="112"/>
                  <a:pt x="1995" y="100"/>
                  <a:pt x="2021" y="90"/>
                </a:cubicBezTo>
                <a:cubicBezTo>
                  <a:pt x="2034" y="85"/>
                  <a:pt x="2048" y="81"/>
                  <a:pt x="2062" y="76"/>
                </a:cubicBezTo>
                <a:cubicBezTo>
                  <a:pt x="2069" y="74"/>
                  <a:pt x="2083" y="69"/>
                  <a:pt x="2083" y="69"/>
                </a:cubicBezTo>
                <a:cubicBezTo>
                  <a:pt x="2096" y="56"/>
                  <a:pt x="2104" y="39"/>
                  <a:pt x="2118" y="28"/>
                </a:cubicBezTo>
                <a:cubicBezTo>
                  <a:pt x="2131" y="18"/>
                  <a:pt x="2159" y="23"/>
                  <a:pt x="2159" y="0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5286240" y="2933640"/>
            <a:ext cx="1360800" cy="1128600"/>
          </a:xfrm>
          <a:custGeom>
            <a:avLst/>
            <a:gdLst/>
            <a:ahLst/>
            <a:rect l="l" t="t" r="r" b="b"/>
            <a:pathLst>
              <a:path w="857" h="711">
                <a:moveTo>
                  <a:pt x="616" y="518"/>
                </a:moveTo>
                <a:cubicBezTo>
                  <a:pt x="620" y="507"/>
                  <a:pt x="645" y="454"/>
                  <a:pt x="650" y="449"/>
                </a:cubicBezTo>
                <a:cubicBezTo>
                  <a:pt x="655" y="444"/>
                  <a:pt x="664" y="444"/>
                  <a:pt x="671" y="442"/>
                </a:cubicBezTo>
                <a:cubicBezTo>
                  <a:pt x="687" y="426"/>
                  <a:pt x="703" y="410"/>
                  <a:pt x="719" y="394"/>
                </a:cubicBezTo>
                <a:cubicBezTo>
                  <a:pt x="728" y="385"/>
                  <a:pt x="747" y="366"/>
                  <a:pt x="747" y="366"/>
                </a:cubicBezTo>
                <a:cubicBezTo>
                  <a:pt x="756" y="331"/>
                  <a:pt x="771" y="303"/>
                  <a:pt x="802" y="283"/>
                </a:cubicBezTo>
                <a:cubicBezTo>
                  <a:pt x="833" y="239"/>
                  <a:pt x="844" y="204"/>
                  <a:pt x="857" y="152"/>
                </a:cubicBezTo>
                <a:cubicBezTo>
                  <a:pt x="855" y="124"/>
                  <a:pt x="854" y="97"/>
                  <a:pt x="850" y="69"/>
                </a:cubicBezTo>
                <a:cubicBezTo>
                  <a:pt x="849" y="62"/>
                  <a:pt x="849" y="53"/>
                  <a:pt x="843" y="49"/>
                </a:cubicBezTo>
                <a:cubicBezTo>
                  <a:pt x="833" y="43"/>
                  <a:pt x="718" y="3"/>
                  <a:pt x="705" y="0"/>
                </a:cubicBezTo>
                <a:cubicBezTo>
                  <a:pt x="656" y="6"/>
                  <a:pt x="629" y="16"/>
                  <a:pt x="588" y="35"/>
                </a:cubicBezTo>
                <a:cubicBezTo>
                  <a:pt x="575" y="41"/>
                  <a:pt x="547" y="49"/>
                  <a:pt x="547" y="49"/>
                </a:cubicBezTo>
                <a:cubicBezTo>
                  <a:pt x="537" y="49"/>
                  <a:pt x="291" y="26"/>
                  <a:pt x="209" y="35"/>
                </a:cubicBezTo>
                <a:cubicBezTo>
                  <a:pt x="168" y="62"/>
                  <a:pt x="125" y="69"/>
                  <a:pt x="92" y="111"/>
                </a:cubicBezTo>
                <a:cubicBezTo>
                  <a:pt x="82" y="124"/>
                  <a:pt x="76" y="140"/>
                  <a:pt x="64" y="152"/>
                </a:cubicBezTo>
                <a:cubicBezTo>
                  <a:pt x="50" y="166"/>
                  <a:pt x="23" y="194"/>
                  <a:pt x="23" y="194"/>
                </a:cubicBezTo>
                <a:cubicBezTo>
                  <a:pt x="0" y="259"/>
                  <a:pt x="35" y="361"/>
                  <a:pt x="57" y="428"/>
                </a:cubicBezTo>
                <a:cubicBezTo>
                  <a:pt x="59" y="449"/>
                  <a:pt x="57" y="470"/>
                  <a:pt x="64" y="490"/>
                </a:cubicBezTo>
                <a:cubicBezTo>
                  <a:pt x="74" y="519"/>
                  <a:pt x="124" y="520"/>
                  <a:pt x="147" y="525"/>
                </a:cubicBezTo>
                <a:cubicBezTo>
                  <a:pt x="211" y="564"/>
                  <a:pt x="190" y="633"/>
                  <a:pt x="236" y="670"/>
                </a:cubicBezTo>
                <a:cubicBezTo>
                  <a:pt x="247" y="679"/>
                  <a:pt x="264" y="678"/>
                  <a:pt x="278" y="683"/>
                </a:cubicBezTo>
                <a:cubicBezTo>
                  <a:pt x="574" y="672"/>
                  <a:pt x="406" y="711"/>
                  <a:pt x="505" y="642"/>
                </a:cubicBezTo>
                <a:cubicBezTo>
                  <a:pt x="516" y="610"/>
                  <a:pt x="523" y="602"/>
                  <a:pt x="554" y="587"/>
                </a:cubicBezTo>
                <a:cubicBezTo>
                  <a:pt x="573" y="558"/>
                  <a:pt x="583" y="529"/>
                  <a:pt x="616" y="518"/>
                </a:cubicBezTo>
                <a:close/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6603840" y="1424160"/>
            <a:ext cx="1751040" cy="1565280"/>
          </a:xfrm>
          <a:custGeom>
            <a:avLst/>
            <a:gdLst/>
            <a:ahLst/>
            <a:rect l="l" t="t" r="r" b="b"/>
            <a:pathLst>
              <a:path w="1103" h="986">
                <a:moveTo>
                  <a:pt x="0" y="0"/>
                </a:moveTo>
                <a:cubicBezTo>
                  <a:pt x="13" y="74"/>
                  <a:pt x="9" y="133"/>
                  <a:pt x="0" y="207"/>
                </a:cubicBezTo>
                <a:cubicBezTo>
                  <a:pt x="11" y="252"/>
                  <a:pt x="10" y="278"/>
                  <a:pt x="48" y="303"/>
                </a:cubicBezTo>
                <a:cubicBezTo>
                  <a:pt x="71" y="337"/>
                  <a:pt x="61" y="347"/>
                  <a:pt x="103" y="358"/>
                </a:cubicBezTo>
                <a:cubicBezTo>
                  <a:pt x="105" y="365"/>
                  <a:pt x="107" y="372"/>
                  <a:pt x="110" y="379"/>
                </a:cubicBezTo>
                <a:cubicBezTo>
                  <a:pt x="114" y="387"/>
                  <a:pt x="121" y="392"/>
                  <a:pt x="124" y="400"/>
                </a:cubicBezTo>
                <a:cubicBezTo>
                  <a:pt x="149" y="468"/>
                  <a:pt x="163" y="555"/>
                  <a:pt x="227" y="600"/>
                </a:cubicBezTo>
                <a:cubicBezTo>
                  <a:pt x="266" y="654"/>
                  <a:pt x="243" y="641"/>
                  <a:pt x="282" y="655"/>
                </a:cubicBezTo>
                <a:cubicBezTo>
                  <a:pt x="289" y="662"/>
                  <a:pt x="295" y="671"/>
                  <a:pt x="303" y="676"/>
                </a:cubicBezTo>
                <a:cubicBezTo>
                  <a:pt x="309" y="680"/>
                  <a:pt x="318" y="678"/>
                  <a:pt x="324" y="682"/>
                </a:cubicBezTo>
                <a:cubicBezTo>
                  <a:pt x="339" y="692"/>
                  <a:pt x="350" y="707"/>
                  <a:pt x="365" y="717"/>
                </a:cubicBezTo>
                <a:cubicBezTo>
                  <a:pt x="394" y="761"/>
                  <a:pt x="439" y="791"/>
                  <a:pt x="489" y="800"/>
                </a:cubicBezTo>
                <a:cubicBezTo>
                  <a:pt x="525" y="814"/>
                  <a:pt x="555" y="821"/>
                  <a:pt x="593" y="827"/>
                </a:cubicBezTo>
                <a:cubicBezTo>
                  <a:pt x="644" y="867"/>
                  <a:pt x="593" y="834"/>
                  <a:pt x="675" y="855"/>
                </a:cubicBezTo>
                <a:cubicBezTo>
                  <a:pt x="706" y="863"/>
                  <a:pt x="717" y="891"/>
                  <a:pt x="744" y="903"/>
                </a:cubicBezTo>
                <a:cubicBezTo>
                  <a:pt x="799" y="927"/>
                  <a:pt x="864" y="918"/>
                  <a:pt x="924" y="924"/>
                </a:cubicBezTo>
                <a:cubicBezTo>
                  <a:pt x="956" y="986"/>
                  <a:pt x="1043" y="972"/>
                  <a:pt x="1103" y="972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2673360" y="2181240"/>
            <a:ext cx="31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3745080" y="4010040"/>
            <a:ext cx="31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777000" y="4578480"/>
            <a:ext cx="31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5638680" y="3187800"/>
            <a:ext cx="31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7128000" y="1676520"/>
            <a:ext cx="31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7631280" y="2244600"/>
            <a:ext cx="31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4491000" y="3251160"/>
            <a:ext cx="534960" cy="3110040"/>
          </a:xfrm>
          <a:custGeom>
            <a:avLst/>
            <a:gdLst/>
            <a:ahLst/>
            <a:rect l="l" t="t" r="r" b="b"/>
            <a:pathLst>
              <a:path w="337" h="1959">
                <a:moveTo>
                  <a:pt x="0" y="0"/>
                </a:moveTo>
                <a:cubicBezTo>
                  <a:pt x="19" y="20"/>
                  <a:pt x="65" y="89"/>
                  <a:pt x="75" y="118"/>
                </a:cubicBezTo>
                <a:cubicBezTo>
                  <a:pt x="85" y="145"/>
                  <a:pt x="87" y="169"/>
                  <a:pt x="103" y="194"/>
                </a:cubicBezTo>
                <a:cubicBezTo>
                  <a:pt x="110" y="221"/>
                  <a:pt x="115" y="240"/>
                  <a:pt x="131" y="263"/>
                </a:cubicBezTo>
                <a:cubicBezTo>
                  <a:pt x="147" y="318"/>
                  <a:pt x="160" y="366"/>
                  <a:pt x="193" y="414"/>
                </a:cubicBezTo>
                <a:cubicBezTo>
                  <a:pt x="212" y="508"/>
                  <a:pt x="191" y="398"/>
                  <a:pt x="213" y="601"/>
                </a:cubicBezTo>
                <a:cubicBezTo>
                  <a:pt x="219" y="660"/>
                  <a:pt x="236" y="716"/>
                  <a:pt x="248" y="773"/>
                </a:cubicBezTo>
                <a:cubicBezTo>
                  <a:pt x="255" y="935"/>
                  <a:pt x="263" y="1111"/>
                  <a:pt x="303" y="1270"/>
                </a:cubicBezTo>
                <a:cubicBezTo>
                  <a:pt x="306" y="1305"/>
                  <a:pt x="322" y="1338"/>
                  <a:pt x="324" y="1373"/>
                </a:cubicBezTo>
                <a:cubicBezTo>
                  <a:pt x="332" y="1536"/>
                  <a:pt x="337" y="1777"/>
                  <a:pt x="337" y="1959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 rot="3373800">
            <a:off x="1434600" y="2967120"/>
            <a:ext cx="495360" cy="419040"/>
          </a:xfrm>
          <a:prstGeom prst="rightArrow">
            <a:avLst>
              <a:gd name="adj1" fmla="val 50000"/>
              <a:gd name="adj2" fmla="val 47739"/>
            </a:avLst>
          </a:prstGeom>
          <a:solidFill>
            <a:srgbClr val="9966ff">
              <a:alpha val="5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 rot="3373800">
            <a:off x="1460880" y="4546440"/>
            <a:ext cx="495000" cy="419040"/>
          </a:xfrm>
          <a:prstGeom prst="rightArrow">
            <a:avLst>
              <a:gd name="adj1" fmla="val 50000"/>
              <a:gd name="adj2" fmla="val 47705"/>
            </a:avLst>
          </a:prstGeom>
          <a:solidFill>
            <a:srgbClr val="9966ff">
              <a:alpha val="5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 rot="20454000">
            <a:off x="4482720" y="6121080"/>
            <a:ext cx="495360" cy="419040"/>
          </a:xfrm>
          <a:prstGeom prst="rightArrow">
            <a:avLst>
              <a:gd name="adj1" fmla="val 50000"/>
              <a:gd name="adj2" fmla="val 47739"/>
            </a:avLst>
          </a:prstGeom>
          <a:solidFill>
            <a:srgbClr val="9966ff">
              <a:alpha val="5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 rot="2008800">
            <a:off x="4915080" y="1143000"/>
            <a:ext cx="495000" cy="419040"/>
          </a:xfrm>
          <a:prstGeom prst="rightArrow">
            <a:avLst>
              <a:gd name="adj1" fmla="val 50000"/>
              <a:gd name="adj2" fmla="val 47705"/>
            </a:avLst>
          </a:prstGeom>
          <a:solidFill>
            <a:srgbClr val="9966ff">
              <a:alpha val="5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 rot="2008800">
            <a:off x="6070320" y="1168200"/>
            <a:ext cx="495360" cy="419040"/>
          </a:xfrm>
          <a:prstGeom prst="rightArrow">
            <a:avLst>
              <a:gd name="adj1" fmla="val 50000"/>
              <a:gd name="adj2" fmla="val 47739"/>
            </a:avLst>
          </a:prstGeom>
          <a:solidFill>
            <a:srgbClr val="9966ff">
              <a:alpha val="5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 rot="13462800">
            <a:off x="8140680" y="2958840"/>
            <a:ext cx="495360" cy="419040"/>
          </a:xfrm>
          <a:prstGeom prst="rightArrow">
            <a:avLst>
              <a:gd name="adj1" fmla="val 50000"/>
              <a:gd name="adj2" fmla="val 47739"/>
            </a:avLst>
          </a:prstGeom>
          <a:solidFill>
            <a:srgbClr val="9966ff">
              <a:alpha val="5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5b5d6b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aptura de Datos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Es el procedimiento mediante el que se crea un archivo con las coordenadas de los límites de las entidades espacial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Sus fases son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Definir los </a:t>
            </a:r>
            <a:r>
              <a:rPr b="0" i="1" lang="es-ES_tradnl" sz="2400" spc="-1" strike="noStrike">
                <a:solidFill>
                  <a:srgbClr val="ffffff"/>
                </a:solidFill>
                <a:latin typeface="Tahoma"/>
              </a:rPr>
              <a:t>procedimientos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 y </a:t>
            </a:r>
            <a:r>
              <a:rPr b="0" i="1" lang="es-ES_tradnl" sz="2400" spc="-1" strike="noStrike">
                <a:solidFill>
                  <a:srgbClr val="ffffff"/>
                </a:solidFill>
                <a:latin typeface="Tahoma"/>
              </a:rPr>
              <a:t>esquemas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ahoma"/>
              </a:rPr>
              <a:t>de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ahoma"/>
              </a:rPr>
              <a:t>codificación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 a emplear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Seleccionar las fuentes de dato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Utilizar una mesa digitalizdora o el software SIG para obtener las coordenadas de los vértices de los elementos a digitalizar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blinds dir="ver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"/>
          <p:cNvSpPr/>
          <p:nvPr/>
        </p:nvSpPr>
        <p:spPr>
          <a:xfrm>
            <a:off x="1219320" y="1522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5b5d6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Tahoma"/>
              </a:rPr>
              <a:t>Ej: Errores de “Dibujo”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1906560" y="1587600"/>
            <a:ext cx="6273720" cy="457668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1565280" y="4927680"/>
            <a:ext cx="285840" cy="2952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1589040" y="3284640"/>
            <a:ext cx="241200" cy="30636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4906800" y="6242040"/>
            <a:ext cx="284400" cy="30636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4381560" y="3152880"/>
            <a:ext cx="272880" cy="29664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5016600" y="4554360"/>
            <a:ext cx="272880" cy="29556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5421240" y="1225440"/>
            <a:ext cx="284400" cy="2970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6461280" y="1216080"/>
            <a:ext cx="272880" cy="31752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8256600" y="2813040"/>
            <a:ext cx="263520" cy="28404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6076800" y="3602160"/>
            <a:ext cx="382680" cy="372960"/>
          </a:xfrm>
          <a:prstGeom prst="flowChartDecision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6964200" y="2320920"/>
            <a:ext cx="317520" cy="371520"/>
          </a:xfrm>
          <a:prstGeom prst="flowChartDecision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8015400" y="1808280"/>
            <a:ext cx="307800" cy="338040"/>
          </a:xfrm>
          <a:prstGeom prst="flowChartDecision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1731960" y="1390680"/>
            <a:ext cx="3830760" cy="2233440"/>
          </a:xfrm>
          <a:custGeom>
            <a:avLst/>
            <a:gdLst/>
            <a:ahLst/>
            <a:rect l="l" t="t" r="r" b="b"/>
            <a:pathLst>
              <a:path w="2413" h="1407">
                <a:moveTo>
                  <a:pt x="0" y="1276"/>
                </a:moveTo>
                <a:cubicBezTo>
                  <a:pt x="25" y="1282"/>
                  <a:pt x="55" y="1281"/>
                  <a:pt x="75" y="1297"/>
                </a:cubicBezTo>
                <a:cubicBezTo>
                  <a:pt x="148" y="1355"/>
                  <a:pt x="100" y="1342"/>
                  <a:pt x="186" y="1359"/>
                </a:cubicBezTo>
                <a:cubicBezTo>
                  <a:pt x="245" y="1390"/>
                  <a:pt x="306" y="1397"/>
                  <a:pt x="372" y="1407"/>
                </a:cubicBezTo>
                <a:cubicBezTo>
                  <a:pt x="592" y="1403"/>
                  <a:pt x="701" y="1397"/>
                  <a:pt x="882" y="1379"/>
                </a:cubicBezTo>
                <a:cubicBezTo>
                  <a:pt x="946" y="1361"/>
                  <a:pt x="856" y="1389"/>
                  <a:pt x="924" y="1359"/>
                </a:cubicBezTo>
                <a:cubicBezTo>
                  <a:pt x="982" y="1334"/>
                  <a:pt x="1062" y="1332"/>
                  <a:pt x="1124" y="1324"/>
                </a:cubicBezTo>
                <a:cubicBezTo>
                  <a:pt x="1133" y="1322"/>
                  <a:pt x="1143" y="1321"/>
                  <a:pt x="1151" y="1317"/>
                </a:cubicBezTo>
                <a:cubicBezTo>
                  <a:pt x="1170" y="1307"/>
                  <a:pt x="1186" y="1290"/>
                  <a:pt x="1206" y="1283"/>
                </a:cubicBezTo>
                <a:cubicBezTo>
                  <a:pt x="1243" y="1271"/>
                  <a:pt x="1280" y="1259"/>
                  <a:pt x="1317" y="1248"/>
                </a:cubicBezTo>
                <a:cubicBezTo>
                  <a:pt x="1333" y="1243"/>
                  <a:pt x="1349" y="1239"/>
                  <a:pt x="1365" y="1235"/>
                </a:cubicBezTo>
                <a:cubicBezTo>
                  <a:pt x="1383" y="1230"/>
                  <a:pt x="1420" y="1221"/>
                  <a:pt x="1420" y="1221"/>
                </a:cubicBezTo>
                <a:cubicBezTo>
                  <a:pt x="1454" y="1195"/>
                  <a:pt x="1494" y="1182"/>
                  <a:pt x="1531" y="1159"/>
                </a:cubicBezTo>
                <a:cubicBezTo>
                  <a:pt x="1591" y="1122"/>
                  <a:pt x="1532" y="1155"/>
                  <a:pt x="1572" y="1117"/>
                </a:cubicBezTo>
                <a:cubicBezTo>
                  <a:pt x="1588" y="1102"/>
                  <a:pt x="1621" y="1085"/>
                  <a:pt x="1641" y="1076"/>
                </a:cubicBezTo>
                <a:cubicBezTo>
                  <a:pt x="1659" y="1068"/>
                  <a:pt x="1678" y="1063"/>
                  <a:pt x="1696" y="1055"/>
                </a:cubicBezTo>
                <a:cubicBezTo>
                  <a:pt x="1715" y="1047"/>
                  <a:pt x="1751" y="1028"/>
                  <a:pt x="1751" y="1028"/>
                </a:cubicBezTo>
                <a:cubicBezTo>
                  <a:pt x="1790" y="969"/>
                  <a:pt x="1868" y="959"/>
                  <a:pt x="1917" y="910"/>
                </a:cubicBezTo>
                <a:cubicBezTo>
                  <a:pt x="1971" y="856"/>
                  <a:pt x="1996" y="787"/>
                  <a:pt x="2034" y="724"/>
                </a:cubicBezTo>
                <a:cubicBezTo>
                  <a:pt x="2043" y="681"/>
                  <a:pt x="2054" y="683"/>
                  <a:pt x="2082" y="655"/>
                </a:cubicBezTo>
                <a:cubicBezTo>
                  <a:pt x="2109" y="628"/>
                  <a:pt x="2122" y="596"/>
                  <a:pt x="2144" y="566"/>
                </a:cubicBezTo>
                <a:cubicBezTo>
                  <a:pt x="2153" y="523"/>
                  <a:pt x="2168" y="478"/>
                  <a:pt x="2193" y="441"/>
                </a:cubicBezTo>
                <a:cubicBezTo>
                  <a:pt x="2200" y="400"/>
                  <a:pt x="2216" y="376"/>
                  <a:pt x="2234" y="338"/>
                </a:cubicBezTo>
                <a:cubicBezTo>
                  <a:pt x="2243" y="319"/>
                  <a:pt x="2262" y="283"/>
                  <a:pt x="2262" y="283"/>
                </a:cubicBezTo>
                <a:cubicBezTo>
                  <a:pt x="2268" y="239"/>
                  <a:pt x="2275" y="195"/>
                  <a:pt x="2282" y="152"/>
                </a:cubicBezTo>
                <a:cubicBezTo>
                  <a:pt x="2284" y="143"/>
                  <a:pt x="2283" y="132"/>
                  <a:pt x="2289" y="124"/>
                </a:cubicBezTo>
                <a:cubicBezTo>
                  <a:pt x="2294" y="118"/>
                  <a:pt x="2303" y="119"/>
                  <a:pt x="2310" y="117"/>
                </a:cubicBezTo>
                <a:cubicBezTo>
                  <a:pt x="2315" y="110"/>
                  <a:pt x="2318" y="103"/>
                  <a:pt x="2324" y="97"/>
                </a:cubicBezTo>
                <a:cubicBezTo>
                  <a:pt x="2330" y="91"/>
                  <a:pt x="2340" y="90"/>
                  <a:pt x="2344" y="83"/>
                </a:cubicBezTo>
                <a:cubicBezTo>
                  <a:pt x="2349" y="76"/>
                  <a:pt x="2364" y="20"/>
                  <a:pt x="2372" y="14"/>
                </a:cubicBezTo>
                <a:cubicBezTo>
                  <a:pt x="2384" y="6"/>
                  <a:pt x="2413" y="0"/>
                  <a:pt x="2413" y="0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1763640" y="4697280"/>
            <a:ext cx="3427560" cy="371520"/>
          </a:xfrm>
          <a:custGeom>
            <a:avLst/>
            <a:gdLst/>
            <a:ahLst/>
            <a:rect l="l" t="t" r="r" b="b"/>
            <a:pathLst>
              <a:path w="2159" h="234">
                <a:moveTo>
                  <a:pt x="0" y="228"/>
                </a:moveTo>
                <a:cubicBezTo>
                  <a:pt x="44" y="206"/>
                  <a:pt x="82" y="187"/>
                  <a:pt x="131" y="179"/>
                </a:cubicBezTo>
                <a:cubicBezTo>
                  <a:pt x="140" y="172"/>
                  <a:pt x="149" y="165"/>
                  <a:pt x="159" y="159"/>
                </a:cubicBezTo>
                <a:cubicBezTo>
                  <a:pt x="165" y="155"/>
                  <a:pt x="174" y="157"/>
                  <a:pt x="180" y="152"/>
                </a:cubicBezTo>
                <a:cubicBezTo>
                  <a:pt x="186" y="147"/>
                  <a:pt x="187" y="136"/>
                  <a:pt x="193" y="131"/>
                </a:cubicBezTo>
                <a:cubicBezTo>
                  <a:pt x="203" y="123"/>
                  <a:pt x="241" y="109"/>
                  <a:pt x="255" y="103"/>
                </a:cubicBezTo>
                <a:cubicBezTo>
                  <a:pt x="264" y="99"/>
                  <a:pt x="273" y="94"/>
                  <a:pt x="283" y="90"/>
                </a:cubicBezTo>
                <a:cubicBezTo>
                  <a:pt x="296" y="85"/>
                  <a:pt x="324" y="76"/>
                  <a:pt x="324" y="76"/>
                </a:cubicBezTo>
                <a:cubicBezTo>
                  <a:pt x="352" y="78"/>
                  <a:pt x="379" y="79"/>
                  <a:pt x="407" y="83"/>
                </a:cubicBezTo>
                <a:cubicBezTo>
                  <a:pt x="450" y="89"/>
                  <a:pt x="494" y="120"/>
                  <a:pt x="538" y="131"/>
                </a:cubicBezTo>
                <a:cubicBezTo>
                  <a:pt x="603" y="175"/>
                  <a:pt x="674" y="185"/>
                  <a:pt x="752" y="193"/>
                </a:cubicBezTo>
                <a:cubicBezTo>
                  <a:pt x="763" y="198"/>
                  <a:pt x="774" y="203"/>
                  <a:pt x="786" y="207"/>
                </a:cubicBezTo>
                <a:cubicBezTo>
                  <a:pt x="800" y="212"/>
                  <a:pt x="828" y="221"/>
                  <a:pt x="828" y="221"/>
                </a:cubicBezTo>
                <a:cubicBezTo>
                  <a:pt x="1034" y="212"/>
                  <a:pt x="1237" y="219"/>
                  <a:pt x="1442" y="234"/>
                </a:cubicBezTo>
                <a:cubicBezTo>
                  <a:pt x="1548" y="232"/>
                  <a:pt x="1653" y="234"/>
                  <a:pt x="1759" y="228"/>
                </a:cubicBezTo>
                <a:cubicBezTo>
                  <a:pt x="1786" y="226"/>
                  <a:pt x="1797" y="187"/>
                  <a:pt x="1828" y="179"/>
                </a:cubicBezTo>
                <a:cubicBezTo>
                  <a:pt x="1842" y="138"/>
                  <a:pt x="1906" y="132"/>
                  <a:pt x="1945" y="124"/>
                </a:cubicBezTo>
                <a:cubicBezTo>
                  <a:pt x="1970" y="112"/>
                  <a:pt x="1995" y="100"/>
                  <a:pt x="2021" y="90"/>
                </a:cubicBezTo>
                <a:cubicBezTo>
                  <a:pt x="2034" y="85"/>
                  <a:pt x="2048" y="81"/>
                  <a:pt x="2062" y="76"/>
                </a:cubicBezTo>
                <a:cubicBezTo>
                  <a:pt x="2069" y="74"/>
                  <a:pt x="2083" y="69"/>
                  <a:pt x="2083" y="69"/>
                </a:cubicBezTo>
                <a:cubicBezTo>
                  <a:pt x="2096" y="56"/>
                  <a:pt x="2104" y="39"/>
                  <a:pt x="2118" y="28"/>
                </a:cubicBezTo>
                <a:cubicBezTo>
                  <a:pt x="2131" y="18"/>
                  <a:pt x="2159" y="23"/>
                  <a:pt x="2159" y="0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5286240" y="2933640"/>
            <a:ext cx="1360800" cy="1128600"/>
          </a:xfrm>
          <a:custGeom>
            <a:avLst/>
            <a:gdLst/>
            <a:ahLst/>
            <a:rect l="l" t="t" r="r" b="b"/>
            <a:pathLst>
              <a:path w="857" h="711">
                <a:moveTo>
                  <a:pt x="616" y="518"/>
                </a:moveTo>
                <a:cubicBezTo>
                  <a:pt x="620" y="507"/>
                  <a:pt x="645" y="454"/>
                  <a:pt x="650" y="449"/>
                </a:cubicBezTo>
                <a:cubicBezTo>
                  <a:pt x="655" y="444"/>
                  <a:pt x="664" y="444"/>
                  <a:pt x="671" y="442"/>
                </a:cubicBezTo>
                <a:cubicBezTo>
                  <a:pt x="687" y="426"/>
                  <a:pt x="703" y="410"/>
                  <a:pt x="719" y="394"/>
                </a:cubicBezTo>
                <a:cubicBezTo>
                  <a:pt x="728" y="385"/>
                  <a:pt x="747" y="366"/>
                  <a:pt x="747" y="366"/>
                </a:cubicBezTo>
                <a:cubicBezTo>
                  <a:pt x="756" y="331"/>
                  <a:pt x="771" y="303"/>
                  <a:pt x="802" y="283"/>
                </a:cubicBezTo>
                <a:cubicBezTo>
                  <a:pt x="833" y="239"/>
                  <a:pt x="844" y="204"/>
                  <a:pt x="857" y="152"/>
                </a:cubicBezTo>
                <a:cubicBezTo>
                  <a:pt x="855" y="124"/>
                  <a:pt x="854" y="97"/>
                  <a:pt x="850" y="69"/>
                </a:cubicBezTo>
                <a:cubicBezTo>
                  <a:pt x="849" y="62"/>
                  <a:pt x="849" y="53"/>
                  <a:pt x="843" y="49"/>
                </a:cubicBezTo>
                <a:cubicBezTo>
                  <a:pt x="833" y="43"/>
                  <a:pt x="718" y="3"/>
                  <a:pt x="705" y="0"/>
                </a:cubicBezTo>
                <a:cubicBezTo>
                  <a:pt x="656" y="6"/>
                  <a:pt x="629" y="16"/>
                  <a:pt x="588" y="35"/>
                </a:cubicBezTo>
                <a:cubicBezTo>
                  <a:pt x="575" y="41"/>
                  <a:pt x="547" y="49"/>
                  <a:pt x="547" y="49"/>
                </a:cubicBezTo>
                <a:cubicBezTo>
                  <a:pt x="537" y="49"/>
                  <a:pt x="291" y="26"/>
                  <a:pt x="209" y="35"/>
                </a:cubicBezTo>
                <a:cubicBezTo>
                  <a:pt x="168" y="62"/>
                  <a:pt x="125" y="69"/>
                  <a:pt x="92" y="111"/>
                </a:cubicBezTo>
                <a:cubicBezTo>
                  <a:pt x="82" y="124"/>
                  <a:pt x="76" y="140"/>
                  <a:pt x="64" y="152"/>
                </a:cubicBezTo>
                <a:cubicBezTo>
                  <a:pt x="50" y="166"/>
                  <a:pt x="23" y="194"/>
                  <a:pt x="23" y="194"/>
                </a:cubicBezTo>
                <a:cubicBezTo>
                  <a:pt x="0" y="259"/>
                  <a:pt x="35" y="361"/>
                  <a:pt x="57" y="428"/>
                </a:cubicBezTo>
                <a:cubicBezTo>
                  <a:pt x="59" y="449"/>
                  <a:pt x="57" y="470"/>
                  <a:pt x="64" y="490"/>
                </a:cubicBezTo>
                <a:cubicBezTo>
                  <a:pt x="74" y="519"/>
                  <a:pt x="124" y="520"/>
                  <a:pt x="147" y="525"/>
                </a:cubicBezTo>
                <a:cubicBezTo>
                  <a:pt x="211" y="564"/>
                  <a:pt x="190" y="633"/>
                  <a:pt x="236" y="670"/>
                </a:cubicBezTo>
                <a:cubicBezTo>
                  <a:pt x="247" y="679"/>
                  <a:pt x="264" y="678"/>
                  <a:pt x="278" y="683"/>
                </a:cubicBezTo>
                <a:cubicBezTo>
                  <a:pt x="574" y="672"/>
                  <a:pt x="406" y="711"/>
                  <a:pt x="505" y="642"/>
                </a:cubicBezTo>
                <a:cubicBezTo>
                  <a:pt x="516" y="610"/>
                  <a:pt x="523" y="602"/>
                  <a:pt x="554" y="587"/>
                </a:cubicBezTo>
                <a:cubicBezTo>
                  <a:pt x="573" y="558"/>
                  <a:pt x="583" y="529"/>
                  <a:pt x="616" y="518"/>
                </a:cubicBezTo>
                <a:close/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6603840" y="1424160"/>
            <a:ext cx="1751040" cy="1565280"/>
          </a:xfrm>
          <a:custGeom>
            <a:avLst/>
            <a:gdLst/>
            <a:ahLst/>
            <a:rect l="l" t="t" r="r" b="b"/>
            <a:pathLst>
              <a:path w="1103" h="986">
                <a:moveTo>
                  <a:pt x="0" y="0"/>
                </a:moveTo>
                <a:cubicBezTo>
                  <a:pt x="13" y="74"/>
                  <a:pt x="9" y="133"/>
                  <a:pt x="0" y="207"/>
                </a:cubicBezTo>
                <a:cubicBezTo>
                  <a:pt x="11" y="252"/>
                  <a:pt x="10" y="278"/>
                  <a:pt x="48" y="303"/>
                </a:cubicBezTo>
                <a:cubicBezTo>
                  <a:pt x="71" y="337"/>
                  <a:pt x="61" y="347"/>
                  <a:pt x="103" y="358"/>
                </a:cubicBezTo>
                <a:cubicBezTo>
                  <a:pt x="105" y="365"/>
                  <a:pt x="107" y="372"/>
                  <a:pt x="110" y="379"/>
                </a:cubicBezTo>
                <a:cubicBezTo>
                  <a:pt x="114" y="387"/>
                  <a:pt x="121" y="392"/>
                  <a:pt x="124" y="400"/>
                </a:cubicBezTo>
                <a:cubicBezTo>
                  <a:pt x="149" y="468"/>
                  <a:pt x="163" y="555"/>
                  <a:pt x="227" y="600"/>
                </a:cubicBezTo>
                <a:cubicBezTo>
                  <a:pt x="266" y="654"/>
                  <a:pt x="243" y="641"/>
                  <a:pt x="282" y="655"/>
                </a:cubicBezTo>
                <a:cubicBezTo>
                  <a:pt x="289" y="662"/>
                  <a:pt x="295" y="671"/>
                  <a:pt x="303" y="676"/>
                </a:cubicBezTo>
                <a:cubicBezTo>
                  <a:pt x="309" y="680"/>
                  <a:pt x="318" y="678"/>
                  <a:pt x="324" y="682"/>
                </a:cubicBezTo>
                <a:cubicBezTo>
                  <a:pt x="339" y="692"/>
                  <a:pt x="350" y="707"/>
                  <a:pt x="365" y="717"/>
                </a:cubicBezTo>
                <a:cubicBezTo>
                  <a:pt x="394" y="761"/>
                  <a:pt x="439" y="791"/>
                  <a:pt x="489" y="800"/>
                </a:cubicBezTo>
                <a:cubicBezTo>
                  <a:pt x="525" y="814"/>
                  <a:pt x="555" y="821"/>
                  <a:pt x="593" y="827"/>
                </a:cubicBezTo>
                <a:cubicBezTo>
                  <a:pt x="644" y="867"/>
                  <a:pt x="593" y="834"/>
                  <a:pt x="675" y="855"/>
                </a:cubicBezTo>
                <a:cubicBezTo>
                  <a:pt x="706" y="863"/>
                  <a:pt x="717" y="891"/>
                  <a:pt x="744" y="903"/>
                </a:cubicBezTo>
                <a:cubicBezTo>
                  <a:pt x="799" y="927"/>
                  <a:pt x="864" y="918"/>
                  <a:pt x="924" y="924"/>
                </a:cubicBezTo>
                <a:cubicBezTo>
                  <a:pt x="956" y="986"/>
                  <a:pt x="1043" y="972"/>
                  <a:pt x="1103" y="972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2673360" y="2181240"/>
            <a:ext cx="31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3745080" y="4010040"/>
            <a:ext cx="31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6777000" y="4578480"/>
            <a:ext cx="31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638680" y="3187800"/>
            <a:ext cx="31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7128000" y="1676520"/>
            <a:ext cx="31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7631280" y="2244600"/>
            <a:ext cx="31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491000" y="3251160"/>
            <a:ext cx="534960" cy="3110040"/>
          </a:xfrm>
          <a:custGeom>
            <a:avLst/>
            <a:gdLst/>
            <a:ahLst/>
            <a:rect l="l" t="t" r="r" b="b"/>
            <a:pathLst>
              <a:path w="337" h="1959">
                <a:moveTo>
                  <a:pt x="0" y="0"/>
                </a:moveTo>
                <a:cubicBezTo>
                  <a:pt x="19" y="20"/>
                  <a:pt x="65" y="89"/>
                  <a:pt x="75" y="118"/>
                </a:cubicBezTo>
                <a:cubicBezTo>
                  <a:pt x="85" y="145"/>
                  <a:pt x="87" y="169"/>
                  <a:pt x="103" y="194"/>
                </a:cubicBezTo>
                <a:cubicBezTo>
                  <a:pt x="110" y="221"/>
                  <a:pt x="115" y="240"/>
                  <a:pt x="131" y="263"/>
                </a:cubicBezTo>
                <a:cubicBezTo>
                  <a:pt x="147" y="318"/>
                  <a:pt x="160" y="366"/>
                  <a:pt x="193" y="414"/>
                </a:cubicBezTo>
                <a:cubicBezTo>
                  <a:pt x="212" y="508"/>
                  <a:pt x="191" y="398"/>
                  <a:pt x="213" y="601"/>
                </a:cubicBezTo>
                <a:cubicBezTo>
                  <a:pt x="219" y="660"/>
                  <a:pt x="236" y="716"/>
                  <a:pt x="248" y="773"/>
                </a:cubicBezTo>
                <a:cubicBezTo>
                  <a:pt x="255" y="935"/>
                  <a:pt x="263" y="1111"/>
                  <a:pt x="303" y="1270"/>
                </a:cubicBezTo>
                <a:cubicBezTo>
                  <a:pt x="306" y="1305"/>
                  <a:pt x="322" y="1338"/>
                  <a:pt x="324" y="1373"/>
                </a:cubicBezTo>
                <a:cubicBezTo>
                  <a:pt x="332" y="1536"/>
                  <a:pt x="337" y="1777"/>
                  <a:pt x="337" y="1959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 rot="8647800">
            <a:off x="4572000" y="2984040"/>
            <a:ext cx="495360" cy="419040"/>
          </a:xfrm>
          <a:prstGeom prst="rightArrow">
            <a:avLst>
              <a:gd name="adj1" fmla="val 50000"/>
              <a:gd name="adj2" fmla="val 47739"/>
            </a:avLst>
          </a:prstGeom>
          <a:solidFill>
            <a:srgbClr val="ff3300">
              <a:alpha val="5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rot="12463200">
            <a:off x="4978080" y="4825800"/>
            <a:ext cx="495360" cy="419040"/>
          </a:xfrm>
          <a:prstGeom prst="rightArrow">
            <a:avLst>
              <a:gd name="adj1" fmla="val 50000"/>
              <a:gd name="adj2" fmla="val 47739"/>
            </a:avLst>
          </a:prstGeom>
          <a:solidFill>
            <a:srgbClr val="ff3300">
              <a:alpha val="5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"/>
          <p:cNvSpPr/>
          <p:nvPr/>
        </p:nvSpPr>
        <p:spPr>
          <a:xfrm>
            <a:off x="1219320" y="1522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5b5d6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Tahoma"/>
              </a:rPr>
              <a:t>Ej: Errores de “Dibujo”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1906560" y="1587600"/>
            <a:ext cx="6273720" cy="457668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1565280" y="4927680"/>
            <a:ext cx="285840" cy="2952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1589040" y="3284640"/>
            <a:ext cx="241200" cy="30636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06800" y="6242040"/>
            <a:ext cx="284400" cy="30636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4381560" y="3152880"/>
            <a:ext cx="272880" cy="29664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016600" y="4554360"/>
            <a:ext cx="272880" cy="29556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421240" y="1225440"/>
            <a:ext cx="284400" cy="2970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461280" y="1216080"/>
            <a:ext cx="272880" cy="31752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8256600" y="2813040"/>
            <a:ext cx="263520" cy="28404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6076800" y="3602160"/>
            <a:ext cx="382680" cy="372960"/>
          </a:xfrm>
          <a:prstGeom prst="flowChartDecision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6964200" y="2320920"/>
            <a:ext cx="317520" cy="371520"/>
          </a:xfrm>
          <a:prstGeom prst="flowChartDecision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8015400" y="1808280"/>
            <a:ext cx="307800" cy="338040"/>
          </a:xfrm>
          <a:prstGeom prst="flowChartDecision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1731960" y="1390680"/>
            <a:ext cx="3830760" cy="2233440"/>
          </a:xfrm>
          <a:custGeom>
            <a:avLst/>
            <a:gdLst/>
            <a:ahLst/>
            <a:rect l="l" t="t" r="r" b="b"/>
            <a:pathLst>
              <a:path w="2413" h="1407">
                <a:moveTo>
                  <a:pt x="0" y="1276"/>
                </a:moveTo>
                <a:cubicBezTo>
                  <a:pt x="25" y="1282"/>
                  <a:pt x="55" y="1281"/>
                  <a:pt x="75" y="1297"/>
                </a:cubicBezTo>
                <a:cubicBezTo>
                  <a:pt x="148" y="1355"/>
                  <a:pt x="100" y="1342"/>
                  <a:pt x="186" y="1359"/>
                </a:cubicBezTo>
                <a:cubicBezTo>
                  <a:pt x="245" y="1390"/>
                  <a:pt x="306" y="1397"/>
                  <a:pt x="372" y="1407"/>
                </a:cubicBezTo>
                <a:cubicBezTo>
                  <a:pt x="592" y="1403"/>
                  <a:pt x="701" y="1397"/>
                  <a:pt x="882" y="1379"/>
                </a:cubicBezTo>
                <a:cubicBezTo>
                  <a:pt x="946" y="1361"/>
                  <a:pt x="856" y="1389"/>
                  <a:pt x="924" y="1359"/>
                </a:cubicBezTo>
                <a:cubicBezTo>
                  <a:pt x="982" y="1334"/>
                  <a:pt x="1062" y="1332"/>
                  <a:pt x="1124" y="1324"/>
                </a:cubicBezTo>
                <a:cubicBezTo>
                  <a:pt x="1133" y="1322"/>
                  <a:pt x="1143" y="1321"/>
                  <a:pt x="1151" y="1317"/>
                </a:cubicBezTo>
                <a:cubicBezTo>
                  <a:pt x="1170" y="1307"/>
                  <a:pt x="1186" y="1290"/>
                  <a:pt x="1206" y="1283"/>
                </a:cubicBezTo>
                <a:cubicBezTo>
                  <a:pt x="1243" y="1271"/>
                  <a:pt x="1280" y="1259"/>
                  <a:pt x="1317" y="1248"/>
                </a:cubicBezTo>
                <a:cubicBezTo>
                  <a:pt x="1333" y="1243"/>
                  <a:pt x="1349" y="1239"/>
                  <a:pt x="1365" y="1235"/>
                </a:cubicBezTo>
                <a:cubicBezTo>
                  <a:pt x="1383" y="1230"/>
                  <a:pt x="1420" y="1221"/>
                  <a:pt x="1420" y="1221"/>
                </a:cubicBezTo>
                <a:cubicBezTo>
                  <a:pt x="1454" y="1195"/>
                  <a:pt x="1494" y="1182"/>
                  <a:pt x="1531" y="1159"/>
                </a:cubicBezTo>
                <a:cubicBezTo>
                  <a:pt x="1591" y="1122"/>
                  <a:pt x="1532" y="1155"/>
                  <a:pt x="1572" y="1117"/>
                </a:cubicBezTo>
                <a:cubicBezTo>
                  <a:pt x="1588" y="1102"/>
                  <a:pt x="1621" y="1085"/>
                  <a:pt x="1641" y="1076"/>
                </a:cubicBezTo>
                <a:cubicBezTo>
                  <a:pt x="1659" y="1068"/>
                  <a:pt x="1678" y="1063"/>
                  <a:pt x="1696" y="1055"/>
                </a:cubicBezTo>
                <a:cubicBezTo>
                  <a:pt x="1715" y="1047"/>
                  <a:pt x="1751" y="1028"/>
                  <a:pt x="1751" y="1028"/>
                </a:cubicBezTo>
                <a:cubicBezTo>
                  <a:pt x="1790" y="969"/>
                  <a:pt x="1868" y="959"/>
                  <a:pt x="1917" y="910"/>
                </a:cubicBezTo>
                <a:cubicBezTo>
                  <a:pt x="1971" y="856"/>
                  <a:pt x="1996" y="787"/>
                  <a:pt x="2034" y="724"/>
                </a:cubicBezTo>
                <a:cubicBezTo>
                  <a:pt x="2043" y="681"/>
                  <a:pt x="2054" y="683"/>
                  <a:pt x="2082" y="655"/>
                </a:cubicBezTo>
                <a:cubicBezTo>
                  <a:pt x="2109" y="628"/>
                  <a:pt x="2122" y="596"/>
                  <a:pt x="2144" y="566"/>
                </a:cubicBezTo>
                <a:cubicBezTo>
                  <a:pt x="2153" y="523"/>
                  <a:pt x="2168" y="478"/>
                  <a:pt x="2193" y="441"/>
                </a:cubicBezTo>
                <a:cubicBezTo>
                  <a:pt x="2200" y="400"/>
                  <a:pt x="2216" y="376"/>
                  <a:pt x="2234" y="338"/>
                </a:cubicBezTo>
                <a:cubicBezTo>
                  <a:pt x="2243" y="319"/>
                  <a:pt x="2262" y="283"/>
                  <a:pt x="2262" y="283"/>
                </a:cubicBezTo>
                <a:cubicBezTo>
                  <a:pt x="2268" y="239"/>
                  <a:pt x="2275" y="195"/>
                  <a:pt x="2282" y="152"/>
                </a:cubicBezTo>
                <a:cubicBezTo>
                  <a:pt x="2284" y="143"/>
                  <a:pt x="2283" y="132"/>
                  <a:pt x="2289" y="124"/>
                </a:cubicBezTo>
                <a:cubicBezTo>
                  <a:pt x="2294" y="118"/>
                  <a:pt x="2303" y="119"/>
                  <a:pt x="2310" y="117"/>
                </a:cubicBezTo>
                <a:cubicBezTo>
                  <a:pt x="2315" y="110"/>
                  <a:pt x="2318" y="103"/>
                  <a:pt x="2324" y="97"/>
                </a:cubicBezTo>
                <a:cubicBezTo>
                  <a:pt x="2330" y="91"/>
                  <a:pt x="2340" y="90"/>
                  <a:pt x="2344" y="83"/>
                </a:cubicBezTo>
                <a:cubicBezTo>
                  <a:pt x="2349" y="76"/>
                  <a:pt x="2364" y="20"/>
                  <a:pt x="2372" y="14"/>
                </a:cubicBezTo>
                <a:cubicBezTo>
                  <a:pt x="2384" y="6"/>
                  <a:pt x="2413" y="0"/>
                  <a:pt x="2413" y="0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1763640" y="4697280"/>
            <a:ext cx="3427560" cy="371520"/>
          </a:xfrm>
          <a:custGeom>
            <a:avLst/>
            <a:gdLst/>
            <a:ahLst/>
            <a:rect l="l" t="t" r="r" b="b"/>
            <a:pathLst>
              <a:path w="2159" h="234">
                <a:moveTo>
                  <a:pt x="0" y="228"/>
                </a:moveTo>
                <a:cubicBezTo>
                  <a:pt x="44" y="206"/>
                  <a:pt x="82" y="187"/>
                  <a:pt x="131" y="179"/>
                </a:cubicBezTo>
                <a:cubicBezTo>
                  <a:pt x="140" y="172"/>
                  <a:pt x="149" y="165"/>
                  <a:pt x="159" y="159"/>
                </a:cubicBezTo>
                <a:cubicBezTo>
                  <a:pt x="165" y="155"/>
                  <a:pt x="174" y="157"/>
                  <a:pt x="180" y="152"/>
                </a:cubicBezTo>
                <a:cubicBezTo>
                  <a:pt x="186" y="147"/>
                  <a:pt x="187" y="136"/>
                  <a:pt x="193" y="131"/>
                </a:cubicBezTo>
                <a:cubicBezTo>
                  <a:pt x="203" y="123"/>
                  <a:pt x="241" y="109"/>
                  <a:pt x="255" y="103"/>
                </a:cubicBezTo>
                <a:cubicBezTo>
                  <a:pt x="264" y="99"/>
                  <a:pt x="273" y="94"/>
                  <a:pt x="283" y="90"/>
                </a:cubicBezTo>
                <a:cubicBezTo>
                  <a:pt x="296" y="85"/>
                  <a:pt x="324" y="76"/>
                  <a:pt x="324" y="76"/>
                </a:cubicBezTo>
                <a:cubicBezTo>
                  <a:pt x="352" y="78"/>
                  <a:pt x="379" y="79"/>
                  <a:pt x="407" y="83"/>
                </a:cubicBezTo>
                <a:cubicBezTo>
                  <a:pt x="450" y="89"/>
                  <a:pt x="494" y="120"/>
                  <a:pt x="538" y="131"/>
                </a:cubicBezTo>
                <a:cubicBezTo>
                  <a:pt x="603" y="175"/>
                  <a:pt x="674" y="185"/>
                  <a:pt x="752" y="193"/>
                </a:cubicBezTo>
                <a:cubicBezTo>
                  <a:pt x="763" y="198"/>
                  <a:pt x="774" y="203"/>
                  <a:pt x="786" y="207"/>
                </a:cubicBezTo>
                <a:cubicBezTo>
                  <a:pt x="800" y="212"/>
                  <a:pt x="828" y="221"/>
                  <a:pt x="828" y="221"/>
                </a:cubicBezTo>
                <a:cubicBezTo>
                  <a:pt x="1034" y="212"/>
                  <a:pt x="1237" y="219"/>
                  <a:pt x="1442" y="234"/>
                </a:cubicBezTo>
                <a:cubicBezTo>
                  <a:pt x="1548" y="232"/>
                  <a:pt x="1653" y="234"/>
                  <a:pt x="1759" y="228"/>
                </a:cubicBezTo>
                <a:cubicBezTo>
                  <a:pt x="1786" y="226"/>
                  <a:pt x="1797" y="187"/>
                  <a:pt x="1828" y="179"/>
                </a:cubicBezTo>
                <a:cubicBezTo>
                  <a:pt x="1842" y="138"/>
                  <a:pt x="1906" y="132"/>
                  <a:pt x="1945" y="124"/>
                </a:cubicBezTo>
                <a:cubicBezTo>
                  <a:pt x="1970" y="112"/>
                  <a:pt x="1995" y="100"/>
                  <a:pt x="2021" y="90"/>
                </a:cubicBezTo>
                <a:cubicBezTo>
                  <a:pt x="2034" y="85"/>
                  <a:pt x="2048" y="81"/>
                  <a:pt x="2062" y="76"/>
                </a:cubicBezTo>
                <a:cubicBezTo>
                  <a:pt x="2069" y="74"/>
                  <a:pt x="2083" y="69"/>
                  <a:pt x="2083" y="69"/>
                </a:cubicBezTo>
                <a:cubicBezTo>
                  <a:pt x="2096" y="56"/>
                  <a:pt x="2104" y="39"/>
                  <a:pt x="2118" y="28"/>
                </a:cubicBezTo>
                <a:cubicBezTo>
                  <a:pt x="2131" y="18"/>
                  <a:pt x="2159" y="23"/>
                  <a:pt x="2159" y="0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5286240" y="2933640"/>
            <a:ext cx="1360800" cy="1128600"/>
          </a:xfrm>
          <a:custGeom>
            <a:avLst/>
            <a:gdLst/>
            <a:ahLst/>
            <a:rect l="l" t="t" r="r" b="b"/>
            <a:pathLst>
              <a:path w="857" h="711">
                <a:moveTo>
                  <a:pt x="616" y="518"/>
                </a:moveTo>
                <a:cubicBezTo>
                  <a:pt x="620" y="507"/>
                  <a:pt x="645" y="454"/>
                  <a:pt x="650" y="449"/>
                </a:cubicBezTo>
                <a:cubicBezTo>
                  <a:pt x="655" y="444"/>
                  <a:pt x="664" y="444"/>
                  <a:pt x="671" y="442"/>
                </a:cubicBezTo>
                <a:cubicBezTo>
                  <a:pt x="687" y="426"/>
                  <a:pt x="703" y="410"/>
                  <a:pt x="719" y="394"/>
                </a:cubicBezTo>
                <a:cubicBezTo>
                  <a:pt x="728" y="385"/>
                  <a:pt x="747" y="366"/>
                  <a:pt x="747" y="366"/>
                </a:cubicBezTo>
                <a:cubicBezTo>
                  <a:pt x="756" y="331"/>
                  <a:pt x="771" y="303"/>
                  <a:pt x="802" y="283"/>
                </a:cubicBezTo>
                <a:cubicBezTo>
                  <a:pt x="833" y="239"/>
                  <a:pt x="844" y="204"/>
                  <a:pt x="857" y="152"/>
                </a:cubicBezTo>
                <a:cubicBezTo>
                  <a:pt x="855" y="124"/>
                  <a:pt x="854" y="97"/>
                  <a:pt x="850" y="69"/>
                </a:cubicBezTo>
                <a:cubicBezTo>
                  <a:pt x="849" y="62"/>
                  <a:pt x="849" y="53"/>
                  <a:pt x="843" y="49"/>
                </a:cubicBezTo>
                <a:cubicBezTo>
                  <a:pt x="833" y="43"/>
                  <a:pt x="718" y="3"/>
                  <a:pt x="705" y="0"/>
                </a:cubicBezTo>
                <a:cubicBezTo>
                  <a:pt x="656" y="6"/>
                  <a:pt x="629" y="16"/>
                  <a:pt x="588" y="35"/>
                </a:cubicBezTo>
                <a:cubicBezTo>
                  <a:pt x="575" y="41"/>
                  <a:pt x="547" y="49"/>
                  <a:pt x="547" y="49"/>
                </a:cubicBezTo>
                <a:cubicBezTo>
                  <a:pt x="537" y="49"/>
                  <a:pt x="291" y="26"/>
                  <a:pt x="209" y="35"/>
                </a:cubicBezTo>
                <a:cubicBezTo>
                  <a:pt x="168" y="62"/>
                  <a:pt x="125" y="69"/>
                  <a:pt x="92" y="111"/>
                </a:cubicBezTo>
                <a:cubicBezTo>
                  <a:pt x="82" y="124"/>
                  <a:pt x="76" y="140"/>
                  <a:pt x="64" y="152"/>
                </a:cubicBezTo>
                <a:cubicBezTo>
                  <a:pt x="50" y="166"/>
                  <a:pt x="23" y="194"/>
                  <a:pt x="23" y="194"/>
                </a:cubicBezTo>
                <a:cubicBezTo>
                  <a:pt x="0" y="259"/>
                  <a:pt x="35" y="361"/>
                  <a:pt x="57" y="428"/>
                </a:cubicBezTo>
                <a:cubicBezTo>
                  <a:pt x="59" y="449"/>
                  <a:pt x="57" y="470"/>
                  <a:pt x="64" y="490"/>
                </a:cubicBezTo>
                <a:cubicBezTo>
                  <a:pt x="74" y="519"/>
                  <a:pt x="124" y="520"/>
                  <a:pt x="147" y="525"/>
                </a:cubicBezTo>
                <a:cubicBezTo>
                  <a:pt x="211" y="564"/>
                  <a:pt x="190" y="633"/>
                  <a:pt x="236" y="670"/>
                </a:cubicBezTo>
                <a:cubicBezTo>
                  <a:pt x="247" y="679"/>
                  <a:pt x="264" y="678"/>
                  <a:pt x="278" y="683"/>
                </a:cubicBezTo>
                <a:cubicBezTo>
                  <a:pt x="574" y="672"/>
                  <a:pt x="406" y="711"/>
                  <a:pt x="505" y="642"/>
                </a:cubicBezTo>
                <a:cubicBezTo>
                  <a:pt x="516" y="610"/>
                  <a:pt x="523" y="602"/>
                  <a:pt x="554" y="587"/>
                </a:cubicBezTo>
                <a:cubicBezTo>
                  <a:pt x="573" y="558"/>
                  <a:pt x="583" y="529"/>
                  <a:pt x="616" y="518"/>
                </a:cubicBezTo>
                <a:close/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6603840" y="1424160"/>
            <a:ext cx="1751040" cy="1565280"/>
          </a:xfrm>
          <a:custGeom>
            <a:avLst/>
            <a:gdLst/>
            <a:ahLst/>
            <a:rect l="l" t="t" r="r" b="b"/>
            <a:pathLst>
              <a:path w="1103" h="986">
                <a:moveTo>
                  <a:pt x="0" y="0"/>
                </a:moveTo>
                <a:cubicBezTo>
                  <a:pt x="13" y="74"/>
                  <a:pt x="9" y="133"/>
                  <a:pt x="0" y="207"/>
                </a:cubicBezTo>
                <a:cubicBezTo>
                  <a:pt x="11" y="252"/>
                  <a:pt x="10" y="278"/>
                  <a:pt x="48" y="303"/>
                </a:cubicBezTo>
                <a:cubicBezTo>
                  <a:pt x="71" y="337"/>
                  <a:pt x="61" y="347"/>
                  <a:pt x="103" y="358"/>
                </a:cubicBezTo>
                <a:cubicBezTo>
                  <a:pt x="105" y="365"/>
                  <a:pt x="107" y="372"/>
                  <a:pt x="110" y="379"/>
                </a:cubicBezTo>
                <a:cubicBezTo>
                  <a:pt x="114" y="387"/>
                  <a:pt x="121" y="392"/>
                  <a:pt x="124" y="400"/>
                </a:cubicBezTo>
                <a:cubicBezTo>
                  <a:pt x="149" y="468"/>
                  <a:pt x="163" y="555"/>
                  <a:pt x="227" y="600"/>
                </a:cubicBezTo>
                <a:cubicBezTo>
                  <a:pt x="266" y="654"/>
                  <a:pt x="243" y="641"/>
                  <a:pt x="282" y="655"/>
                </a:cubicBezTo>
                <a:cubicBezTo>
                  <a:pt x="289" y="662"/>
                  <a:pt x="295" y="671"/>
                  <a:pt x="303" y="676"/>
                </a:cubicBezTo>
                <a:cubicBezTo>
                  <a:pt x="309" y="680"/>
                  <a:pt x="318" y="678"/>
                  <a:pt x="324" y="682"/>
                </a:cubicBezTo>
                <a:cubicBezTo>
                  <a:pt x="339" y="692"/>
                  <a:pt x="350" y="707"/>
                  <a:pt x="365" y="717"/>
                </a:cubicBezTo>
                <a:cubicBezTo>
                  <a:pt x="394" y="761"/>
                  <a:pt x="439" y="791"/>
                  <a:pt x="489" y="800"/>
                </a:cubicBezTo>
                <a:cubicBezTo>
                  <a:pt x="525" y="814"/>
                  <a:pt x="555" y="821"/>
                  <a:pt x="593" y="827"/>
                </a:cubicBezTo>
                <a:cubicBezTo>
                  <a:pt x="644" y="867"/>
                  <a:pt x="593" y="834"/>
                  <a:pt x="675" y="855"/>
                </a:cubicBezTo>
                <a:cubicBezTo>
                  <a:pt x="706" y="863"/>
                  <a:pt x="717" y="891"/>
                  <a:pt x="744" y="903"/>
                </a:cubicBezTo>
                <a:cubicBezTo>
                  <a:pt x="799" y="927"/>
                  <a:pt x="864" y="918"/>
                  <a:pt x="924" y="924"/>
                </a:cubicBezTo>
                <a:cubicBezTo>
                  <a:pt x="956" y="986"/>
                  <a:pt x="1043" y="972"/>
                  <a:pt x="1103" y="972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2673360" y="2181240"/>
            <a:ext cx="31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3745080" y="4010040"/>
            <a:ext cx="31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6777000" y="4578480"/>
            <a:ext cx="31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638680" y="3187800"/>
            <a:ext cx="31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7128000" y="1676520"/>
            <a:ext cx="31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631280" y="2244600"/>
            <a:ext cx="31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4491000" y="3251160"/>
            <a:ext cx="534960" cy="3110040"/>
          </a:xfrm>
          <a:custGeom>
            <a:avLst/>
            <a:gdLst/>
            <a:ahLst/>
            <a:rect l="l" t="t" r="r" b="b"/>
            <a:pathLst>
              <a:path w="337" h="1959">
                <a:moveTo>
                  <a:pt x="0" y="0"/>
                </a:moveTo>
                <a:cubicBezTo>
                  <a:pt x="19" y="20"/>
                  <a:pt x="65" y="89"/>
                  <a:pt x="75" y="118"/>
                </a:cubicBezTo>
                <a:cubicBezTo>
                  <a:pt x="85" y="145"/>
                  <a:pt x="87" y="169"/>
                  <a:pt x="103" y="194"/>
                </a:cubicBezTo>
                <a:cubicBezTo>
                  <a:pt x="110" y="221"/>
                  <a:pt x="115" y="240"/>
                  <a:pt x="131" y="263"/>
                </a:cubicBezTo>
                <a:cubicBezTo>
                  <a:pt x="147" y="318"/>
                  <a:pt x="160" y="366"/>
                  <a:pt x="193" y="414"/>
                </a:cubicBezTo>
                <a:cubicBezTo>
                  <a:pt x="212" y="508"/>
                  <a:pt x="191" y="398"/>
                  <a:pt x="213" y="601"/>
                </a:cubicBezTo>
                <a:cubicBezTo>
                  <a:pt x="219" y="660"/>
                  <a:pt x="236" y="716"/>
                  <a:pt x="248" y="773"/>
                </a:cubicBezTo>
                <a:cubicBezTo>
                  <a:pt x="255" y="935"/>
                  <a:pt x="263" y="1111"/>
                  <a:pt x="303" y="1270"/>
                </a:cubicBezTo>
                <a:cubicBezTo>
                  <a:pt x="306" y="1305"/>
                  <a:pt x="322" y="1338"/>
                  <a:pt x="324" y="1373"/>
                </a:cubicBezTo>
                <a:cubicBezTo>
                  <a:pt x="332" y="1536"/>
                  <a:pt x="337" y="1777"/>
                  <a:pt x="337" y="1959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rot="8647800">
            <a:off x="7353360" y="1485720"/>
            <a:ext cx="495360" cy="419040"/>
          </a:xfrm>
          <a:prstGeom prst="rightArrow">
            <a:avLst>
              <a:gd name="adj1" fmla="val 50000"/>
              <a:gd name="adj2" fmla="val 47739"/>
            </a:avLst>
          </a:prstGeom>
          <a:solidFill>
            <a:srgbClr val="0000ff">
              <a:alpha val="5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rot="10039800">
            <a:off x="7899480" y="2171880"/>
            <a:ext cx="495360" cy="419040"/>
          </a:xfrm>
          <a:prstGeom prst="rightArrow">
            <a:avLst>
              <a:gd name="adj1" fmla="val 50000"/>
              <a:gd name="adj2" fmla="val 47739"/>
            </a:avLst>
          </a:prstGeom>
          <a:solidFill>
            <a:srgbClr val="0000ff">
              <a:alpha val="5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 rot="18232800">
            <a:off x="3911400" y="3251160"/>
            <a:ext cx="495360" cy="419400"/>
          </a:xfrm>
          <a:prstGeom prst="rightArrow">
            <a:avLst>
              <a:gd name="adj1" fmla="val 50000"/>
              <a:gd name="adj2" fmla="val 47698"/>
            </a:avLst>
          </a:prstGeom>
          <a:solidFill>
            <a:srgbClr val="0000ff">
              <a:alpha val="5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Tahoma"/>
              </a:rPr>
              <a:t>4. Atributació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En esta etapa, se construyen las tablas de atributos que se asignan a cada uno de los objetos espaciales digitalizados y corregido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De esta manera, empleando el USER-ID, asignado, es posible agregar a la base de datos una gran cantidad de atributos para todos los objetos que forman parte del layer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blinds dir="ver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5b5d6b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Tahoma"/>
              </a:rPr>
              <a:t>Errores de Atributació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Surgen con posterioridad a la asignación de los atributos a las entidades espacial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Se producen por problemas en la digitación de los identificadores de usuari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Los más repetidos so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Puntos, líneas y polígonos sin identificado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Líneas fuera de secuenci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Polígonos con más de un labe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blinds dir="ver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5b5d6b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Otras fuentes de dato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tra fuente de información en formato digital, corresponde al escaneo de imágen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l escaneo, es un proceso mediante el cual un dispositivo (scanner) recorre la superficie de una imagen, registrando, mediante una serie de sensores, los valores de intensidad luminosa existentes en la imagen escanead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blinds dir="ver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"/>
          <p:cNvSpPr/>
          <p:nvPr/>
        </p:nvSpPr>
        <p:spPr>
          <a:xfrm>
            <a:off x="457200" y="2286000"/>
            <a:ext cx="8381880" cy="2743200"/>
          </a:xfrm>
          <a:prstGeom prst="rect">
            <a:avLst/>
          </a:prstGeom>
          <a:solidFill>
            <a:srgbClr val="5a5c6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5b5d6b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El escaneo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88" name=""/>
          <p:cNvSpPr/>
          <p:nvPr/>
        </p:nvSpPr>
        <p:spPr>
          <a:xfrm>
            <a:off x="2590920" y="4267080"/>
            <a:ext cx="4135320" cy="0"/>
          </a:xfrm>
          <a:prstGeom prst="line">
            <a:avLst/>
          </a:prstGeom>
          <a:ln w="101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2652840" y="2978280"/>
            <a:ext cx="536400" cy="412560"/>
          </a:xfrm>
          <a:prstGeom prst="rect">
            <a:avLst/>
          </a:prstGeom>
          <a:solidFill>
            <a:srgbClr val="5a5c6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5472000" y="3281400"/>
            <a:ext cx="1314720" cy="322200"/>
          </a:xfrm>
          <a:prstGeom prst="rightArrow">
            <a:avLst>
              <a:gd name="adj1" fmla="val 50000"/>
              <a:gd name="adj2" fmla="val 122035"/>
            </a:avLst>
          </a:prstGeom>
          <a:solidFill>
            <a:srgbClr val="9383b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2682720" y="3224160"/>
            <a:ext cx="292320" cy="27612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3232080" y="3160800"/>
            <a:ext cx="550800" cy="215640"/>
          </a:xfrm>
          <a:prstGeom prst="rect">
            <a:avLst/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2828880" y="3556080"/>
            <a:ext cx="0" cy="6588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 flipV="1">
            <a:off x="2851200" y="3452760"/>
            <a:ext cx="809640" cy="7444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6869160" y="4025880"/>
            <a:ext cx="12481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ag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1031400" y="2911320"/>
            <a:ext cx="162000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ente 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u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3499560" y="2604960"/>
            <a:ext cx="1417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tect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5436720" y="2744640"/>
            <a:ext cx="3177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irección de Ava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5b5d6b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Una imagen escaneada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700" name="" descr=""/>
          <p:cNvPicPr/>
          <p:nvPr/>
        </p:nvPicPr>
        <p:blipFill>
          <a:blip r:embed="rId1"/>
          <a:stretch/>
        </p:blipFill>
        <p:spPr>
          <a:xfrm>
            <a:off x="136440" y="1844640"/>
            <a:ext cx="4524480" cy="4479840"/>
          </a:xfrm>
          <a:prstGeom prst="rect">
            <a:avLst/>
          </a:prstGeom>
          <a:ln w="0">
            <a:noFill/>
          </a:ln>
        </p:spPr>
      </p:pic>
      <p:sp>
        <p:nvSpPr>
          <p:cNvPr id="701" name=""/>
          <p:cNvSpPr/>
          <p:nvPr/>
        </p:nvSpPr>
        <p:spPr>
          <a:xfrm>
            <a:off x="3268800" y="4059360"/>
            <a:ext cx="504720" cy="446040"/>
          </a:xfrm>
          <a:prstGeom prst="rect">
            <a:avLst/>
          </a:prstGeom>
          <a:noFill/>
          <a:ln w="12600">
            <a:solidFill>
              <a:srgbClr val="5b5d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 flipV="1">
            <a:off x="3786120" y="2736720"/>
            <a:ext cx="3141720" cy="1324080"/>
          </a:xfrm>
          <a:prstGeom prst="line">
            <a:avLst/>
          </a:prstGeom>
          <a:ln w="12600">
            <a:solidFill>
              <a:srgbClr val="5b5d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 flipV="1">
            <a:off x="3267000" y="2706480"/>
            <a:ext cx="2685960" cy="1353960"/>
          </a:xfrm>
          <a:prstGeom prst="line">
            <a:avLst/>
          </a:prstGeom>
          <a:ln w="12600">
            <a:solidFill>
              <a:srgbClr val="5b5d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 flipV="1">
            <a:off x="3282840" y="3697200"/>
            <a:ext cx="2684520" cy="804960"/>
          </a:xfrm>
          <a:prstGeom prst="line">
            <a:avLst/>
          </a:prstGeom>
          <a:ln w="12600">
            <a:solidFill>
              <a:srgbClr val="5b5d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3800520" y="3697200"/>
            <a:ext cx="3187800" cy="835200"/>
          </a:xfrm>
          <a:prstGeom prst="line">
            <a:avLst/>
          </a:prstGeom>
          <a:ln w="12600">
            <a:solidFill>
              <a:srgbClr val="5b5d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06" name="" descr=""/>
          <p:cNvPicPr/>
          <p:nvPr/>
        </p:nvPicPr>
        <p:blipFill>
          <a:blip r:embed="rId2"/>
          <a:stretch/>
        </p:blipFill>
        <p:spPr>
          <a:xfrm>
            <a:off x="5964120" y="2703600"/>
            <a:ext cx="1040040" cy="973080"/>
          </a:xfrm>
          <a:prstGeom prst="rect">
            <a:avLst/>
          </a:prstGeom>
          <a:ln w="12600">
            <a:solidFill>
              <a:srgbClr val="5b5d6b"/>
            </a:solidFill>
            <a:miter/>
          </a:ln>
        </p:spPr>
      </p:pic>
    </p:spTree>
  </p:cSld>
  <p:transition>
    <p:blinds dir="ver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5b5d6b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Procesos Involucrado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Escaneo de la imag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Realces y correccion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Conversión a formato del SI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Georreferenc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Utilización para digitaliza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Definir los procedimientos y Esquemas de Codificació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stablecer una secuencia de procedimiento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53760" indent="-25128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amiliarizar al personal con el trabaj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53760" indent="-25128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acilitar la búsqueda de informació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53760" indent="-25128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aber a quién pregunta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stablecer una secuencia de digitalización tanto respecto de los objetos geográficos, como de los mapas a digitalizar (CONTROL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1. Preparar los manuscrito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yuda a minimizar problemas en la etapa de digitalización y también en la etapa de edición, minimizando la cantidad de veces en que el digitalizador debe detener su trabaj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lgunas guías para preparar los manuscritos so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Guías para una buena digitalizació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Utilizar BUENOS map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En buenas condiciones, limpios y legibles, no enrrollados o arrugado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Emplear materiales que no sufran distorsión (Mylar o Poliéster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Identificar </a:t>
            </a:r>
            <a:r>
              <a:rPr b="0" i="1" lang="es-ES_tradnl" sz="3200" spc="-1" strike="noStrike">
                <a:solidFill>
                  <a:srgbClr val="ffffff"/>
                </a:solidFill>
                <a:latin typeface="Tahoma"/>
              </a:rPr>
              <a:t>Puntos de Control</a:t>
            </a: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, cuyas </a:t>
            </a:r>
            <a:r>
              <a:rPr b="0" lang="es-ES_tradnl" sz="3200" spc="-1" strike="noStrike" u="sng">
                <a:solidFill>
                  <a:srgbClr val="ffffff"/>
                </a:solidFill>
                <a:uFillTx/>
                <a:latin typeface="Tahoma"/>
              </a:rPr>
              <a:t>coordenadas reales sean conocidas</a:t>
            </a: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, y que puedan ser identificadas en todos los manuscrito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Guías para una buena digitalizació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Dibujar un nuevo borde, un poco más grande que el borde real del área, y extender las líneas un poco, para asegurar que los diferentes objetos sean incluidos completamente dentro de la base de dato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Donde las líneas no se intersectan claramente, indicar una intersección definida, marcando un nodo en el manuscrito.  (</a:t>
            </a:r>
            <a:r>
              <a:rPr b="0" i="1" lang="es-ES_tradnl" sz="2800" spc="-1" strike="noStrike">
                <a:solidFill>
                  <a:srgbClr val="ffffff"/>
                </a:solidFill>
                <a:latin typeface="Tahoma"/>
              </a:rPr>
              <a:t>Intersecciones consistentes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Guías para una buena digitalizació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rcar nodos en los arcos largos.  La precisión aumenta cuando se mantiene la atención en tramos corto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dicar nodos de partida y fin en los polígonos isla.  Se asegura que dichos polígonos comiencen y terminen en el mismo punt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segurarse que todos los polígonos estén cerrados, y que tengan un identificador únic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2. Digitalizar los mapa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Emplear la mesa para redibujar todos los objetos geográficos contenidos en los mapa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Paso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Digitalizar los puntos de contro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Evaluar el error posicional, empleando el RM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Digitalizar los arc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Atributar los objetos digitalizado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9-22T10:01:20Z</dcterms:created>
  <dc:creator>MIGUEL CASTILLO SOTO</dc:creator>
  <dc:description/>
  <dc:language>en-US</dc:language>
  <cp:lastModifiedBy>MECS</cp:lastModifiedBy>
  <dcterms:modified xsi:type="dcterms:W3CDTF">2009-03-31T19:55:44Z</dcterms:modified>
  <cp:revision>36</cp:revision>
  <dc:subject>SISTEMAS DE INFORMACIÓN GEOGRÁFICA 2009</dc:subject>
  <dc:title>Clase 4- Digitalizacion</dc:title>
</cp:coreProperties>
</file>