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3B6-1A7B-43E9-B248-1BFB46D7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5B4-F6D6-447D-BE87-79B09CE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F51-63B4-4A5B-B36D-1AFE8F56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679-10D9-4F15-A8A6-1D42E8FA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D81-E65C-4CF7-A23C-F03F375F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AEC-F63D-4A57-A5E1-BBAF6D1B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8E7-7937-42FB-A13D-5B28145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14A-73F3-41BF-B36F-5E29231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AB8-AFC9-4A76-800C-3883D9AF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D2E-9603-4C2E-91FA-6C7C3367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618-6066-4FE8-8786-33A45F80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989-7230-4F4E-9EB2-C6B0615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57A-78BB-4419-A45D-0F03CFCADBA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D:/disco-d/Cs/portadamapa/portadamapas.htm" TargetMode="External"/><Relationship Id="rId3" Type="http://schemas.openxmlformats.org/officeDocument/2006/relationships/hyperlink" Target="file:///D:/disco-d/BSh/portadamapa/portadamapas.htm" TargetMode="External"/><Relationship Id="rId4" Type="http://schemas.openxmlformats.org/officeDocument/2006/relationships/hyperlink" Target="file:///D:/disco-d/Bwh/portadamapa/portadamapas.htm" TargetMode="External"/><Relationship Id="rId5" Type="http://schemas.openxmlformats.org/officeDocument/2006/relationships/hyperlink" Target="file:///D:/disco-d/Am/portadamapa/portadamapas.htm" TargetMode="External"/><Relationship Id="rId6" Type="http://schemas.openxmlformats.org/officeDocument/2006/relationships/hyperlink" Target="file:///D:/disco-d/BSh/portadamapa/portadamapas.htm" TargetMode="External"/><Relationship Id="rId7" Type="http://schemas.openxmlformats.org/officeDocument/2006/relationships/hyperlink" Target="file:///D:/disco-d/Aw/portadamapa/portadamapas.htm" TargetMode="External"/><Relationship Id="rId8" Type="http://schemas.openxmlformats.org/officeDocument/2006/relationships/hyperlink" Target="file:///D:/disco-d/BSh/portadamapa/portadamapas.htm" TargetMode="External"/><Relationship Id="rId9" Type="http://schemas.openxmlformats.org/officeDocument/2006/relationships/hyperlink" Target="file:///D:/disco-d/ET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f/portadamapa/portadamapas.htm" TargetMode="External"/><Relationship Id="rId12" Type="http://schemas.openxmlformats.org/officeDocument/2006/relationships/hyperlink" Target="file:///D:/disco-d/ET/portadamapa/portadamapas.htm" TargetMode="External"/><Relationship Id="rId13" Type="http://schemas.openxmlformats.org/officeDocument/2006/relationships/hyperlink" Target="file:///D:/disco-d/ET/portadamapa/portadamapas.htm" TargetMode="External"/><Relationship Id="rId14" Type="http://schemas.openxmlformats.org/officeDocument/2006/relationships/hyperlink" Target="file:///D:/disco-d/BSh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w/portadamapa/portadamapas.htm" TargetMode="External"/><Relationship Id="rId17" Type="http://schemas.openxmlformats.org/officeDocument/2006/relationships/hyperlink" Target="file:///D:/disco-d/Af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BSh/portadamapa/portadamapas.htm" TargetMode="External"/><Relationship Id="rId20" Type="http://schemas.openxmlformats.org/officeDocument/2006/relationships/hyperlink" Target="file:///D:/disco-d/Cw/portadamapa/portadamapas.htm" TargetMode="External"/><Relationship Id="rId21" Type="http://schemas.openxmlformats.org/officeDocument/2006/relationships/hyperlink" Target="file:///D:/disco-d/Cf/portadamapa/portadamapas.htm" TargetMode="External"/><Relationship Id="rId22" Type="http://schemas.openxmlformats.org/officeDocument/2006/relationships/hyperlink" Target="file:///D:/disco-d/BSh/portadamapa/portadamapas.htm" TargetMode="External"/><Relationship Id="rId23" Type="http://schemas.openxmlformats.org/officeDocument/2006/relationships/hyperlink" Target="file:///D:/disco-d/Bwh/portadamapa/portadamapas.htm" TargetMode="External"/><Relationship Id="rId24" Type="http://schemas.openxmlformats.org/officeDocument/2006/relationships/hyperlink" Target="file:///D:/disco-d/Cs/portadamapa/portadamapas.htm" TargetMode="External"/><Relationship Id="rId25" Type="http://schemas.openxmlformats.org/officeDocument/2006/relationships/hyperlink" Target="file:///D:/disco-d/Bwh/portadamapa/portadamapas.htm" TargetMode="External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image" Target="../media/image18.png"/><Relationship Id="rId9" Type="http://schemas.openxmlformats.org/officeDocument/2006/relationships/hyperlink" Target="file:///D:/disco-d/BSh/portadamapa/portadamapas.htm" TargetMode="External"/><Relationship Id="rId10" Type="http://schemas.openxmlformats.org/officeDocument/2006/relationships/hyperlink" Target="file:///D:/disco-d/Bwh/portadamapa/portadamapas.htm" TargetMode="External"/><Relationship Id="rId11" Type="http://schemas.openxmlformats.org/officeDocument/2006/relationships/hyperlink" Target="file:///D:/disco-d/Aw/portadamapa/portadamapas.htm" TargetMode="External"/><Relationship Id="rId12" Type="http://schemas.openxmlformats.org/officeDocument/2006/relationships/hyperlink" Target="file:///D:/disco-d/Am/portadamapa/portadamapas.htm" TargetMode="External"/><Relationship Id="rId13" Type="http://schemas.openxmlformats.org/officeDocument/2006/relationships/hyperlink" Target="file:///D:/disco-d/Af/portadamapa/portadamapas.htm" TargetMode="External"/><Relationship Id="rId14" Type="http://schemas.openxmlformats.org/officeDocument/2006/relationships/hyperlink" Target="file:///D:/disco-d/Aw/portadamapa/portadamapas.htm" TargetMode="External"/><Relationship Id="rId15" Type="http://schemas.openxmlformats.org/officeDocument/2006/relationships/hyperlink" Target="file:///D:/disco-d/BSh/portadamapa/portadamapas.htm" TargetMode="External"/><Relationship Id="rId16" Type="http://schemas.openxmlformats.org/officeDocument/2006/relationships/hyperlink" Target="file:///D:/disco-d/Af/portadamapa/portadamapas.htm" TargetMode="External"/><Relationship Id="rId17" Type="http://schemas.openxmlformats.org/officeDocument/2006/relationships/hyperlink" Target="file:///D:/disco-d/BSh/portadamapa/portadamapas.htm" TargetMode="External"/><Relationship Id="rId18" Type="http://schemas.openxmlformats.org/officeDocument/2006/relationships/hyperlink" Target="file:///D:/disco-d/Aw/portadamapa/portadamapas.htm" TargetMode="External"/><Relationship Id="rId19" Type="http://schemas.openxmlformats.org/officeDocument/2006/relationships/hyperlink" Target="file:///D:/disco-d/Aw/portadamapa/portadamapas.htm" TargetMode="External"/><Relationship Id="rId20" Type="http://schemas.openxmlformats.org/officeDocument/2006/relationships/hyperlink" Target="file:///D:/disco-d/Af/portadamapa/portadamapas.htm" TargetMode="External"/><Relationship Id="rId21" Type="http://schemas.openxmlformats.org/officeDocument/2006/relationships/hyperlink" Target="file:///D:/disco-d/Am/portadamapa/portadamapas.htm" TargetMode="External"/><Relationship Id="rId22" Type="http://schemas.openxmlformats.org/officeDocument/2006/relationships/hyperlink" Target="file:///D:/disco-d/Bwh/portadamapa/portadamapas.htm" TargetMode="External"/><Relationship Id="rId23" Type="http://schemas.openxmlformats.org/officeDocument/2006/relationships/hyperlink" Target="file:///D:/disco-d/ET/portadamapa/portadamapas.htm" TargetMode="External"/><Relationship Id="rId24" Type="http://schemas.openxmlformats.org/officeDocument/2006/relationships/hyperlink" Target="file:///D:/disco-d/Cf/portadamapa/portadamapas.htm" TargetMode="External"/><Relationship Id="rId25" Type="http://schemas.openxmlformats.org/officeDocument/2006/relationships/hyperlink" Target="file:///D:/disco-d/Cw/portadamapa/portadamapas.htm" TargetMode="External"/><Relationship Id="rId26" Type="http://schemas.openxmlformats.org/officeDocument/2006/relationships/hyperlink" Target="file:///D:/disco-d/Cf/portadamapa/portadamapas.htm" TargetMode="External"/><Relationship Id="rId27" Type="http://schemas.openxmlformats.org/officeDocument/2006/relationships/hyperlink" Target="file:///D:/disco-d/BSh/portadamapa/portadamapas.htm" TargetMode="External"/><Relationship Id="rId28" Type="http://schemas.openxmlformats.org/officeDocument/2006/relationships/hyperlink" Target="file:///D:/disco-d/BSh/portadamapa/portadamapas.htm" TargetMode="External"/><Relationship Id="rId29" Type="http://schemas.openxmlformats.org/officeDocument/2006/relationships/hyperlink" Target="file:///D:/disco-d/Cs/portadamapa/portadamapas.htm" TargetMode="External"/><Relationship Id="rId30" Type="http://schemas.openxmlformats.org/officeDocument/2006/relationships/hyperlink" Target="file:///D:/disco-d/Cf/portadamapa/portadamapas.htm" TargetMode="External"/><Relationship Id="rId31" Type="http://schemas.openxmlformats.org/officeDocument/2006/relationships/hyperlink" Target="file:///D:/disco-d/BWk/portadamapa/portadamapas.htm" TargetMode="External"/><Relationship Id="rId32" Type="http://schemas.openxmlformats.org/officeDocument/2006/relationships/hyperlink" Target="file:///D:/disco-d/BSh/portadamapa/portadamapas.htm" TargetMode="External"/><Relationship Id="rId33" Type="http://schemas.openxmlformats.org/officeDocument/2006/relationships/hyperlink" Target="file:///D:/disco-d/Cf/portadamapa/portadamapas.htm" TargetMode="External"/><Relationship Id="rId34" Type="http://schemas.openxmlformats.org/officeDocument/2006/relationships/image" Target="../media/image15.png"/><Relationship Id="rId35" Type="http://schemas.openxmlformats.org/officeDocument/2006/relationships/image" Target="../media/image16.png"/><Relationship Id="rId3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erra.es/personal/jesusconde/Koppen/Af/news.html" TargetMode="External"/><Relationship Id="rId2" Type="http://schemas.openxmlformats.org/officeDocument/2006/relationships/hyperlink" Target="http://www.terra.es/personal/jesusconde/Koppen/Af/services.html" TargetMode="External"/><Relationship Id="rId3" Type="http://schemas.openxmlformats.org/officeDocument/2006/relationships/hyperlink" Target="http://www.terra.es/personal/jesusconde/Koppen/Af/about.html" TargetMode="External"/><Relationship Id="rId4" Type="http://schemas.openxmlformats.org/officeDocument/2006/relationships/hyperlink" Target="http://www.terra.es/personal/jesusconde/Koppen/Af/localizacion.htm" TargetMode="External"/><Relationship Id="rId5" Type="http://schemas.openxmlformats.org/officeDocument/2006/relationships/hyperlink" Target="http://www.terra.es/personal/jesusconde/Koppen/Af/links.html" TargetMode="External"/><Relationship Id="rId6" Type="http://schemas.openxmlformats.org/officeDocument/2006/relationships/hyperlink" Target="http://www.terra.es/personal/jesusconde/Koppen/Af/guest.html" TargetMode="External"/><Relationship Id="rId7" Type="http://schemas.openxmlformats.org/officeDocument/2006/relationships/hyperlink" Target="http://www.terra.es/personal/jesusconde/Koppen/mapamundo.htm" TargetMode="External"/><Relationship Id="rId8" Type="http://schemas.openxmlformats.org/officeDocument/2006/relationships/hyperlink" Target="http://www.terra.es/personal/jesusconde/Koppen/Cs/news.html" TargetMode="External"/><Relationship Id="rId9" Type="http://schemas.openxmlformats.org/officeDocument/2006/relationships/hyperlink" Target="http://www.terra.es/personal/jesusconde/Koppen/Cs/services.html" TargetMode="External"/><Relationship Id="rId10" Type="http://schemas.openxmlformats.org/officeDocument/2006/relationships/hyperlink" Target="http://www.terra.es/personal/jesusconde/Koppen/Cs/about.html" TargetMode="External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ASIFICACION CLIMA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según precipit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Clasificaciones Empír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57200"/>
            <a:ext cx="35812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ULTAD CS.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EDRA GEOGRAFIA FI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. JUAN CALDENT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548640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5562720"/>
            <a:ext cx="380880" cy="380880"/>
          </a:xfrm>
          <a:prstGeom prst="rect">
            <a:avLst/>
          </a:prstGeom>
          <a:solidFill>
            <a:srgbClr val="a78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172200"/>
            <a:ext cx="380880" cy="380880"/>
          </a:xfrm>
          <a:prstGeom prst="rect">
            <a:avLst/>
          </a:prstGeom>
          <a:solidFill>
            <a:srgbClr val="4412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638680"/>
            <a:ext cx="380880" cy="381240"/>
          </a:xfrm>
          <a:prstGeom prst="rect">
            <a:avLst/>
          </a:prstGeom>
          <a:solidFill>
            <a:srgbClr val="f67e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B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eco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8224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vaporación excede la precipitación sobre  un promedio anual, de manera que no hay excedente hídrico  y no se originan cursos permanentes de aguas (río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precipitación anual debe ser menor que dos veces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S : “Estepa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árido caracterizado por sus prader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sértic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, árido con pp anual inferior a 40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52578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cáli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erto f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cál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pa f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5257800"/>
            <a:ext cx="380880" cy="336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038480" y="5257800"/>
            <a:ext cx="381240" cy="3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86728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867280"/>
            <a:ext cx="380880" cy="304920"/>
          </a:xfrm>
          <a:prstGeom prst="rect">
            <a:avLst/>
          </a:prstGeom>
          <a:solidFill>
            <a:srgbClr val="bb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C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 Templado Lluvioso ” (mes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600200"/>
            <a:ext cx="83055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as frío esta entre -3ºC y 18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cálido debe ser superior a 10º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s climas de este tipo presentan una estación invernal y otra esti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w : “Invierno seco”,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invier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s : “Verano seco caluros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30 mm (en vera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Cf : “Constantemente húmedo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30 m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51814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emente húme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vierno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terr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257800" y="5181480"/>
            <a:ext cx="457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mas Zona D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“Boreal o de nieve y bosque”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(microtérmicos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01680"/>
            <a:ext cx="8153280" cy="38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º media del mes más frío es  inferior a -3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o la T° media del más cálido debe superar medio supera los 1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terma que coincide aproximadamente con el limite septentrional de crecimiento del bosq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f : “Invierno húmed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hay estación se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w: “Invierno frío y seco”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luvia periódica en vera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5410080"/>
            <a:ext cx="45720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19920"/>
            <a:ext cx="457200" cy="380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frío y 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erno hú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“Polares o de Niev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76520"/>
            <a:ext cx="83818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promedio de la Tº del mes más cálido esta por debajo de los 10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os climas no presentan verdaderos veran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s caracterís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T: “ Tundra ”,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 (cal) &gt;= 0º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F: “ Nieves perpetuas ” 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 de los casque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glaciares t&lt;0ºc todos l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meses del añ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57200" cy="403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5280" y="539604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ves perpet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251280"/>
            <a:ext cx="813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os climas A, C y D proporcionan suficiente calor y precipitaciones para que crezcan selvas altas y montes baj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La 2ª letra sirve para diferenciar mejor los grandes grupos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H   Efecto de altur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9640" y="2276640"/>
          <a:ext cx="8280360" cy="4176720"/>
        </p:xfrm>
        <a:graphic>
          <a:graphicData uri="http://schemas.openxmlformats.org/drawingml/2006/table">
            <a:tbl>
              <a:tblPr/>
              <a:tblGrid>
                <a:gridCol w="287280"/>
                <a:gridCol w="7993080"/>
              </a:tblGrid>
              <a:tr h="92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lima semiárido (ESTE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Árido (DESIERTO) – Las mayúsculas se emplean solamente para los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iempre húmedo. Suficientes precipitaciones en todos los meses, sin temporada seca (se emplea para los climas de los grupos A,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w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Temporada seca durante el invierno del hemisferio respec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Sequía en ver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Las clasificaciones de los cl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752480"/>
            <a:ext cx="815364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 basan en distintas combinaciones de los diversos elementos y factores climáticos, por ello no existe una clasificación única para satisfacer los distintos f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s clasificaciones basadas en temperaturas y precipitaciones son las más abund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79848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0000"/>
                </a:solidFill>
                <a:latin typeface="Arial"/>
                <a:ea typeface="Arial"/>
              </a:rPr>
              <a:t>Con frecuencia se agrega una tercera letra  para indicar otras variaciones climáticas que producen diferenciaciones importantes dentro de un tipo climát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628640"/>
          <a:ext cx="8280360" cy="4789800"/>
        </p:xfrm>
        <a:graphic>
          <a:graphicData uri="http://schemas.openxmlformats.org/drawingml/2006/table">
            <a:tbl>
              <a:tblPr/>
              <a:tblGrid>
                <a:gridCol w="217440"/>
                <a:gridCol w="80629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supera los 22° C. Se emplea para los climas C y 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caliente; la temperatura media del mes más cálido es inferior a los 22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verano breve y fresco; menos de cuatro meses con una temperatura media por encima de los 10° C. Se emplea para los climas C y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d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on invierno muy frío; la temperatura media del mes más frío supera los -38° C. Sólo para climas 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Caliente y seco. Temperatura media anual por debajo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Frío y seco. Temperatura media anual por encima de los 18° C. Sólo para clima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0000"/>
                          </a:solidFill>
                          <a:latin typeface="Arial"/>
                          <a:ea typeface="Arial"/>
                        </a:rPr>
                        <a:t>no se da en Latinoaméric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4360" y="299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http://terra.es/personal/jesuscond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22860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istribución de los Climas según Köpp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10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>
              <a:hlinkClick r:id="rId2"/>
            </p:cNvPr>
            <p:cNvSpPr/>
            <p:nvPr/>
          </p:nvSpPr>
          <p:spPr>
            <a:xfrm>
              <a:off x="2664000" y="463320"/>
              <a:ext cx="3315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3"/>
            </p:cNvPr>
            <p:cNvSpPr/>
            <p:nvPr/>
          </p:nvSpPr>
          <p:spPr>
            <a:xfrm>
              <a:off x="1612800" y="1047600"/>
              <a:ext cx="422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4"/>
            </p:cNvPr>
            <p:cNvSpPr/>
            <p:nvPr/>
          </p:nvSpPr>
          <p:spPr>
            <a:xfrm>
              <a:off x="3110040" y="1538280"/>
              <a:ext cx="3999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>
              <a:hlinkClick r:id="rId5"/>
            </p:cNvPr>
            <p:cNvSpPr/>
            <p:nvPr/>
          </p:nvSpPr>
          <p:spPr>
            <a:xfrm>
              <a:off x="1419480" y="2635200"/>
              <a:ext cx="296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>
              <a:hlinkClick r:id="rId6"/>
            </p:cNvPr>
            <p:cNvSpPr/>
            <p:nvPr/>
          </p:nvSpPr>
          <p:spPr>
            <a:xfrm>
              <a:off x="2355840" y="2670120"/>
              <a:ext cx="308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>
              <a:hlinkClick r:id="rId7"/>
            </p:cNvPr>
            <p:cNvSpPr/>
            <p:nvPr/>
          </p:nvSpPr>
          <p:spPr>
            <a:xfrm>
              <a:off x="3133800" y="2555640"/>
              <a:ext cx="3189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rId8"/>
            </p:cNvPr>
            <p:cNvSpPr/>
            <p:nvPr/>
          </p:nvSpPr>
          <p:spPr>
            <a:xfrm>
              <a:off x="3613320" y="2463840"/>
              <a:ext cx="46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>
              <a:hlinkClick r:id="rId9"/>
            </p:cNvPr>
            <p:cNvSpPr/>
            <p:nvPr/>
          </p:nvSpPr>
          <p:spPr>
            <a:xfrm>
              <a:off x="4870440" y="2338200"/>
              <a:ext cx="193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rId10"/>
            </p:cNvPr>
            <p:cNvSpPr/>
            <p:nvPr/>
          </p:nvSpPr>
          <p:spPr>
            <a:xfrm>
              <a:off x="5545080" y="2487600"/>
              <a:ext cx="41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>
              <a:hlinkClick r:id="rId11"/>
            </p:cNvPr>
            <p:cNvSpPr/>
            <p:nvPr/>
          </p:nvSpPr>
          <p:spPr>
            <a:xfrm>
              <a:off x="3716280" y="3195720"/>
              <a:ext cx="228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>
              <a:hlinkClick r:id="rId12"/>
            </p:cNvPr>
            <p:cNvSpPr/>
            <p:nvPr/>
          </p:nvSpPr>
          <p:spPr>
            <a:xfrm>
              <a:off x="4619880" y="3378240"/>
              <a:ext cx="204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rId13"/>
            </p:cNvPr>
            <p:cNvSpPr/>
            <p:nvPr/>
          </p:nvSpPr>
          <p:spPr>
            <a:xfrm>
              <a:off x="4859280" y="3459240"/>
              <a:ext cx="2178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>
              <a:hlinkClick r:id="rId14"/>
            </p:cNvPr>
            <p:cNvSpPr/>
            <p:nvPr/>
          </p:nvSpPr>
          <p:spPr>
            <a:xfrm>
              <a:off x="5442120" y="3070080"/>
              <a:ext cx="353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>
              <a:hlinkClick r:id="rId15"/>
            </p:cNvPr>
            <p:cNvSpPr/>
            <p:nvPr/>
          </p:nvSpPr>
          <p:spPr>
            <a:xfrm>
              <a:off x="5178600" y="383544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>
              <a:hlinkClick r:id="rId16"/>
            </p:cNvPr>
            <p:cNvSpPr/>
            <p:nvPr/>
          </p:nvSpPr>
          <p:spPr>
            <a:xfrm>
              <a:off x="3944880" y="3949560"/>
              <a:ext cx="29700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>
              <a:hlinkClick r:id="rId17"/>
            </p:cNvPr>
            <p:cNvSpPr/>
            <p:nvPr/>
          </p:nvSpPr>
          <p:spPr>
            <a:xfrm>
              <a:off x="5819760" y="3984480"/>
              <a:ext cx="193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>
              <a:hlinkClick r:id="rId18"/>
            </p:cNvPr>
            <p:cNvSpPr/>
            <p:nvPr/>
          </p:nvSpPr>
          <p:spPr>
            <a:xfrm>
              <a:off x="5281560" y="4327560"/>
              <a:ext cx="274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>
              <a:hlinkClick r:id="rId19"/>
            </p:cNvPr>
            <p:cNvSpPr/>
            <p:nvPr/>
          </p:nvSpPr>
          <p:spPr>
            <a:xfrm>
              <a:off x="5006880" y="4692600"/>
              <a:ext cx="331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>
              <a:hlinkClick r:id="rId20"/>
            </p:cNvPr>
            <p:cNvSpPr/>
            <p:nvPr/>
          </p:nvSpPr>
          <p:spPr>
            <a:xfrm>
              <a:off x="4310280" y="5310000"/>
              <a:ext cx="2523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rId21"/>
            </p:cNvPr>
            <p:cNvSpPr/>
            <p:nvPr/>
          </p:nvSpPr>
          <p:spPr>
            <a:xfrm>
              <a:off x="4138560" y="5048280"/>
              <a:ext cx="228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>
              <a:hlinkClick r:id="rId22"/>
            </p:cNvPr>
            <p:cNvSpPr/>
            <p:nvPr/>
          </p:nvSpPr>
          <p:spPr>
            <a:xfrm>
              <a:off x="3795840" y="4602240"/>
              <a:ext cx="35388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rId23"/>
            </p:cNvPr>
            <p:cNvSpPr/>
            <p:nvPr/>
          </p:nvSpPr>
          <p:spPr>
            <a:xfrm>
              <a:off x="3727440" y="5092560"/>
              <a:ext cx="263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24"/>
            </p:cNvPr>
            <p:cNvSpPr/>
            <p:nvPr/>
          </p:nvSpPr>
          <p:spPr>
            <a:xfrm>
              <a:off x="3419640" y="5402160"/>
              <a:ext cx="3189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>
              <a:hlinkClick r:id="rId25"/>
            </p:cNvPr>
            <p:cNvSpPr/>
            <p:nvPr/>
          </p:nvSpPr>
          <p:spPr>
            <a:xfrm>
              <a:off x="3006720" y="4498920"/>
              <a:ext cx="389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" descr=""/>
          <p:cNvPicPr/>
          <p:nvPr/>
        </p:nvPicPr>
        <p:blipFill>
          <a:blip r:embed="rId26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7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4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4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1090440" y="838080"/>
            <a:ext cx="7062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54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37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2120" y="372960"/>
            <a:ext cx="8701200" cy="6111720"/>
            <a:chOff x="222120" y="372960"/>
            <a:chExt cx="8701200" cy="6111720"/>
          </a:xfrm>
        </p:grpSpPr>
        <p:sp>
          <p:nvSpPr>
            <p:cNvPr id="163" name=""/>
            <p:cNvSpPr/>
            <p:nvPr/>
          </p:nvSpPr>
          <p:spPr>
            <a:xfrm>
              <a:off x="222120" y="372960"/>
              <a:ext cx="6716880" cy="55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33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9000" y="372960"/>
              <a:ext cx="1984320" cy="61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2120" y="5965560"/>
              <a:ext cx="671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40" y="648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0600" y="419040"/>
            <a:ext cx="6446880" cy="5349960"/>
            <a:chOff x="390600" y="419040"/>
            <a:chExt cx="6446880" cy="534996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390600" y="419040"/>
              <a:ext cx="6446880" cy="53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>
              <a:hlinkClick r:id="rId9"/>
            </p:cNvPr>
            <p:cNvSpPr/>
            <p:nvPr/>
          </p:nvSpPr>
          <p:spPr>
            <a:xfrm>
              <a:off x="2287800" y="452520"/>
              <a:ext cx="331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>
              <a:hlinkClick r:id="rId10"/>
            </p:cNvPr>
            <p:cNvSpPr/>
            <p:nvPr/>
          </p:nvSpPr>
          <p:spPr>
            <a:xfrm>
              <a:off x="2766960" y="452520"/>
              <a:ext cx="2858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>
              <a:hlinkClick r:id="rId11"/>
            </p:cNvPr>
            <p:cNvSpPr/>
            <p:nvPr/>
          </p:nvSpPr>
          <p:spPr>
            <a:xfrm>
              <a:off x="2927520" y="876240"/>
              <a:ext cx="331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>
              <a:hlinkClick r:id="rId12"/>
            </p:cNvPr>
            <p:cNvSpPr/>
            <p:nvPr/>
          </p:nvSpPr>
          <p:spPr>
            <a:xfrm>
              <a:off x="4048200" y="1434960"/>
              <a:ext cx="31896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>
              <a:hlinkClick r:id="rId13"/>
            </p:cNvPr>
            <p:cNvSpPr/>
            <p:nvPr/>
          </p:nvSpPr>
          <p:spPr>
            <a:xfrm>
              <a:off x="1978200" y="1069920"/>
              <a:ext cx="2746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>
              <a:hlinkClick r:id="rId14"/>
            </p:cNvPr>
            <p:cNvSpPr/>
            <p:nvPr/>
          </p:nvSpPr>
          <p:spPr>
            <a:xfrm>
              <a:off x="1533600" y="1276200"/>
              <a:ext cx="297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>
              <a:hlinkClick r:id="rId15"/>
            </p:cNvPr>
            <p:cNvSpPr/>
            <p:nvPr/>
          </p:nvSpPr>
          <p:spPr>
            <a:xfrm>
              <a:off x="1692360" y="1562040"/>
              <a:ext cx="2635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16"/>
            </p:cNvPr>
            <p:cNvSpPr/>
            <p:nvPr/>
          </p:nvSpPr>
          <p:spPr>
            <a:xfrm>
              <a:off x="2766960" y="1709640"/>
              <a:ext cx="389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>
              <a:hlinkClick r:id="rId17"/>
            </p:cNvPr>
            <p:cNvSpPr/>
            <p:nvPr/>
          </p:nvSpPr>
          <p:spPr>
            <a:xfrm>
              <a:off x="5396040" y="1619280"/>
              <a:ext cx="492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>
              <a:hlinkClick r:id="rId18"/>
            </p:cNvPr>
            <p:cNvSpPr/>
            <p:nvPr/>
          </p:nvSpPr>
          <p:spPr>
            <a:xfrm>
              <a:off x="5442120" y="2006640"/>
              <a:ext cx="228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>
              <a:hlinkClick r:id="rId19"/>
            </p:cNvPr>
            <p:cNvSpPr/>
            <p:nvPr/>
          </p:nvSpPr>
          <p:spPr>
            <a:xfrm>
              <a:off x="3853080" y="2292120"/>
              <a:ext cx="3999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>
              <a:hlinkClick r:id="rId20"/>
            </p:cNvPr>
            <p:cNvSpPr/>
            <p:nvPr/>
          </p:nvSpPr>
          <p:spPr>
            <a:xfrm>
              <a:off x="5064120" y="2590920"/>
              <a:ext cx="2858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>
              <a:hlinkClick r:id="rId21"/>
            </p:cNvPr>
            <p:cNvSpPr/>
            <p:nvPr/>
          </p:nvSpPr>
          <p:spPr>
            <a:xfrm>
              <a:off x="4962600" y="2977920"/>
              <a:ext cx="34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>
              <a:hlinkClick r:id="rId22"/>
            </p:cNvPr>
            <p:cNvSpPr/>
            <p:nvPr/>
          </p:nvSpPr>
          <p:spPr>
            <a:xfrm>
              <a:off x="2138400" y="2727360"/>
              <a:ext cx="4683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>
              <a:hlinkClick r:id="rId23"/>
            </p:cNvPr>
            <p:cNvSpPr/>
            <p:nvPr/>
          </p:nvSpPr>
          <p:spPr>
            <a:xfrm>
              <a:off x="2949480" y="3002040"/>
              <a:ext cx="2415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>
              <a:hlinkClick r:id="rId24"/>
            </p:cNvPr>
            <p:cNvSpPr/>
            <p:nvPr/>
          </p:nvSpPr>
          <p:spPr>
            <a:xfrm>
              <a:off x="4459320" y="3459240"/>
              <a:ext cx="3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>
              <a:hlinkClick r:id="rId25"/>
            </p:cNvPr>
            <p:cNvSpPr/>
            <p:nvPr/>
          </p:nvSpPr>
          <p:spPr>
            <a:xfrm>
              <a:off x="3521160" y="3720960"/>
              <a:ext cx="366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>
              <a:hlinkClick r:id="rId26"/>
            </p:cNvPr>
            <p:cNvSpPr/>
            <p:nvPr/>
          </p:nvSpPr>
          <p:spPr>
            <a:xfrm>
              <a:off x="3624480" y="4338720"/>
              <a:ext cx="274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rId27"/>
            </p:cNvPr>
            <p:cNvSpPr/>
            <p:nvPr/>
          </p:nvSpPr>
          <p:spPr>
            <a:xfrm>
              <a:off x="2459160" y="3824280"/>
              <a:ext cx="3078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28"/>
            </p:cNvPr>
            <p:cNvSpPr/>
            <p:nvPr/>
          </p:nvSpPr>
          <p:spPr>
            <a:xfrm>
              <a:off x="3338640" y="4487760"/>
              <a:ext cx="23976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rId29"/>
            </p:cNvPr>
            <p:cNvSpPr/>
            <p:nvPr/>
          </p:nvSpPr>
          <p:spPr>
            <a:xfrm>
              <a:off x="2390760" y="4213080"/>
              <a:ext cx="376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>
              <a:hlinkClick r:id="rId30"/>
            </p:cNvPr>
            <p:cNvSpPr/>
            <p:nvPr/>
          </p:nvSpPr>
          <p:spPr>
            <a:xfrm>
              <a:off x="2516400" y="4944960"/>
              <a:ext cx="342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>
              <a:hlinkClick r:id="rId31"/>
            </p:cNvPr>
            <p:cNvSpPr/>
            <p:nvPr/>
          </p:nvSpPr>
          <p:spPr>
            <a:xfrm>
              <a:off x="3052800" y="4727520"/>
              <a:ext cx="331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>
              <a:hlinkClick r:id="rId32"/>
            </p:cNvPr>
            <p:cNvSpPr/>
            <p:nvPr/>
          </p:nvSpPr>
          <p:spPr>
            <a:xfrm>
              <a:off x="3041640" y="5241960"/>
              <a:ext cx="2635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>
              <a:hlinkClick r:id="rId33"/>
            </p:cNvPr>
            <p:cNvSpPr/>
            <p:nvPr/>
          </p:nvSpPr>
          <p:spPr>
            <a:xfrm>
              <a:off x="2813040" y="5527440"/>
              <a:ext cx="25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4"/>
          <a:stretch/>
        </p:blipFill>
        <p:spPr>
          <a:xfrm>
            <a:off x="7129440" y="102060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5"/>
          <a:stretch/>
        </p:blipFill>
        <p:spPr>
          <a:xfrm>
            <a:off x="2276640" y="6012000"/>
            <a:ext cx="27432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198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199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7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63504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35040" y="549360"/>
            <a:ext cx="10415520" cy="5761080"/>
            <a:chOff x="-635040" y="549360"/>
            <a:chExt cx="10415520" cy="5761080"/>
          </a:xfrm>
        </p:grpSpPr>
        <p:grpSp>
          <p:nvGrpSpPr>
            <p:cNvPr id="207" name=""/>
            <p:cNvGrpSpPr/>
            <p:nvPr/>
          </p:nvGrpSpPr>
          <p:grpSpPr>
            <a:xfrm>
              <a:off x="-635040" y="549360"/>
              <a:ext cx="5137200" cy="1831320"/>
              <a:chOff x="-635040" y="549360"/>
              <a:chExt cx="5137200" cy="1831320"/>
            </a:xfrm>
          </p:grpSpPr>
          <p:sp>
            <p:nvSpPr>
              <p:cNvPr id="208" name=""/>
              <p:cNvSpPr/>
              <p:nvPr/>
            </p:nvSpPr>
            <p:spPr>
              <a:xfrm>
                <a:off x="1384200" y="549360"/>
                <a:ext cx="1098720" cy="10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635040" y="1006560"/>
                <a:ext cx="5137200" cy="13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r>
                  <a:rPr b="0" lang="es-ES_tradnl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/>
                  </a:rPr>
                  <a:t>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  </a:t>
                </a:r>
                <a:r>
                  <a:rPr b="0" lang="es-ES_tradnl" sz="4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-635040" y="2103480"/>
              <a:ext cx="1041552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2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-635040" y="5488200"/>
              <a:ext cx="2987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5488200"/>
              <a:ext cx="7427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2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-635040" y="631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1090440" y="990720"/>
            <a:ext cx="7291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920" y="3048120"/>
            <a:ext cx="8533800" cy="2658960"/>
            <a:chOff x="304920" y="3048120"/>
            <a:chExt cx="8533800" cy="2658960"/>
          </a:xfrm>
        </p:grpSpPr>
        <p:grpSp>
          <p:nvGrpSpPr>
            <p:cNvPr id="219" name=""/>
            <p:cNvGrpSpPr/>
            <p:nvPr/>
          </p:nvGrpSpPr>
          <p:grpSpPr>
            <a:xfrm>
              <a:off x="310680" y="3052800"/>
              <a:ext cx="8520840" cy="2649600"/>
              <a:chOff x="310680" y="3052800"/>
              <a:chExt cx="8520840" cy="26496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0680" y="3052800"/>
                <a:ext cx="654840" cy="822240"/>
                <a:chOff x="310680" y="3052800"/>
                <a:chExt cx="654840" cy="822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65400" y="305280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0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965880" y="3052800"/>
                <a:ext cx="654840" cy="822240"/>
                <a:chOff x="965880" y="3052800"/>
                <a:chExt cx="654840" cy="822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0213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9658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21440" y="3052800"/>
                <a:ext cx="654840" cy="822240"/>
                <a:chOff x="1621440" y="3052800"/>
                <a:chExt cx="654840" cy="822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68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14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2277000" y="3052800"/>
                <a:ext cx="654840" cy="822240"/>
                <a:chOff x="2277000" y="3052800"/>
                <a:chExt cx="654840" cy="822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23324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2770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2932560" y="3052800"/>
                <a:ext cx="654840" cy="822240"/>
                <a:chOff x="2932560" y="3052800"/>
                <a:chExt cx="654840" cy="822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9880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325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3588120" y="3052800"/>
                <a:ext cx="654840" cy="822240"/>
                <a:chOff x="3588120" y="3052800"/>
                <a:chExt cx="654840" cy="822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643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88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243680" y="3052800"/>
                <a:ext cx="654840" cy="822240"/>
                <a:chOff x="4243680" y="3052800"/>
                <a:chExt cx="654840" cy="822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99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243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899240" y="3052800"/>
                <a:ext cx="654840" cy="822240"/>
                <a:chOff x="4899240" y="3052800"/>
                <a:chExt cx="654840" cy="822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95468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89924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54800" y="3052800"/>
                <a:ext cx="654840" cy="822240"/>
                <a:chOff x="5554800" y="3052800"/>
                <a:chExt cx="654840" cy="822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61024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5480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210360" y="3052800"/>
                <a:ext cx="654840" cy="822240"/>
                <a:chOff x="6210360" y="3052800"/>
                <a:chExt cx="654840" cy="8222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26580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21036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6865920" y="3052800"/>
                <a:ext cx="654840" cy="822240"/>
                <a:chOff x="6865920" y="3052800"/>
                <a:chExt cx="654840" cy="822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9213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8659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521120" y="3052800"/>
                <a:ext cx="654840" cy="822240"/>
                <a:chOff x="7521120" y="3052800"/>
                <a:chExt cx="654840" cy="8222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57656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52112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8176680" y="3052800"/>
                <a:ext cx="654840" cy="822240"/>
                <a:chOff x="8176680" y="3052800"/>
                <a:chExt cx="654840" cy="822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232120" y="305280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76680" y="305280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10680" y="3875040"/>
                <a:ext cx="654840" cy="822240"/>
                <a:chOff x="310680" y="3875040"/>
                <a:chExt cx="654840" cy="822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65400" y="3875040"/>
                  <a:ext cx="544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10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965880" y="3875040"/>
                <a:ext cx="654840" cy="822240"/>
                <a:chOff x="965880" y="3875040"/>
                <a:chExt cx="654840" cy="822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0213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9658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21440" y="3875040"/>
                <a:ext cx="654840" cy="822240"/>
                <a:chOff x="1621440" y="3875040"/>
                <a:chExt cx="654840" cy="822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6768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6214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277000" y="3875040"/>
                <a:ext cx="654840" cy="822240"/>
                <a:chOff x="2277000" y="3875040"/>
                <a:chExt cx="654840" cy="822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324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2770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932560" y="3875040"/>
                <a:ext cx="654840" cy="822240"/>
                <a:chOff x="2932560" y="3875040"/>
                <a:chExt cx="654840" cy="822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880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25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588120" y="3875040"/>
                <a:ext cx="654840" cy="822240"/>
                <a:chOff x="3588120" y="3875040"/>
                <a:chExt cx="654840" cy="822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643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88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243680" y="3875040"/>
                <a:ext cx="654840" cy="822240"/>
                <a:chOff x="4243680" y="3875040"/>
                <a:chExt cx="654840" cy="8222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299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243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899240" y="3875040"/>
                <a:ext cx="654840" cy="822240"/>
                <a:chOff x="4899240" y="3875040"/>
                <a:chExt cx="654840" cy="822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95468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89924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54800" y="3875040"/>
                <a:ext cx="654840" cy="822240"/>
                <a:chOff x="5554800" y="3875040"/>
                <a:chExt cx="654840" cy="8222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61024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5480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210360" y="3875040"/>
                <a:ext cx="654840" cy="822240"/>
                <a:chOff x="6210360" y="3875040"/>
                <a:chExt cx="654840" cy="822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26580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21036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865920" y="3875040"/>
                <a:ext cx="654840" cy="822240"/>
                <a:chOff x="6865920" y="3875040"/>
                <a:chExt cx="654840" cy="822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9213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659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521120" y="3875040"/>
                <a:ext cx="654840" cy="822240"/>
                <a:chOff x="7521120" y="3875040"/>
                <a:chExt cx="654840" cy="822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57656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52112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176680" y="3875040"/>
                <a:ext cx="654840" cy="822240"/>
                <a:chOff x="8176680" y="3875040"/>
                <a:chExt cx="654840" cy="822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232120" y="3875040"/>
                  <a:ext cx="544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176680" y="3875040"/>
                  <a:ext cx="6548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10680" y="4697280"/>
                <a:ext cx="654840" cy="1005120"/>
                <a:chOff x="310680" y="4697280"/>
                <a:chExt cx="654840" cy="1005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65400" y="4697280"/>
                  <a:ext cx="544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0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965880" y="4697280"/>
                <a:ext cx="654840" cy="1005120"/>
                <a:chOff x="965880" y="4697280"/>
                <a:chExt cx="654840" cy="1005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0213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9658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621440" y="4697280"/>
                <a:ext cx="654840" cy="1005120"/>
                <a:chOff x="1621440" y="4697280"/>
                <a:chExt cx="654840" cy="1005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6768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214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277000" y="4697280"/>
                <a:ext cx="654840" cy="1005120"/>
                <a:chOff x="2277000" y="4697280"/>
                <a:chExt cx="654840" cy="1005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3324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770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932560" y="4697280"/>
                <a:ext cx="654840" cy="1005120"/>
                <a:chOff x="2932560" y="4697280"/>
                <a:chExt cx="654840" cy="1005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9880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9325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588120" y="4697280"/>
                <a:ext cx="654840" cy="1005120"/>
                <a:chOff x="3588120" y="4697280"/>
                <a:chExt cx="654840" cy="1005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643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588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243680" y="4697280"/>
                <a:ext cx="654840" cy="1005120"/>
                <a:chOff x="4243680" y="4697280"/>
                <a:chExt cx="654840" cy="1005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299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243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899240" y="4697280"/>
                <a:ext cx="654840" cy="1005120"/>
                <a:chOff x="4899240" y="4697280"/>
                <a:chExt cx="654840" cy="1005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95468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89924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554800" y="4697280"/>
                <a:ext cx="654840" cy="1005120"/>
                <a:chOff x="5554800" y="4697280"/>
                <a:chExt cx="654840" cy="1005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61024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5480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210360" y="4697280"/>
                <a:ext cx="654840" cy="1005120"/>
                <a:chOff x="6210360" y="4697280"/>
                <a:chExt cx="654840" cy="1005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6580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1036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865920" y="4697280"/>
                <a:ext cx="654840" cy="1005120"/>
                <a:chOff x="6865920" y="4697280"/>
                <a:chExt cx="654840" cy="1005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9213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8659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21120" y="4697280"/>
                <a:ext cx="654840" cy="1005120"/>
                <a:chOff x="7521120" y="4697280"/>
                <a:chExt cx="654840" cy="1005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656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2112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8176680" y="4697280"/>
                <a:ext cx="654840" cy="1005120"/>
                <a:chOff x="8176680" y="4697280"/>
                <a:chExt cx="654840" cy="1005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32120" y="4697280"/>
                  <a:ext cx="54432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176680" y="4697280"/>
                  <a:ext cx="6548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304920" y="3048120"/>
              <a:ext cx="853380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40" y="4438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04920" y="3200400"/>
            <a:ext cx="8457840" cy="2658960"/>
            <a:chOff x="304920" y="3200400"/>
            <a:chExt cx="8457840" cy="2658960"/>
          </a:xfrm>
        </p:grpSpPr>
        <p:grpSp>
          <p:nvGrpSpPr>
            <p:cNvPr id="343" name=""/>
            <p:cNvGrpSpPr/>
            <p:nvPr/>
          </p:nvGrpSpPr>
          <p:grpSpPr>
            <a:xfrm>
              <a:off x="310680" y="3205080"/>
              <a:ext cx="8445240" cy="2649600"/>
              <a:chOff x="310680" y="3205080"/>
              <a:chExt cx="8445240" cy="2649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10680" y="3205080"/>
                <a:ext cx="649080" cy="822240"/>
                <a:chOff x="310680" y="3205080"/>
                <a:chExt cx="649080" cy="822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65040" y="32050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1068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960120" y="3205080"/>
                <a:ext cx="649080" cy="822240"/>
                <a:chOff x="960120" y="3205080"/>
                <a:chExt cx="649080" cy="822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0148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9601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609920" y="3205080"/>
                <a:ext cx="649080" cy="822240"/>
                <a:chOff x="1609920" y="3205080"/>
                <a:chExt cx="649080" cy="822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6646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099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259720" y="3205080"/>
                <a:ext cx="649080" cy="822240"/>
                <a:chOff x="2259720" y="3205080"/>
                <a:chExt cx="649080" cy="822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1444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5972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909160" y="3205080"/>
                <a:ext cx="649080" cy="822240"/>
                <a:chOff x="2909160" y="3205080"/>
                <a:chExt cx="649080" cy="822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9638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091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558960" y="3205080"/>
                <a:ext cx="649080" cy="822240"/>
                <a:chOff x="3558960" y="3205080"/>
                <a:chExt cx="649080" cy="822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6136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5589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208760" y="3205080"/>
                <a:ext cx="649080" cy="822240"/>
                <a:chOff x="4208760" y="3205080"/>
                <a:chExt cx="649080" cy="822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26348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20876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858200" y="3205080"/>
                <a:ext cx="649080" cy="822240"/>
                <a:chOff x="4858200" y="3205080"/>
                <a:chExt cx="649080" cy="8222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9129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8582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08000" y="3205080"/>
                <a:ext cx="649080" cy="822240"/>
                <a:chOff x="5508000" y="3205080"/>
                <a:chExt cx="649080" cy="8222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627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5080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57800" y="3205080"/>
                <a:ext cx="649080" cy="822240"/>
                <a:chOff x="6157800" y="3205080"/>
                <a:chExt cx="649080" cy="822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21252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5780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807240" y="3205080"/>
                <a:ext cx="649080" cy="822240"/>
                <a:chOff x="6807240" y="3205080"/>
                <a:chExt cx="649080" cy="8222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8619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8072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457040" y="3205080"/>
                <a:ext cx="649080" cy="822240"/>
                <a:chOff x="7457040" y="3205080"/>
                <a:chExt cx="649080" cy="8222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5117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570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8106840" y="3205080"/>
                <a:ext cx="649080" cy="822240"/>
                <a:chOff x="8106840" y="3205080"/>
                <a:chExt cx="649080" cy="8222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61560" y="32050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06840" y="32050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0680" y="4027320"/>
                <a:ext cx="649080" cy="822240"/>
                <a:chOff x="310680" y="4027320"/>
                <a:chExt cx="649080" cy="8222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65040" y="40273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068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960120" y="4027320"/>
                <a:ext cx="649080" cy="822240"/>
                <a:chOff x="960120" y="4027320"/>
                <a:chExt cx="649080" cy="8222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0148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9601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609920" y="4027320"/>
                <a:ext cx="649080" cy="822240"/>
                <a:chOff x="1609920" y="4027320"/>
                <a:chExt cx="649080" cy="8222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6646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099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259720" y="4027320"/>
                <a:ext cx="649080" cy="822240"/>
                <a:chOff x="2259720" y="4027320"/>
                <a:chExt cx="649080" cy="822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31444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5972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909160" y="4027320"/>
                <a:ext cx="649080" cy="822240"/>
                <a:chOff x="2909160" y="4027320"/>
                <a:chExt cx="649080" cy="8222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9638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91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558960" y="4027320"/>
                <a:ext cx="649080" cy="822240"/>
                <a:chOff x="3558960" y="4027320"/>
                <a:chExt cx="649080" cy="822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6136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5589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208760" y="4027320"/>
                <a:ext cx="649080" cy="822240"/>
                <a:chOff x="4208760" y="4027320"/>
                <a:chExt cx="649080" cy="8222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26348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20876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58200" y="4027320"/>
                <a:ext cx="649080" cy="822240"/>
                <a:chOff x="4858200" y="4027320"/>
                <a:chExt cx="649080" cy="8222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129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582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08000" y="4027320"/>
                <a:ext cx="649080" cy="822240"/>
                <a:chOff x="5508000" y="4027320"/>
                <a:chExt cx="649080" cy="822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627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080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157800" y="4027320"/>
                <a:ext cx="649080" cy="822240"/>
                <a:chOff x="6157800" y="4027320"/>
                <a:chExt cx="649080" cy="822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21252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15780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6807240" y="4027320"/>
                <a:ext cx="649080" cy="822240"/>
                <a:chOff x="6807240" y="4027320"/>
                <a:chExt cx="649080" cy="8222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68619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072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7457040" y="4027320"/>
                <a:ext cx="649080" cy="822240"/>
                <a:chOff x="7457040" y="4027320"/>
                <a:chExt cx="649080" cy="8222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5117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570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106840" y="4027320"/>
                <a:ext cx="649080" cy="822240"/>
                <a:chOff x="8106840" y="4027320"/>
                <a:chExt cx="649080" cy="822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8161560" y="40273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106840" y="40273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10680" y="4849560"/>
                <a:ext cx="649080" cy="1005120"/>
                <a:chOff x="310680" y="4849560"/>
                <a:chExt cx="649080" cy="1005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65040" y="48495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068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960120" y="4849560"/>
                <a:ext cx="649080" cy="1005120"/>
                <a:chOff x="960120" y="4849560"/>
                <a:chExt cx="649080" cy="10051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0148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601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1609920" y="4849560"/>
                <a:ext cx="649080" cy="1005120"/>
                <a:chOff x="1609920" y="4849560"/>
                <a:chExt cx="649080" cy="10051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6646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6099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259720" y="4849560"/>
                <a:ext cx="649080" cy="1005120"/>
                <a:chOff x="2259720" y="4849560"/>
                <a:chExt cx="649080" cy="10051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31444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5972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909160" y="4849560"/>
                <a:ext cx="649080" cy="1005120"/>
                <a:chOff x="2909160" y="4849560"/>
                <a:chExt cx="649080" cy="1005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9638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9091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558960" y="4849560"/>
                <a:ext cx="649080" cy="1005120"/>
                <a:chOff x="3558960" y="4849560"/>
                <a:chExt cx="649080" cy="1005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6136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589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208760" y="4849560"/>
                <a:ext cx="649080" cy="1005120"/>
                <a:chOff x="4208760" y="4849560"/>
                <a:chExt cx="649080" cy="1005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26348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20876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858200" y="4849560"/>
                <a:ext cx="649080" cy="1005120"/>
                <a:chOff x="4858200" y="4849560"/>
                <a:chExt cx="649080" cy="1005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9129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82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508000" y="4849560"/>
                <a:ext cx="649080" cy="1005120"/>
                <a:chOff x="5508000" y="4849560"/>
                <a:chExt cx="649080" cy="10051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5627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080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57800" y="4849560"/>
                <a:ext cx="649080" cy="1005120"/>
                <a:chOff x="6157800" y="4849560"/>
                <a:chExt cx="649080" cy="10051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1252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5780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807240" y="4849560"/>
                <a:ext cx="649080" cy="1005120"/>
                <a:chOff x="6807240" y="4849560"/>
                <a:chExt cx="649080" cy="10051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8619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072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7457040" y="4849560"/>
                <a:ext cx="649080" cy="1005120"/>
                <a:chOff x="7457040" y="4849560"/>
                <a:chExt cx="649080" cy="10051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75117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4570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106840" y="4849560"/>
                <a:ext cx="649080" cy="1005120"/>
                <a:chOff x="8106840" y="4849560"/>
                <a:chExt cx="649080" cy="10051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161560" y="48495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06840" y="48495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>
              <a:off x="304920" y="32004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676520"/>
            <a:ext cx="8381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A EL TIPO DE CLIMA DE LAS SIGUIENTES LOCAL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4920" y="2971800"/>
            <a:ext cx="8457840" cy="2658960"/>
            <a:chOff x="304920" y="2971800"/>
            <a:chExt cx="8457840" cy="2658960"/>
          </a:xfrm>
        </p:grpSpPr>
        <p:grpSp>
          <p:nvGrpSpPr>
            <p:cNvPr id="466" name=""/>
            <p:cNvGrpSpPr/>
            <p:nvPr/>
          </p:nvGrpSpPr>
          <p:grpSpPr>
            <a:xfrm>
              <a:off x="310680" y="2976480"/>
              <a:ext cx="8445240" cy="2649600"/>
              <a:chOff x="310680" y="2976480"/>
              <a:chExt cx="8445240" cy="26496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310680" y="2976480"/>
                <a:ext cx="649080" cy="822240"/>
                <a:chOff x="310680" y="2976480"/>
                <a:chExt cx="649080" cy="822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65040" y="297648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1068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960120" y="2976480"/>
                <a:ext cx="649080" cy="822240"/>
                <a:chOff x="960120" y="2976480"/>
                <a:chExt cx="649080" cy="8222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0148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9601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609920" y="2976480"/>
                <a:ext cx="649080" cy="822240"/>
                <a:chOff x="1609920" y="2976480"/>
                <a:chExt cx="649080" cy="822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6646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099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259720" y="2976480"/>
                <a:ext cx="649080" cy="822240"/>
                <a:chOff x="2259720" y="2976480"/>
                <a:chExt cx="649080" cy="82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31444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972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909160" y="2976480"/>
                <a:ext cx="649080" cy="822240"/>
                <a:chOff x="2909160" y="2976480"/>
                <a:chExt cx="649080" cy="8222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9638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9091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558960" y="2976480"/>
                <a:ext cx="649080" cy="822240"/>
                <a:chOff x="3558960" y="2976480"/>
                <a:chExt cx="649080" cy="82224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6136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5589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208760" y="2976480"/>
                <a:ext cx="649080" cy="822240"/>
                <a:chOff x="4208760" y="2976480"/>
                <a:chExt cx="649080" cy="82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26348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20876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858200" y="2976480"/>
                <a:ext cx="649080" cy="822240"/>
                <a:chOff x="4858200" y="2976480"/>
                <a:chExt cx="649080" cy="8222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9129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8582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508000" y="2976480"/>
                <a:ext cx="649080" cy="822240"/>
                <a:chOff x="5508000" y="2976480"/>
                <a:chExt cx="649080" cy="822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5627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080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157800" y="2976480"/>
                <a:ext cx="649080" cy="822240"/>
                <a:chOff x="6157800" y="2976480"/>
                <a:chExt cx="649080" cy="8222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1252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15780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807240" y="2976480"/>
                <a:ext cx="649080" cy="822240"/>
                <a:chOff x="6807240" y="2976480"/>
                <a:chExt cx="649080" cy="822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8619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8072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457040" y="2976480"/>
                <a:ext cx="649080" cy="822240"/>
                <a:chOff x="7457040" y="2976480"/>
                <a:chExt cx="649080" cy="822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75117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4570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8106840" y="2976480"/>
                <a:ext cx="649080" cy="822240"/>
                <a:chOff x="8106840" y="2976480"/>
                <a:chExt cx="649080" cy="82224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8161560" y="297648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106840" y="297648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0680" y="3798720"/>
                <a:ext cx="649080" cy="822240"/>
                <a:chOff x="310680" y="3798720"/>
                <a:chExt cx="649080" cy="8222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65040" y="3798720"/>
                  <a:ext cx="54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068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960120" y="3798720"/>
                <a:ext cx="649080" cy="822240"/>
                <a:chOff x="960120" y="3798720"/>
                <a:chExt cx="649080" cy="8222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148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9601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1609920" y="3798720"/>
                <a:ext cx="649080" cy="822240"/>
                <a:chOff x="1609920" y="3798720"/>
                <a:chExt cx="649080" cy="822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6646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6099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259720" y="3798720"/>
                <a:ext cx="649080" cy="822240"/>
                <a:chOff x="2259720" y="3798720"/>
                <a:chExt cx="649080" cy="8222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31444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25972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909160" y="3798720"/>
                <a:ext cx="649080" cy="822240"/>
                <a:chOff x="2909160" y="3798720"/>
                <a:chExt cx="649080" cy="82224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9638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9091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558960" y="3798720"/>
                <a:ext cx="649080" cy="822240"/>
                <a:chOff x="3558960" y="3798720"/>
                <a:chExt cx="649080" cy="8222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6136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5589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4208760" y="3798720"/>
                <a:ext cx="649080" cy="822240"/>
                <a:chOff x="4208760" y="3798720"/>
                <a:chExt cx="649080" cy="8222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26348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876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858200" y="3798720"/>
                <a:ext cx="649080" cy="822240"/>
                <a:chOff x="4858200" y="3798720"/>
                <a:chExt cx="649080" cy="82224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49129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8582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5508000" y="3798720"/>
                <a:ext cx="649080" cy="822240"/>
                <a:chOff x="5508000" y="3798720"/>
                <a:chExt cx="649080" cy="82224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55627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5080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157800" y="3798720"/>
                <a:ext cx="649080" cy="822240"/>
                <a:chOff x="6157800" y="3798720"/>
                <a:chExt cx="649080" cy="8222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21252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15780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807240" y="3798720"/>
                <a:ext cx="649080" cy="822240"/>
                <a:chOff x="6807240" y="3798720"/>
                <a:chExt cx="649080" cy="8222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68619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072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457040" y="3798720"/>
                <a:ext cx="649080" cy="822240"/>
                <a:chOff x="7457040" y="3798720"/>
                <a:chExt cx="649080" cy="8222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5117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4570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8106840" y="3798720"/>
                <a:ext cx="649080" cy="822240"/>
                <a:chOff x="8106840" y="3798720"/>
                <a:chExt cx="649080" cy="8222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8161560" y="3798720"/>
                  <a:ext cx="539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06840" y="3798720"/>
                  <a:ext cx="6490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10680" y="4620960"/>
                <a:ext cx="649080" cy="1005120"/>
                <a:chOff x="310680" y="4620960"/>
                <a:chExt cx="649080" cy="10051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65040" y="4620960"/>
                  <a:ext cx="5400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1068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960120" y="4620960"/>
                <a:ext cx="649080" cy="1005120"/>
                <a:chOff x="960120" y="4620960"/>
                <a:chExt cx="649080" cy="10051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0148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9601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1609920" y="4620960"/>
                <a:ext cx="649080" cy="1005120"/>
                <a:chOff x="1609920" y="4620960"/>
                <a:chExt cx="649080" cy="10051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6646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099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259720" y="4620960"/>
                <a:ext cx="649080" cy="1005120"/>
                <a:chOff x="2259720" y="4620960"/>
                <a:chExt cx="649080" cy="10051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31444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25972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909160" y="4620960"/>
                <a:ext cx="649080" cy="1005120"/>
                <a:chOff x="2909160" y="4620960"/>
                <a:chExt cx="649080" cy="10051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9638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091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558960" y="4620960"/>
                <a:ext cx="649080" cy="1005120"/>
                <a:chOff x="3558960" y="4620960"/>
                <a:chExt cx="649080" cy="10051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6136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5589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208760" y="4620960"/>
                <a:ext cx="649080" cy="1005120"/>
                <a:chOff x="4208760" y="4620960"/>
                <a:chExt cx="649080" cy="10051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26348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20876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858200" y="4620960"/>
                <a:ext cx="649080" cy="1005120"/>
                <a:chOff x="4858200" y="4620960"/>
                <a:chExt cx="649080" cy="10051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9129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582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5508000" y="4620960"/>
                <a:ext cx="649080" cy="1005120"/>
                <a:chOff x="5508000" y="4620960"/>
                <a:chExt cx="649080" cy="10051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5627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080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157800" y="4620960"/>
                <a:ext cx="649080" cy="1005120"/>
                <a:chOff x="6157800" y="4620960"/>
                <a:chExt cx="649080" cy="10051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1252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15780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6807240" y="4620960"/>
                <a:ext cx="649080" cy="1005120"/>
                <a:chOff x="6807240" y="4620960"/>
                <a:chExt cx="649080" cy="10051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68619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8072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57040" y="4620960"/>
                <a:ext cx="649080" cy="1005120"/>
                <a:chOff x="7457040" y="4620960"/>
                <a:chExt cx="649080" cy="10051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5117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570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8106840" y="4620960"/>
                <a:ext cx="649080" cy="1005120"/>
                <a:chOff x="8106840" y="4620960"/>
                <a:chExt cx="649080" cy="10051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161560" y="4620960"/>
                  <a:ext cx="539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06840" y="4620960"/>
                  <a:ext cx="6490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304920" y="2971800"/>
              <a:ext cx="8457840" cy="2658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60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es según temperatu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41280"/>
            <a:ext cx="8686800" cy="53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gún temperaturas se diferencian tres grandes grupos climát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SIN INVIERNO DE LAS BAJ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LATITUDES: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frío supera los 18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IN VERANO DE LAS ALTAS LATITUDE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temperatura media del mes más cálido no supera los 10ºC.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CON VERANO E INVIERNO DE LAS LATITUDES    MEDIA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ntre las dos Isotermas límites de los 10ºC. y los 18º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RABAJ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14400" y="1828800"/>
            <a:ext cx="716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1700280"/>
            <a:ext cx="8381880" cy="18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EFINA EL TIPO DE CLIMA DE SU LOCA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USE EL SIGUIENTE CUADRO.  EXPLIQUE EL PORQUE DE SU CLASIFIC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50920" y="3716280"/>
            <a:ext cx="8457840" cy="2160720"/>
            <a:chOff x="250920" y="3716280"/>
            <a:chExt cx="8457840" cy="2160720"/>
          </a:xfrm>
        </p:grpSpPr>
        <p:grpSp>
          <p:nvGrpSpPr>
            <p:cNvPr id="589" name=""/>
            <p:cNvGrpSpPr/>
            <p:nvPr/>
          </p:nvGrpSpPr>
          <p:grpSpPr>
            <a:xfrm>
              <a:off x="256680" y="3719880"/>
              <a:ext cx="8445240" cy="2152800"/>
              <a:chOff x="256680" y="3719880"/>
              <a:chExt cx="8445240" cy="2152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256680" y="3719880"/>
                <a:ext cx="649080" cy="668160"/>
                <a:chOff x="256680" y="3719880"/>
                <a:chExt cx="649080" cy="668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11040" y="371988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668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906120" y="3719880"/>
                <a:ext cx="649080" cy="668160"/>
                <a:chOff x="906120" y="3719880"/>
                <a:chExt cx="649080" cy="668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9608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E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9061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555920" y="3719880"/>
                <a:ext cx="649080" cy="668160"/>
                <a:chOff x="1555920" y="3719880"/>
                <a:chExt cx="649080" cy="668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6106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FE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559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205720" y="3719880"/>
                <a:ext cx="649080" cy="668160"/>
                <a:chOff x="2205720" y="3719880"/>
                <a:chExt cx="649080" cy="668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26044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20572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2855160" y="3719880"/>
                <a:ext cx="649080" cy="668160"/>
                <a:chOff x="2855160" y="3719880"/>
                <a:chExt cx="649080" cy="668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29098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B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8551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3504960" y="3719880"/>
                <a:ext cx="649080" cy="668160"/>
                <a:chOff x="3504960" y="3719880"/>
                <a:chExt cx="649080" cy="668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5596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M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5049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4154760" y="3719880"/>
                <a:ext cx="649080" cy="668160"/>
                <a:chOff x="4154760" y="3719880"/>
                <a:chExt cx="649080" cy="668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20948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15476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4804200" y="3719880"/>
                <a:ext cx="649080" cy="668160"/>
                <a:chOff x="4804200" y="3719880"/>
                <a:chExt cx="649080" cy="668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8589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JU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42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5454000" y="3719880"/>
                <a:ext cx="649080" cy="668160"/>
                <a:chOff x="5454000" y="3719880"/>
                <a:chExt cx="649080" cy="668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5087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A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4540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103800" y="3719880"/>
                <a:ext cx="649080" cy="668160"/>
                <a:chOff x="6103800" y="3719880"/>
                <a:chExt cx="649080" cy="668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15852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S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10380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753240" y="3719880"/>
                <a:ext cx="649080" cy="668160"/>
                <a:chOff x="6753240" y="3719880"/>
                <a:chExt cx="649080" cy="668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8079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OC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7532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403040" y="3719880"/>
                <a:ext cx="649080" cy="668160"/>
                <a:chOff x="7403040" y="3719880"/>
                <a:chExt cx="649080" cy="668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4577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NO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4030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052840" y="3719880"/>
                <a:ext cx="649080" cy="668160"/>
                <a:chOff x="8052840" y="3719880"/>
                <a:chExt cx="649080" cy="668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107560" y="371988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D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052840" y="371988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256680" y="4388040"/>
                <a:ext cx="649080" cy="668160"/>
                <a:chOff x="256680" y="4388040"/>
                <a:chExt cx="649080" cy="668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11040" y="4388040"/>
                  <a:ext cx="54000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T º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5668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906120" y="4388040"/>
                <a:ext cx="649080" cy="668160"/>
                <a:chOff x="906120" y="4388040"/>
                <a:chExt cx="649080" cy="668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9608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9061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555920" y="4388040"/>
                <a:ext cx="649080" cy="668160"/>
                <a:chOff x="1555920" y="4388040"/>
                <a:chExt cx="649080" cy="668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6106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5559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205720" y="4388040"/>
                <a:ext cx="649080" cy="668160"/>
                <a:chOff x="2205720" y="4388040"/>
                <a:chExt cx="649080" cy="668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26044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0572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2855160" y="4388040"/>
                <a:ext cx="649080" cy="668160"/>
                <a:chOff x="2855160" y="4388040"/>
                <a:chExt cx="649080" cy="668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29098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8551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504960" y="4388040"/>
                <a:ext cx="649080" cy="668160"/>
                <a:chOff x="3504960" y="4388040"/>
                <a:chExt cx="649080" cy="668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5596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5049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154760" y="4388040"/>
                <a:ext cx="649080" cy="668160"/>
                <a:chOff x="4154760" y="4388040"/>
                <a:chExt cx="649080" cy="668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20948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5476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804200" y="4388040"/>
                <a:ext cx="649080" cy="668160"/>
                <a:chOff x="4804200" y="4388040"/>
                <a:chExt cx="649080" cy="668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48589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042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5454000" y="4388040"/>
                <a:ext cx="649080" cy="668160"/>
                <a:chOff x="5454000" y="4388040"/>
                <a:chExt cx="649080" cy="668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55087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4540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6103800" y="4388040"/>
                <a:ext cx="649080" cy="668160"/>
                <a:chOff x="6103800" y="4388040"/>
                <a:chExt cx="649080" cy="6681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15852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10380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6753240" y="4388040"/>
                <a:ext cx="649080" cy="668160"/>
                <a:chOff x="6753240" y="4388040"/>
                <a:chExt cx="649080" cy="6681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8079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7532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7403040" y="4388040"/>
                <a:ext cx="649080" cy="668160"/>
                <a:chOff x="7403040" y="4388040"/>
                <a:chExt cx="649080" cy="66816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74577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4030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8052840" y="4388040"/>
                <a:ext cx="649080" cy="668160"/>
                <a:chOff x="8052840" y="4388040"/>
                <a:chExt cx="649080" cy="668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8107560" y="4388040"/>
                  <a:ext cx="53964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052840" y="4388040"/>
                  <a:ext cx="649080" cy="66816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56680" y="5056200"/>
                <a:ext cx="649080" cy="816480"/>
                <a:chOff x="256680" y="5056200"/>
                <a:chExt cx="649080" cy="8164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11040" y="5056200"/>
                  <a:ext cx="54000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Pp 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5668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906120" y="5056200"/>
                <a:ext cx="649080" cy="816480"/>
                <a:chOff x="906120" y="5056200"/>
                <a:chExt cx="649080" cy="8164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9608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3300"/>
                      </a:solidFill>
                      <a:latin typeface="Arial"/>
                      <a:ea typeface="Times New Roman"/>
                    </a:rPr>
                    <a:t>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9061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1555920" y="5056200"/>
                <a:ext cx="649080" cy="816480"/>
                <a:chOff x="1555920" y="5056200"/>
                <a:chExt cx="649080" cy="8164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16106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559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2205720" y="5056200"/>
                <a:ext cx="649080" cy="816480"/>
                <a:chOff x="2205720" y="5056200"/>
                <a:chExt cx="649080" cy="8164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26044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20572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855160" y="5056200"/>
                <a:ext cx="649080" cy="816480"/>
                <a:chOff x="2855160" y="5056200"/>
                <a:chExt cx="649080" cy="8164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9098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551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504960" y="5056200"/>
                <a:ext cx="649080" cy="816480"/>
                <a:chOff x="3504960" y="5056200"/>
                <a:chExt cx="649080" cy="81648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5596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5049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54760" y="5056200"/>
                <a:ext cx="649080" cy="816480"/>
                <a:chOff x="4154760" y="5056200"/>
                <a:chExt cx="649080" cy="8164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20948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15476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4804200" y="5056200"/>
                <a:ext cx="649080" cy="816480"/>
                <a:chOff x="4804200" y="5056200"/>
                <a:chExt cx="649080" cy="81648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48589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8042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454000" y="5056200"/>
                <a:ext cx="649080" cy="816480"/>
                <a:chOff x="5454000" y="5056200"/>
                <a:chExt cx="649080" cy="81648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55087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4540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103800" y="5056200"/>
                <a:ext cx="649080" cy="816480"/>
                <a:chOff x="6103800" y="5056200"/>
                <a:chExt cx="649080" cy="816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615852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10380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753240" y="5056200"/>
                <a:ext cx="649080" cy="816480"/>
                <a:chOff x="6753240" y="5056200"/>
                <a:chExt cx="649080" cy="816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8079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7532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403040" y="5056200"/>
                <a:ext cx="649080" cy="816480"/>
                <a:chOff x="7403040" y="5056200"/>
                <a:chExt cx="649080" cy="816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74577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4030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8052840" y="5056200"/>
                <a:ext cx="649080" cy="816480"/>
                <a:chOff x="8052840" y="5056200"/>
                <a:chExt cx="649080" cy="816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8107560" y="5056200"/>
                  <a:ext cx="539640" cy="81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052840" y="5056200"/>
                  <a:ext cx="649080" cy="816480"/>
                </a:xfrm>
                <a:prstGeom prst="rect">
                  <a:avLst/>
                </a:prstGeom>
                <a:noFill/>
                <a:ln w="64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7" name=""/>
            <p:cNvSpPr/>
            <p:nvPr/>
          </p:nvSpPr>
          <p:spPr>
            <a:xfrm>
              <a:off x="250920" y="3716280"/>
              <a:ext cx="8457840" cy="2160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536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  <a:ea typeface="Arial Unicode MS"/>
              </a:rPr>
              <a:t>Clasificaciones según precipi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76520"/>
            <a:ext cx="89154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según precipitaciones de Bla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ingue los siguientes tipos de climas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º) CLIMAS 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0-25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º) CLIMAS SEMIÁRI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250-350 mm. anual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º) CLIMAS SUB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350-1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º) CLIMAS H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000-2000 mm.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º) CLIMAS HIPERMÚMEDO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+ 2000 mm.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lasificaciones Empí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95280"/>
            <a:ext cx="8534160" cy="56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tras clasificaciones como la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Köpp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, combina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 y temperatu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y caracterizan cada zona climática por la formación vegetal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 de 1918 aunque posteriormente este científico alemán la siguió perfeccionando y tras su muerte otros geógrafos y climatólogos, como el estadounidense Trewartha la han adaptado y mejorado. Esto permite que en la actualidad siga siendo la clasificación climática más util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Clasificacion de </a:t>
            </a: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KÖPP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 objetivo fue diseñar fórmulas que pudieran definir fronteras climáticas de tal modo que se correspondan con aquellas zonas de vegetación que él había estado diseñando durante toda su vida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8120"/>
            <a:ext cx="853416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Cinco grandes tipo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La clasificación de Köppen está basada en la subdivisión de los climas terrestres dentro de cinco grandes tipos, los cuales están representados por las letras mayúsculas A, B, C, D y E. Cada uno de estos tipos de clima, excepto el B, está definido por 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criterios de temperaturas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El tipo B esta basado en un criterio hi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1048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l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ipo B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designa los climas en los cuales el factor determinante de la vegetación es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sequedad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a aridez está definida por la relación entre l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recipitacione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penetran en el suelo donde las plantas crecen y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evaporac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que hace que se pierda esta húm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Los otros tipos están basados en un criterio ter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Como señalamos arriba,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temperatura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efine los otros cuatro grandes tipos climáticos. Estos son subdivididos, con letras adicionales otra vez, usadas para designar varios subtip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clasificación d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pp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ta hecha en base a let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666880"/>
            <a:ext cx="79246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 la Zona Cli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orresponde al régimen híd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tér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ill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aracterísticas miscelá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: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s b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523880"/>
            <a:ext cx="3733560" cy="76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523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mas Zona A  “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ropical Lluvios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52560"/>
            <a:ext cx="84582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Tº media del mes más frío es superior 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18ºC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usencia de estación inver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luviosidad anual alt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(R&gt;750 mm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y excede la evaporación a lo largo del mismo perio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imas característic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:  “Selva tropical lluviosa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gt;=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m : “Bosque lluvioso ”,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(sec)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Aw : “Sabana tropical ”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r lo menos un mes con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 r &lt; 60 m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(sec) : pp mes más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1:44:01Z</dcterms:created>
  <dc:creator>JOSE ARIAS</dc:creator>
  <dc:description/>
  <dc:language>en-US</dc:language>
  <cp:lastModifiedBy>Director Silvicultura</cp:lastModifiedBy>
  <dcterms:modified xsi:type="dcterms:W3CDTF">2008-11-24T14:09:54Z</dcterms:modified>
  <cp:revision>22</cp:revision>
  <dc:subject/>
  <dc:title>CLASIFICACION CLIMATICA</dc:title>
</cp:coreProperties>
</file>