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BB5-76BA-4D58-BA02-7DFD6BDC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278-3683-453E-8F9F-6A47D9C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4AC-A443-4B97-88D3-12C66ED3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806-E1EA-4CF6-9805-A794C788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637-147C-4AAE-990C-3CE1697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5CB-81BE-4277-B327-4154A4C0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0DD-8799-423D-AEC7-D8B75EB7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FA2-3186-44E0-A604-FA6503B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7AC-1B9B-4484-8E63-A030784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65C-44D4-4645-9435-D0A7F9A8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E8A-3C05-4A8F-9C0E-80E21D62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058-F9F3-44C6-ACAB-B4BDCC8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3B1-FF49-4A1A-BEE4-4C441DFF130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D:/disco-d/Cs/portadamapa/portadamapas.htm" TargetMode="External"/><Relationship Id="rId3" Type="http://schemas.openxmlformats.org/officeDocument/2006/relationships/hyperlink" Target="file:///D:/disco-d/BSh/portadamapa/portadamapas.htm" TargetMode="External"/><Relationship Id="rId4" Type="http://schemas.openxmlformats.org/officeDocument/2006/relationships/hyperlink" Target="file:///D:/disco-d/Bwh/portadamapa/portadamapas.htm" TargetMode="External"/><Relationship Id="rId5" Type="http://schemas.openxmlformats.org/officeDocument/2006/relationships/hyperlink" Target="file:///D:/disco-d/Am/portadamapa/portadamapas.htm" TargetMode="External"/><Relationship Id="rId6" Type="http://schemas.openxmlformats.org/officeDocument/2006/relationships/hyperlink" Target="file:///D:/disco-d/BSh/portadamapa/portadamapas.htm" TargetMode="External"/><Relationship Id="rId7" Type="http://schemas.openxmlformats.org/officeDocument/2006/relationships/hyperlink" Target="file:///D:/disco-d/Aw/portadamapa/portadamapas.htm" TargetMode="External"/><Relationship Id="rId8" Type="http://schemas.openxmlformats.org/officeDocument/2006/relationships/hyperlink" Target="file:///D:/disco-d/BSh/portadamapa/portadamapas.htm" TargetMode="External"/><Relationship Id="rId9" Type="http://schemas.openxmlformats.org/officeDocument/2006/relationships/hyperlink" Target="file:///D:/disco-d/ET/portadamapa/portadamapas.htm" TargetMode="External"/><Relationship Id="rId10" Type="http://schemas.openxmlformats.org/officeDocument/2006/relationships/hyperlink" Target="file:///D:/disco-d/Bwh/portadamapa/portadamapas.htm" TargetMode="External"/><Relationship Id="rId11" Type="http://schemas.openxmlformats.org/officeDocument/2006/relationships/hyperlink" Target="file:///D:/disco-d/Af/portadamapa/portadamapas.htm" TargetMode="External"/><Relationship Id="rId12" Type="http://schemas.openxmlformats.org/officeDocument/2006/relationships/hyperlink" Target="file:///D:/disco-d/ET/portadamapa/portadamapas.htm" TargetMode="External"/><Relationship Id="rId13" Type="http://schemas.openxmlformats.org/officeDocument/2006/relationships/hyperlink" Target="file:///D:/disco-d/ET/portadamapa/portadamapas.htm" TargetMode="External"/><Relationship Id="rId14" Type="http://schemas.openxmlformats.org/officeDocument/2006/relationships/hyperlink" Target="file:///D:/disco-d/BSh/portadamapa/portadamapas.htm" TargetMode="External"/><Relationship Id="rId15" Type="http://schemas.openxmlformats.org/officeDocument/2006/relationships/hyperlink" Target="file:///D:/disco-d/BSh/portadamapa/portadamapas.htm" TargetMode="External"/><Relationship Id="rId16" Type="http://schemas.openxmlformats.org/officeDocument/2006/relationships/hyperlink" Target="file:///D:/disco-d/Aw/portadamapa/portadamapas.htm" TargetMode="External"/><Relationship Id="rId17" Type="http://schemas.openxmlformats.org/officeDocument/2006/relationships/hyperlink" Target="file:///D:/disco-d/Af/portadamapa/portadamapas.htm" TargetMode="External"/><Relationship Id="rId18" Type="http://schemas.openxmlformats.org/officeDocument/2006/relationships/hyperlink" Target="file:///D:/disco-d/Aw/portadamapa/portadamapas.htm" TargetMode="External"/><Relationship Id="rId19" Type="http://schemas.openxmlformats.org/officeDocument/2006/relationships/hyperlink" Target="file:///D:/disco-d/BSh/portadamapa/portadamapas.htm" TargetMode="External"/><Relationship Id="rId20" Type="http://schemas.openxmlformats.org/officeDocument/2006/relationships/hyperlink" Target="file:///D:/disco-d/Cw/portadamapa/portadamapas.htm" TargetMode="External"/><Relationship Id="rId21" Type="http://schemas.openxmlformats.org/officeDocument/2006/relationships/hyperlink" Target="file:///D:/disco-d/Cf/portadamapa/portadamapas.htm" TargetMode="External"/><Relationship Id="rId22" Type="http://schemas.openxmlformats.org/officeDocument/2006/relationships/hyperlink" Target="file:///D:/disco-d/BSh/portadamapa/portadamapas.htm" TargetMode="External"/><Relationship Id="rId23" Type="http://schemas.openxmlformats.org/officeDocument/2006/relationships/hyperlink" Target="file:///D:/disco-d/Bwh/portadamapa/portadamapas.htm" TargetMode="External"/><Relationship Id="rId24" Type="http://schemas.openxmlformats.org/officeDocument/2006/relationships/hyperlink" Target="file:///D:/disco-d/Cs/portadamapa/portadamapas.htm" TargetMode="External"/><Relationship Id="rId25" Type="http://schemas.openxmlformats.org/officeDocument/2006/relationships/hyperlink" Target="file:///D:/disco-d/Bwh/portadamapa/portadamapas.htm" TargetMode="External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image" Target="../media/image18.png"/><Relationship Id="rId9" Type="http://schemas.openxmlformats.org/officeDocument/2006/relationships/hyperlink" Target="file:///D:/disco-d/BSh/portadamapa/portadamapas.htm" TargetMode="External"/><Relationship Id="rId10" Type="http://schemas.openxmlformats.org/officeDocument/2006/relationships/hyperlink" Target="file:///D:/disco-d/Bwh/portadamapa/portadamapas.htm" TargetMode="External"/><Relationship Id="rId11" Type="http://schemas.openxmlformats.org/officeDocument/2006/relationships/hyperlink" Target="file:///D:/disco-d/Aw/portadamapa/portadamapas.htm" TargetMode="External"/><Relationship Id="rId12" Type="http://schemas.openxmlformats.org/officeDocument/2006/relationships/hyperlink" Target="file:///D:/disco-d/Am/portadamapa/portadamapas.htm" TargetMode="External"/><Relationship Id="rId13" Type="http://schemas.openxmlformats.org/officeDocument/2006/relationships/hyperlink" Target="file:///D:/disco-d/Af/portadamapa/portadamapas.htm" TargetMode="External"/><Relationship Id="rId14" Type="http://schemas.openxmlformats.org/officeDocument/2006/relationships/hyperlink" Target="file:///D:/disco-d/Aw/portadamapa/portadamapas.htm" TargetMode="External"/><Relationship Id="rId15" Type="http://schemas.openxmlformats.org/officeDocument/2006/relationships/hyperlink" Target="file:///D:/disco-d/BSh/portadamapa/portadamapas.htm" TargetMode="External"/><Relationship Id="rId16" Type="http://schemas.openxmlformats.org/officeDocument/2006/relationships/hyperlink" Target="file:///D:/disco-d/Af/portadamapa/portadamapas.htm" TargetMode="External"/><Relationship Id="rId17" Type="http://schemas.openxmlformats.org/officeDocument/2006/relationships/hyperlink" Target="file:///D:/disco-d/BSh/portadamapa/portadamapas.htm" TargetMode="External"/><Relationship Id="rId18" Type="http://schemas.openxmlformats.org/officeDocument/2006/relationships/hyperlink" Target="file:///D:/disco-d/Aw/portadamapa/portadamapas.htm" TargetMode="External"/><Relationship Id="rId19" Type="http://schemas.openxmlformats.org/officeDocument/2006/relationships/hyperlink" Target="file:///D:/disco-d/Aw/portadamapa/portadamapas.htm" TargetMode="External"/><Relationship Id="rId20" Type="http://schemas.openxmlformats.org/officeDocument/2006/relationships/hyperlink" Target="file:///D:/disco-d/Af/portadamapa/portadamapas.htm" TargetMode="External"/><Relationship Id="rId21" Type="http://schemas.openxmlformats.org/officeDocument/2006/relationships/hyperlink" Target="file:///D:/disco-d/Am/portadamapa/portadamapas.htm" TargetMode="External"/><Relationship Id="rId22" Type="http://schemas.openxmlformats.org/officeDocument/2006/relationships/hyperlink" Target="file:///D:/disco-d/Bwh/portadamapa/portadamapas.htm" TargetMode="External"/><Relationship Id="rId23" Type="http://schemas.openxmlformats.org/officeDocument/2006/relationships/hyperlink" Target="file:///D:/disco-d/ET/portadamapa/portadamapas.htm" TargetMode="External"/><Relationship Id="rId24" Type="http://schemas.openxmlformats.org/officeDocument/2006/relationships/hyperlink" Target="file:///D:/disco-d/Cf/portadamapa/portadamapas.htm" TargetMode="External"/><Relationship Id="rId25" Type="http://schemas.openxmlformats.org/officeDocument/2006/relationships/hyperlink" Target="file:///D:/disco-d/Cw/portadamapa/portadamapas.htm" TargetMode="External"/><Relationship Id="rId26" Type="http://schemas.openxmlformats.org/officeDocument/2006/relationships/hyperlink" Target="file:///D:/disco-d/Cf/portadamapa/portadamapas.htm" TargetMode="External"/><Relationship Id="rId27" Type="http://schemas.openxmlformats.org/officeDocument/2006/relationships/hyperlink" Target="file:///D:/disco-d/BSh/portadamapa/portadamapas.htm" TargetMode="External"/><Relationship Id="rId28" Type="http://schemas.openxmlformats.org/officeDocument/2006/relationships/hyperlink" Target="file:///D:/disco-d/BSh/portadamapa/portadamapas.htm" TargetMode="External"/><Relationship Id="rId29" Type="http://schemas.openxmlformats.org/officeDocument/2006/relationships/hyperlink" Target="file:///D:/disco-d/Cs/portadamapa/portadamapas.htm" TargetMode="External"/><Relationship Id="rId30" Type="http://schemas.openxmlformats.org/officeDocument/2006/relationships/hyperlink" Target="file:///D:/disco-d/Cf/portadamapa/portadamapas.htm" TargetMode="External"/><Relationship Id="rId31" Type="http://schemas.openxmlformats.org/officeDocument/2006/relationships/hyperlink" Target="file:///D:/disco-d/BWk/portadamapa/portadamapas.htm" TargetMode="External"/><Relationship Id="rId32" Type="http://schemas.openxmlformats.org/officeDocument/2006/relationships/hyperlink" Target="file:///D:/disco-d/BSh/portadamapa/portadamapas.htm" TargetMode="External"/><Relationship Id="rId33" Type="http://schemas.openxmlformats.org/officeDocument/2006/relationships/hyperlink" Target="file:///D:/disco-d/Cf/portadamapa/portadamapas.htm" TargetMode="External"/><Relationship Id="rId34" Type="http://schemas.openxmlformats.org/officeDocument/2006/relationships/image" Target="../media/image15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hyperlink" Target="http://www.terra.es/personal/jesusconde/Koppen/Cs/news.html" TargetMode="External"/><Relationship Id="rId9" Type="http://schemas.openxmlformats.org/officeDocument/2006/relationships/hyperlink" Target="http://www.terra.es/personal/jesusconde/Koppen/Cs/services.html" TargetMode="External"/><Relationship Id="rId10" Type="http://schemas.openxmlformats.org/officeDocument/2006/relationships/hyperlink" Target="http://www.terra.es/personal/jesusconde/Koppen/Cs/about.html" TargetMode="External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ASIFICACION CLIMA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según tempera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según precipit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Empír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57200"/>
            <a:ext cx="35812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ULTAD CS. FORES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EDRA GEOGRAFIA FI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. JUAN CALDENT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548640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5562720"/>
            <a:ext cx="380880" cy="380880"/>
          </a:xfrm>
          <a:prstGeom prst="rect">
            <a:avLst/>
          </a:prstGeom>
          <a:solidFill>
            <a:srgbClr val="a78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172200"/>
            <a:ext cx="380880" cy="380880"/>
          </a:xfrm>
          <a:prstGeom prst="rect">
            <a:avLst/>
          </a:prstGeom>
          <a:solidFill>
            <a:srgbClr val="441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638680"/>
            <a:ext cx="380880" cy="381240"/>
          </a:xfrm>
          <a:prstGeom prst="rect">
            <a:avLst/>
          </a:prstGeom>
          <a:solidFill>
            <a:srgbClr val="f67e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B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eco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8224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vaporación excede la precipitación sobre  un promedio anual, de manera que no hay excedente hídrico  y no se originan cursos permanentes de aguas (río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precipitación anual debe ser menor que dos veces la tempera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S : “Estepa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rido caracterizado por sus prader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sértic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, árido con pp anual inferior a 40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52578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erto cáli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erto 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pa cál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pa f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5257800"/>
            <a:ext cx="380880" cy="336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038480" y="5257800"/>
            <a:ext cx="381240" cy="3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86728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867280"/>
            <a:ext cx="380880" cy="304920"/>
          </a:xfrm>
          <a:prstGeom prst="rect">
            <a:avLst/>
          </a:prstGeom>
          <a:solidFill>
            <a:srgbClr val="bb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mas Zona C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“ Templado Lluvioso ” (mesotérmico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600200"/>
            <a:ext cx="830556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as frío esta entre -3ºC y 18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ás cálido debe ser superior a 10ºC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climas de este tipo presentan una estación invernal y otra estiv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w : “Invierno seco”, 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30 mm (en invier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s : “Verano seco caluroso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30 mm (en vera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f : “Constantemente húmedo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gt;= 30 m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(sec) : Pp mes más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457200" cy="403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51814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emente húme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vierno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terr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257800" y="5181480"/>
            <a:ext cx="457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mas Zona D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“Boreal o de nieve y bosque”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(microtérmico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101680"/>
            <a:ext cx="8153280" cy="38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º media del mes más frío es  inferior a -3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o la T° media del más cálido debe superar medio supera los 10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terma que coincide aproximadamente con el limite septentrional de crecimiento del bosq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f : “Invierno húmedo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hay estación se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w: “Invierno frío y seco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luvia periódica en vera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5410080"/>
            <a:ext cx="45720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19920"/>
            <a:ext cx="45720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erno frío y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erno húm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“Polares o de Nie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76520"/>
            <a:ext cx="838188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romedio de la Tº del mes más cálido esta por debajo de los 10º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os climas no presentan verdaderos veran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T: “ Tundra ”,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(cal) &gt;= 0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F: “ Nieves perpetuas ” 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 de los casque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glaciares t&lt;0ºc todos l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meses del añ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594360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57200" cy="403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5280" y="539604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ves perpet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251280"/>
            <a:ext cx="813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Los climas A, C y D proporcionan suficiente calor y precipitaciones para que crezcan selvas altas y montes baj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La 2ª letra sirve para diferenciar mejor los grandes grupos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H   Efecto de altur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2276640"/>
          <a:ext cx="8280360" cy="4176720"/>
        </p:xfrm>
        <a:graphic>
          <a:graphicData uri="http://schemas.openxmlformats.org/drawingml/2006/table">
            <a:tbl>
              <a:tblPr/>
              <a:tblGrid>
                <a:gridCol w="287280"/>
                <a:gridCol w="7993080"/>
              </a:tblGrid>
              <a:tr h="92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lima semiárido (ESTE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Árido (DESIERTO) – Las mayúsculas se emplean solamente para los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iempre húmedo. Suficientes precipitaciones en todos los meses, sin temporada seca (se emplea para los climas de los grupos A, C y 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w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Temporada seca durante el invierno del hemisferio respe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equía en ve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Las clasificaciones de los cl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752480"/>
            <a:ext cx="815364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 basan en distintas combinaciones de los diversos elementos y factores climáticos, por ello no existe una clasificación única para satisfacer los distintos f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s clasificaciones basadas en temperaturas y precipitaciones son las más abund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79848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Con frecuencia se agrega una tercera letra  para indicar otras variaciones climáticas que producen diferenciaciones importantes dentro de un tipo climát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628640"/>
          <a:ext cx="8280360" cy="4789800"/>
        </p:xfrm>
        <a:graphic>
          <a:graphicData uri="http://schemas.openxmlformats.org/drawingml/2006/table">
            <a:tbl>
              <a:tblPr/>
              <a:tblGrid>
                <a:gridCol w="217440"/>
                <a:gridCol w="80629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caliente; la temperatura media del mes más cálido supera los 22° C. Se emplea para los climas C y 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caliente; la temperatura media del mes más cálido es inferior a los 22° C. Se emplea para los climas C y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breve y fresco; menos de cuatro meses con una temperatura media por encima de los 10° C. Se emplea para los climas C y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d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invierno muy frío; la temperatura media del mes más frío supera los -38° C. Sólo para climas 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aliente y seco. Temperatura media anual por debajo de los 18° C. Sólo para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Frío y seco. Temperatura media anual por encima de los 18° C. Sólo para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no se da en Latinoaméric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4360" y="299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http://terra.es/personal/jesuscond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22860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istribución de los Climas según Köpp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0" y="37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2120" y="372960"/>
            <a:ext cx="8701200" cy="6111720"/>
            <a:chOff x="222120" y="372960"/>
            <a:chExt cx="8701200" cy="6111720"/>
          </a:xfrm>
        </p:grpSpPr>
        <p:sp>
          <p:nvSpPr>
            <p:cNvPr id="110" name=""/>
            <p:cNvSpPr/>
            <p:nvPr/>
          </p:nvSpPr>
          <p:spPr>
            <a:xfrm>
              <a:off x="222120" y="372960"/>
              <a:ext cx="6716880" cy="55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000" y="372960"/>
              <a:ext cx="1984320" cy="61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2120" y="5965560"/>
              <a:ext cx="671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0" y="648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0600" y="419040"/>
            <a:ext cx="6446880" cy="5349960"/>
            <a:chOff x="390600" y="419040"/>
            <a:chExt cx="6446880" cy="53499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90600" y="419040"/>
              <a:ext cx="6446880" cy="53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>
              <a:hlinkClick r:id="rId2"/>
            </p:cNvPr>
            <p:cNvSpPr/>
            <p:nvPr/>
          </p:nvSpPr>
          <p:spPr>
            <a:xfrm>
              <a:off x="2664000" y="463320"/>
              <a:ext cx="3315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>
              <a:hlinkClick r:id="rId3"/>
            </p:cNvPr>
            <p:cNvSpPr/>
            <p:nvPr/>
          </p:nvSpPr>
          <p:spPr>
            <a:xfrm>
              <a:off x="1612800" y="1047600"/>
              <a:ext cx="4222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4"/>
            </p:cNvPr>
            <p:cNvSpPr/>
            <p:nvPr/>
          </p:nvSpPr>
          <p:spPr>
            <a:xfrm>
              <a:off x="3110040" y="1538280"/>
              <a:ext cx="399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>
              <a:hlinkClick r:id="rId5"/>
            </p:cNvPr>
            <p:cNvSpPr/>
            <p:nvPr/>
          </p:nvSpPr>
          <p:spPr>
            <a:xfrm>
              <a:off x="1419480" y="2635200"/>
              <a:ext cx="296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>
              <a:hlinkClick r:id="rId6"/>
            </p:cNvPr>
            <p:cNvSpPr/>
            <p:nvPr/>
          </p:nvSpPr>
          <p:spPr>
            <a:xfrm>
              <a:off x="2355840" y="2670120"/>
              <a:ext cx="308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>
              <a:hlinkClick r:id="rId7"/>
            </p:cNvPr>
            <p:cNvSpPr/>
            <p:nvPr/>
          </p:nvSpPr>
          <p:spPr>
            <a:xfrm>
              <a:off x="3133800" y="2555640"/>
              <a:ext cx="3189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rId8"/>
            </p:cNvPr>
            <p:cNvSpPr/>
            <p:nvPr/>
          </p:nvSpPr>
          <p:spPr>
            <a:xfrm>
              <a:off x="3613320" y="2463840"/>
              <a:ext cx="46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>
              <a:hlinkClick r:id="rId9"/>
            </p:cNvPr>
            <p:cNvSpPr/>
            <p:nvPr/>
          </p:nvSpPr>
          <p:spPr>
            <a:xfrm>
              <a:off x="4870440" y="2338200"/>
              <a:ext cx="1936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>
              <a:hlinkClick r:id="rId10"/>
            </p:cNvPr>
            <p:cNvSpPr/>
            <p:nvPr/>
          </p:nvSpPr>
          <p:spPr>
            <a:xfrm>
              <a:off x="5545080" y="2487600"/>
              <a:ext cx="41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>
              <a:hlinkClick r:id="rId11"/>
            </p:cNvPr>
            <p:cNvSpPr/>
            <p:nvPr/>
          </p:nvSpPr>
          <p:spPr>
            <a:xfrm>
              <a:off x="3716280" y="3195720"/>
              <a:ext cx="228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>
              <a:hlinkClick r:id="rId12"/>
            </p:cNvPr>
            <p:cNvSpPr/>
            <p:nvPr/>
          </p:nvSpPr>
          <p:spPr>
            <a:xfrm>
              <a:off x="4619880" y="3378240"/>
              <a:ext cx="204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>
              <a:hlinkClick r:id="rId13"/>
            </p:cNvPr>
            <p:cNvSpPr/>
            <p:nvPr/>
          </p:nvSpPr>
          <p:spPr>
            <a:xfrm>
              <a:off x="4859280" y="3459240"/>
              <a:ext cx="2178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>
              <a:hlinkClick r:id="rId14"/>
            </p:cNvPr>
            <p:cNvSpPr/>
            <p:nvPr/>
          </p:nvSpPr>
          <p:spPr>
            <a:xfrm>
              <a:off x="5442120" y="3070080"/>
              <a:ext cx="353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>
              <a:hlinkClick r:id="rId15"/>
            </p:cNvPr>
            <p:cNvSpPr/>
            <p:nvPr/>
          </p:nvSpPr>
          <p:spPr>
            <a:xfrm>
              <a:off x="5178600" y="383544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>
              <a:hlinkClick r:id="rId16"/>
            </p:cNvPr>
            <p:cNvSpPr/>
            <p:nvPr/>
          </p:nvSpPr>
          <p:spPr>
            <a:xfrm>
              <a:off x="3944880" y="3949560"/>
              <a:ext cx="2970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>
              <a:hlinkClick r:id="rId17"/>
            </p:cNvPr>
            <p:cNvSpPr/>
            <p:nvPr/>
          </p:nvSpPr>
          <p:spPr>
            <a:xfrm>
              <a:off x="5819760" y="3984480"/>
              <a:ext cx="193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>
              <a:hlinkClick r:id="rId18"/>
            </p:cNvPr>
            <p:cNvSpPr/>
            <p:nvPr/>
          </p:nvSpPr>
          <p:spPr>
            <a:xfrm>
              <a:off x="5281560" y="4327560"/>
              <a:ext cx="2746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>
              <a:hlinkClick r:id="rId19"/>
            </p:cNvPr>
            <p:cNvSpPr/>
            <p:nvPr/>
          </p:nvSpPr>
          <p:spPr>
            <a:xfrm>
              <a:off x="5006880" y="4692600"/>
              <a:ext cx="331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>
              <a:hlinkClick r:id="rId20"/>
            </p:cNvPr>
            <p:cNvSpPr/>
            <p:nvPr/>
          </p:nvSpPr>
          <p:spPr>
            <a:xfrm>
              <a:off x="4310280" y="5310000"/>
              <a:ext cx="2523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>
              <a:hlinkClick r:id="rId21"/>
            </p:cNvPr>
            <p:cNvSpPr/>
            <p:nvPr/>
          </p:nvSpPr>
          <p:spPr>
            <a:xfrm>
              <a:off x="4138560" y="5048280"/>
              <a:ext cx="228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>
              <a:hlinkClick r:id="rId22"/>
            </p:cNvPr>
            <p:cNvSpPr/>
            <p:nvPr/>
          </p:nvSpPr>
          <p:spPr>
            <a:xfrm>
              <a:off x="3795840" y="4602240"/>
              <a:ext cx="3538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rId23"/>
            </p:cNvPr>
            <p:cNvSpPr/>
            <p:nvPr/>
          </p:nvSpPr>
          <p:spPr>
            <a:xfrm>
              <a:off x="3727440" y="5092560"/>
              <a:ext cx="263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rId24"/>
            </p:cNvPr>
            <p:cNvSpPr/>
            <p:nvPr/>
          </p:nvSpPr>
          <p:spPr>
            <a:xfrm>
              <a:off x="3419640" y="5402160"/>
              <a:ext cx="3189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>
              <a:hlinkClick r:id="rId25"/>
            </p:cNvPr>
            <p:cNvSpPr/>
            <p:nvPr/>
          </p:nvSpPr>
          <p:spPr>
            <a:xfrm>
              <a:off x="3006720" y="4498920"/>
              <a:ext cx="389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26"/>
          <a:stretch/>
        </p:blipFill>
        <p:spPr>
          <a:xfrm>
            <a:off x="7129440" y="102060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7"/>
          <a:stretch/>
        </p:blipFill>
        <p:spPr>
          <a:xfrm>
            <a:off x="2276640" y="6012000"/>
            <a:ext cx="27432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44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45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1090440" y="838080"/>
            <a:ext cx="7062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54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55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37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2120" y="372960"/>
            <a:ext cx="8701200" cy="6111720"/>
            <a:chOff x="222120" y="372960"/>
            <a:chExt cx="8701200" cy="6111720"/>
          </a:xfrm>
        </p:grpSpPr>
        <p:sp>
          <p:nvSpPr>
            <p:cNvPr id="163" name=""/>
            <p:cNvSpPr/>
            <p:nvPr/>
          </p:nvSpPr>
          <p:spPr>
            <a:xfrm>
              <a:off x="222120" y="372960"/>
              <a:ext cx="6716880" cy="55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9000" y="372960"/>
              <a:ext cx="1984320" cy="61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2120" y="5965560"/>
              <a:ext cx="671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40" y="648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0600" y="419040"/>
            <a:ext cx="6446880" cy="5349960"/>
            <a:chOff x="390600" y="419040"/>
            <a:chExt cx="6446880" cy="5349960"/>
          </a:xfrm>
        </p:grpSpPr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390600" y="419040"/>
              <a:ext cx="6446880" cy="53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>
              <a:hlinkClick r:id="rId9"/>
            </p:cNvPr>
            <p:cNvSpPr/>
            <p:nvPr/>
          </p:nvSpPr>
          <p:spPr>
            <a:xfrm>
              <a:off x="2287800" y="452520"/>
              <a:ext cx="331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>
              <a:hlinkClick r:id="rId10"/>
            </p:cNvPr>
            <p:cNvSpPr/>
            <p:nvPr/>
          </p:nvSpPr>
          <p:spPr>
            <a:xfrm>
              <a:off x="2766960" y="452520"/>
              <a:ext cx="2858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>
              <a:hlinkClick r:id="rId11"/>
            </p:cNvPr>
            <p:cNvSpPr/>
            <p:nvPr/>
          </p:nvSpPr>
          <p:spPr>
            <a:xfrm>
              <a:off x="2927520" y="876240"/>
              <a:ext cx="331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>
              <a:hlinkClick r:id="rId12"/>
            </p:cNvPr>
            <p:cNvSpPr/>
            <p:nvPr/>
          </p:nvSpPr>
          <p:spPr>
            <a:xfrm>
              <a:off x="4048200" y="1434960"/>
              <a:ext cx="3189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>
              <a:hlinkClick r:id="rId13"/>
            </p:cNvPr>
            <p:cNvSpPr/>
            <p:nvPr/>
          </p:nvSpPr>
          <p:spPr>
            <a:xfrm>
              <a:off x="1978200" y="1069920"/>
              <a:ext cx="2746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rId14"/>
            </p:cNvPr>
            <p:cNvSpPr/>
            <p:nvPr/>
          </p:nvSpPr>
          <p:spPr>
            <a:xfrm>
              <a:off x="1533600" y="1276200"/>
              <a:ext cx="297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>
              <a:hlinkClick r:id="rId15"/>
            </p:cNvPr>
            <p:cNvSpPr/>
            <p:nvPr/>
          </p:nvSpPr>
          <p:spPr>
            <a:xfrm>
              <a:off x="1692360" y="1562040"/>
              <a:ext cx="2635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>
              <a:hlinkClick r:id="rId16"/>
            </p:cNvPr>
            <p:cNvSpPr/>
            <p:nvPr/>
          </p:nvSpPr>
          <p:spPr>
            <a:xfrm>
              <a:off x="2766960" y="1709640"/>
              <a:ext cx="389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>
              <a:hlinkClick r:id="rId17"/>
            </p:cNvPr>
            <p:cNvSpPr/>
            <p:nvPr/>
          </p:nvSpPr>
          <p:spPr>
            <a:xfrm>
              <a:off x="5396040" y="1619280"/>
              <a:ext cx="492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>
              <a:hlinkClick r:id="rId18"/>
            </p:cNvPr>
            <p:cNvSpPr/>
            <p:nvPr/>
          </p:nvSpPr>
          <p:spPr>
            <a:xfrm>
              <a:off x="5442120" y="2006640"/>
              <a:ext cx="228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>
              <a:hlinkClick r:id="rId19"/>
            </p:cNvPr>
            <p:cNvSpPr/>
            <p:nvPr/>
          </p:nvSpPr>
          <p:spPr>
            <a:xfrm>
              <a:off x="3853080" y="2292120"/>
              <a:ext cx="3999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>
              <a:hlinkClick r:id="rId20"/>
            </p:cNvPr>
            <p:cNvSpPr/>
            <p:nvPr/>
          </p:nvSpPr>
          <p:spPr>
            <a:xfrm>
              <a:off x="5064120" y="2590920"/>
              <a:ext cx="285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>
              <a:hlinkClick r:id="rId21"/>
            </p:cNvPr>
            <p:cNvSpPr/>
            <p:nvPr/>
          </p:nvSpPr>
          <p:spPr>
            <a:xfrm>
              <a:off x="4962600" y="2977920"/>
              <a:ext cx="34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>
              <a:hlinkClick r:id="rId22"/>
            </p:cNvPr>
            <p:cNvSpPr/>
            <p:nvPr/>
          </p:nvSpPr>
          <p:spPr>
            <a:xfrm>
              <a:off x="2138400" y="2727360"/>
              <a:ext cx="4683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>
              <a:hlinkClick r:id="rId23"/>
            </p:cNvPr>
            <p:cNvSpPr/>
            <p:nvPr/>
          </p:nvSpPr>
          <p:spPr>
            <a:xfrm>
              <a:off x="2949480" y="3002040"/>
              <a:ext cx="2415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>
              <a:hlinkClick r:id="rId24"/>
            </p:cNvPr>
            <p:cNvSpPr/>
            <p:nvPr/>
          </p:nvSpPr>
          <p:spPr>
            <a:xfrm>
              <a:off x="4459320" y="3459240"/>
              <a:ext cx="31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>
              <a:hlinkClick r:id="rId25"/>
            </p:cNvPr>
            <p:cNvSpPr/>
            <p:nvPr/>
          </p:nvSpPr>
          <p:spPr>
            <a:xfrm>
              <a:off x="3521160" y="3720960"/>
              <a:ext cx="366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>
              <a:hlinkClick r:id="rId26"/>
            </p:cNvPr>
            <p:cNvSpPr/>
            <p:nvPr/>
          </p:nvSpPr>
          <p:spPr>
            <a:xfrm>
              <a:off x="3624480" y="4338720"/>
              <a:ext cx="274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rId27"/>
            </p:cNvPr>
            <p:cNvSpPr/>
            <p:nvPr/>
          </p:nvSpPr>
          <p:spPr>
            <a:xfrm>
              <a:off x="2459160" y="3824280"/>
              <a:ext cx="3078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>
              <a:hlinkClick r:id="rId28"/>
            </p:cNvPr>
            <p:cNvSpPr/>
            <p:nvPr/>
          </p:nvSpPr>
          <p:spPr>
            <a:xfrm>
              <a:off x="3338640" y="4487760"/>
              <a:ext cx="2397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>
              <a:hlinkClick r:id="rId29"/>
            </p:cNvPr>
            <p:cNvSpPr/>
            <p:nvPr/>
          </p:nvSpPr>
          <p:spPr>
            <a:xfrm>
              <a:off x="2390760" y="4213080"/>
              <a:ext cx="376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>
              <a:hlinkClick r:id="rId30"/>
            </p:cNvPr>
            <p:cNvSpPr/>
            <p:nvPr/>
          </p:nvSpPr>
          <p:spPr>
            <a:xfrm>
              <a:off x="2516400" y="4944960"/>
              <a:ext cx="3427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>
              <a:hlinkClick r:id="rId31"/>
            </p:cNvPr>
            <p:cNvSpPr/>
            <p:nvPr/>
          </p:nvSpPr>
          <p:spPr>
            <a:xfrm>
              <a:off x="3052800" y="4727520"/>
              <a:ext cx="331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>
              <a:hlinkClick r:id="rId32"/>
            </p:cNvPr>
            <p:cNvSpPr/>
            <p:nvPr/>
          </p:nvSpPr>
          <p:spPr>
            <a:xfrm>
              <a:off x="3041640" y="5241960"/>
              <a:ext cx="263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>
              <a:hlinkClick r:id="rId33"/>
            </p:cNvPr>
            <p:cNvSpPr/>
            <p:nvPr/>
          </p:nvSpPr>
          <p:spPr>
            <a:xfrm>
              <a:off x="2813040" y="5527440"/>
              <a:ext cx="25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34"/>
          <a:stretch/>
        </p:blipFill>
        <p:spPr>
          <a:xfrm>
            <a:off x="7129440" y="102060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5"/>
          <a:stretch/>
        </p:blipFill>
        <p:spPr>
          <a:xfrm>
            <a:off x="2276640" y="6012000"/>
            <a:ext cx="27432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98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99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207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208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8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9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0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1090440" y="990720"/>
            <a:ext cx="7291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920" y="3048120"/>
            <a:ext cx="8533800" cy="2658960"/>
            <a:chOff x="304920" y="3048120"/>
            <a:chExt cx="8533800" cy="2658960"/>
          </a:xfrm>
        </p:grpSpPr>
        <p:grpSp>
          <p:nvGrpSpPr>
            <p:cNvPr id="219" name=""/>
            <p:cNvGrpSpPr/>
            <p:nvPr/>
          </p:nvGrpSpPr>
          <p:grpSpPr>
            <a:xfrm>
              <a:off x="310680" y="3052800"/>
              <a:ext cx="8520840" cy="2649600"/>
              <a:chOff x="310680" y="3052800"/>
              <a:chExt cx="8520840" cy="26496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0680" y="3052800"/>
                <a:ext cx="654840" cy="822240"/>
                <a:chOff x="310680" y="3052800"/>
                <a:chExt cx="654840" cy="822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65400" y="3052800"/>
                  <a:ext cx="544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0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965880" y="3052800"/>
                <a:ext cx="654840" cy="822240"/>
                <a:chOff x="965880" y="3052800"/>
                <a:chExt cx="654840" cy="822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0213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9658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21440" y="3052800"/>
                <a:ext cx="654840" cy="822240"/>
                <a:chOff x="1621440" y="3052800"/>
                <a:chExt cx="654840" cy="822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688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2144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277000" y="3052800"/>
                <a:ext cx="654840" cy="822240"/>
                <a:chOff x="2277000" y="3052800"/>
                <a:chExt cx="654840" cy="822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33244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27700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2932560" y="3052800"/>
                <a:ext cx="654840" cy="822240"/>
                <a:chOff x="2932560" y="3052800"/>
                <a:chExt cx="654840" cy="822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98800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93256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588120" y="3052800"/>
                <a:ext cx="654840" cy="822240"/>
                <a:chOff x="3588120" y="3052800"/>
                <a:chExt cx="654840" cy="822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6435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881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243680" y="3052800"/>
                <a:ext cx="654840" cy="822240"/>
                <a:chOff x="4243680" y="3052800"/>
                <a:chExt cx="654840" cy="822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2991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243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899240" y="3052800"/>
                <a:ext cx="654840" cy="822240"/>
                <a:chOff x="4899240" y="3052800"/>
                <a:chExt cx="654840" cy="8222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95468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9924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54800" y="3052800"/>
                <a:ext cx="654840" cy="822240"/>
                <a:chOff x="5554800" y="3052800"/>
                <a:chExt cx="654840" cy="8222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61024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5480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210360" y="3052800"/>
                <a:ext cx="654840" cy="822240"/>
                <a:chOff x="6210360" y="3052800"/>
                <a:chExt cx="654840" cy="8222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26580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21036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865920" y="3052800"/>
                <a:ext cx="654840" cy="822240"/>
                <a:chOff x="6865920" y="3052800"/>
                <a:chExt cx="654840" cy="822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9213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8659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521120" y="3052800"/>
                <a:ext cx="654840" cy="822240"/>
                <a:chOff x="7521120" y="3052800"/>
                <a:chExt cx="654840" cy="8222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5765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5211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176680" y="3052800"/>
                <a:ext cx="654840" cy="822240"/>
                <a:chOff x="8176680" y="3052800"/>
                <a:chExt cx="654840" cy="822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2321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76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10680" y="3875040"/>
                <a:ext cx="654840" cy="822240"/>
                <a:chOff x="310680" y="3875040"/>
                <a:chExt cx="654840" cy="822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65400" y="3875040"/>
                  <a:ext cx="544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0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965880" y="3875040"/>
                <a:ext cx="654840" cy="822240"/>
                <a:chOff x="965880" y="3875040"/>
                <a:chExt cx="654840" cy="822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0213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9658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621440" y="3875040"/>
                <a:ext cx="654840" cy="822240"/>
                <a:chOff x="1621440" y="3875040"/>
                <a:chExt cx="654840" cy="8222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67688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62144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277000" y="3875040"/>
                <a:ext cx="654840" cy="822240"/>
                <a:chOff x="2277000" y="3875040"/>
                <a:chExt cx="654840" cy="8222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3244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27700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932560" y="3875040"/>
                <a:ext cx="654840" cy="822240"/>
                <a:chOff x="2932560" y="3875040"/>
                <a:chExt cx="654840" cy="822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8800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256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588120" y="3875040"/>
                <a:ext cx="654840" cy="822240"/>
                <a:chOff x="3588120" y="3875040"/>
                <a:chExt cx="654840" cy="8222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6435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5881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243680" y="3875040"/>
                <a:ext cx="654840" cy="822240"/>
                <a:chOff x="4243680" y="3875040"/>
                <a:chExt cx="654840" cy="8222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2991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43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899240" y="3875040"/>
                <a:ext cx="654840" cy="822240"/>
                <a:chOff x="4899240" y="3875040"/>
                <a:chExt cx="654840" cy="822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95468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89924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54800" y="3875040"/>
                <a:ext cx="654840" cy="822240"/>
                <a:chOff x="5554800" y="3875040"/>
                <a:chExt cx="654840" cy="8222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61024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5480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210360" y="3875040"/>
                <a:ext cx="654840" cy="822240"/>
                <a:chOff x="6210360" y="3875040"/>
                <a:chExt cx="654840" cy="8222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26580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21036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865920" y="3875040"/>
                <a:ext cx="654840" cy="822240"/>
                <a:chOff x="6865920" y="3875040"/>
                <a:chExt cx="654840" cy="822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9213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659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7521120" y="3875040"/>
                <a:ext cx="654840" cy="822240"/>
                <a:chOff x="7521120" y="3875040"/>
                <a:chExt cx="654840" cy="8222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5765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5211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176680" y="3875040"/>
                <a:ext cx="654840" cy="822240"/>
                <a:chOff x="8176680" y="3875040"/>
                <a:chExt cx="654840" cy="822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2321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176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10680" y="4697280"/>
                <a:ext cx="654840" cy="1005120"/>
                <a:chOff x="310680" y="4697280"/>
                <a:chExt cx="654840" cy="1005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65400" y="4697280"/>
                  <a:ext cx="544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0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965880" y="4697280"/>
                <a:ext cx="654840" cy="1005120"/>
                <a:chOff x="965880" y="4697280"/>
                <a:chExt cx="654840" cy="1005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0213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9658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621440" y="4697280"/>
                <a:ext cx="654840" cy="1005120"/>
                <a:chOff x="1621440" y="4697280"/>
                <a:chExt cx="654840" cy="1005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67688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2144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277000" y="4697280"/>
                <a:ext cx="654840" cy="1005120"/>
                <a:chOff x="2277000" y="4697280"/>
                <a:chExt cx="654840" cy="1005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33244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7700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932560" y="4697280"/>
                <a:ext cx="654840" cy="1005120"/>
                <a:chOff x="2932560" y="4697280"/>
                <a:chExt cx="654840" cy="1005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98800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93256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588120" y="4697280"/>
                <a:ext cx="654840" cy="1005120"/>
                <a:chOff x="3588120" y="4697280"/>
                <a:chExt cx="654840" cy="1005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6435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5881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243680" y="4697280"/>
                <a:ext cx="654840" cy="1005120"/>
                <a:chOff x="4243680" y="4697280"/>
                <a:chExt cx="654840" cy="1005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2991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243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899240" y="4697280"/>
                <a:ext cx="654840" cy="1005120"/>
                <a:chOff x="4899240" y="4697280"/>
                <a:chExt cx="654840" cy="1005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95468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89924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554800" y="4697280"/>
                <a:ext cx="654840" cy="1005120"/>
                <a:chOff x="5554800" y="4697280"/>
                <a:chExt cx="654840" cy="1005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61024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55480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210360" y="4697280"/>
                <a:ext cx="654840" cy="1005120"/>
                <a:chOff x="6210360" y="4697280"/>
                <a:chExt cx="654840" cy="1005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6580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1036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865920" y="4697280"/>
                <a:ext cx="654840" cy="1005120"/>
                <a:chOff x="6865920" y="4697280"/>
                <a:chExt cx="654840" cy="1005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9213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659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521120" y="4697280"/>
                <a:ext cx="654840" cy="1005120"/>
                <a:chOff x="7521120" y="4697280"/>
                <a:chExt cx="654840" cy="1005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765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211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8176680" y="4697280"/>
                <a:ext cx="654840" cy="1005120"/>
                <a:chOff x="8176680" y="4697280"/>
                <a:chExt cx="654840" cy="1005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321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176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304920" y="3048120"/>
              <a:ext cx="853380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40" y="4438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04920" y="3200400"/>
            <a:ext cx="8457840" cy="2658960"/>
            <a:chOff x="304920" y="3200400"/>
            <a:chExt cx="8457840" cy="2658960"/>
          </a:xfrm>
        </p:grpSpPr>
        <p:grpSp>
          <p:nvGrpSpPr>
            <p:cNvPr id="343" name=""/>
            <p:cNvGrpSpPr/>
            <p:nvPr/>
          </p:nvGrpSpPr>
          <p:grpSpPr>
            <a:xfrm>
              <a:off x="310680" y="3205080"/>
              <a:ext cx="8445240" cy="2649600"/>
              <a:chOff x="310680" y="3205080"/>
              <a:chExt cx="8445240" cy="26496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310680" y="3205080"/>
                <a:ext cx="649080" cy="822240"/>
                <a:chOff x="310680" y="3205080"/>
                <a:chExt cx="649080" cy="822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65040" y="320508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1068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960120" y="3205080"/>
                <a:ext cx="649080" cy="822240"/>
                <a:chOff x="960120" y="3205080"/>
                <a:chExt cx="649080" cy="822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0148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9601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1609920" y="3205080"/>
                <a:ext cx="649080" cy="822240"/>
                <a:chOff x="1609920" y="3205080"/>
                <a:chExt cx="649080" cy="822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6646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6099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259720" y="3205080"/>
                <a:ext cx="649080" cy="822240"/>
                <a:chOff x="2259720" y="3205080"/>
                <a:chExt cx="649080" cy="822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3144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2597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909160" y="3205080"/>
                <a:ext cx="649080" cy="822240"/>
                <a:chOff x="2909160" y="3205080"/>
                <a:chExt cx="649080" cy="822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9638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9091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558960" y="3205080"/>
                <a:ext cx="649080" cy="822240"/>
                <a:chOff x="3558960" y="3205080"/>
                <a:chExt cx="649080" cy="822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6136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5589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208760" y="3205080"/>
                <a:ext cx="649080" cy="822240"/>
                <a:chOff x="4208760" y="3205080"/>
                <a:chExt cx="649080" cy="822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2634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2087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4858200" y="3205080"/>
                <a:ext cx="649080" cy="822240"/>
                <a:chOff x="4858200" y="3205080"/>
                <a:chExt cx="649080" cy="8222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9129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8582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08000" y="3205080"/>
                <a:ext cx="649080" cy="822240"/>
                <a:chOff x="5508000" y="3205080"/>
                <a:chExt cx="649080" cy="8222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5627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5080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157800" y="3205080"/>
                <a:ext cx="649080" cy="822240"/>
                <a:chOff x="6157800" y="3205080"/>
                <a:chExt cx="649080" cy="822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2125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1578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807240" y="3205080"/>
                <a:ext cx="649080" cy="822240"/>
                <a:chOff x="6807240" y="3205080"/>
                <a:chExt cx="649080" cy="822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8619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8072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457040" y="3205080"/>
                <a:ext cx="649080" cy="822240"/>
                <a:chOff x="7457040" y="3205080"/>
                <a:chExt cx="649080" cy="822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5117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4570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8106840" y="3205080"/>
                <a:ext cx="649080" cy="822240"/>
                <a:chOff x="8106840" y="3205080"/>
                <a:chExt cx="649080" cy="8222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1615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068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10680" y="4027320"/>
                <a:ext cx="649080" cy="822240"/>
                <a:chOff x="310680" y="4027320"/>
                <a:chExt cx="649080" cy="8222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65040" y="402732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1068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960120" y="4027320"/>
                <a:ext cx="649080" cy="822240"/>
                <a:chOff x="960120" y="4027320"/>
                <a:chExt cx="649080" cy="822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0148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9601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609920" y="4027320"/>
                <a:ext cx="649080" cy="822240"/>
                <a:chOff x="1609920" y="4027320"/>
                <a:chExt cx="649080" cy="8222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6646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6099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259720" y="4027320"/>
                <a:ext cx="649080" cy="822240"/>
                <a:chOff x="2259720" y="4027320"/>
                <a:chExt cx="649080" cy="822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3144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597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909160" y="4027320"/>
                <a:ext cx="649080" cy="822240"/>
                <a:chOff x="2909160" y="4027320"/>
                <a:chExt cx="649080" cy="822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9638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091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558960" y="4027320"/>
                <a:ext cx="649080" cy="822240"/>
                <a:chOff x="3558960" y="4027320"/>
                <a:chExt cx="649080" cy="822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36136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5589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208760" y="4027320"/>
                <a:ext cx="649080" cy="822240"/>
                <a:chOff x="4208760" y="4027320"/>
                <a:chExt cx="649080" cy="822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2634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087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858200" y="4027320"/>
                <a:ext cx="649080" cy="822240"/>
                <a:chOff x="4858200" y="4027320"/>
                <a:chExt cx="649080" cy="8222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9129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8582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08000" y="4027320"/>
                <a:ext cx="649080" cy="822240"/>
                <a:chOff x="5508000" y="4027320"/>
                <a:chExt cx="649080" cy="822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627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080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157800" y="4027320"/>
                <a:ext cx="649080" cy="822240"/>
                <a:chOff x="6157800" y="4027320"/>
                <a:chExt cx="649080" cy="822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2125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1578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6807240" y="4027320"/>
                <a:ext cx="649080" cy="822240"/>
                <a:chOff x="6807240" y="4027320"/>
                <a:chExt cx="649080" cy="8222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68619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072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7457040" y="4027320"/>
                <a:ext cx="649080" cy="822240"/>
                <a:chOff x="7457040" y="4027320"/>
                <a:chExt cx="649080" cy="8222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5117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4570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106840" y="4027320"/>
                <a:ext cx="649080" cy="822240"/>
                <a:chOff x="8106840" y="4027320"/>
                <a:chExt cx="649080" cy="822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81615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1068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10680" y="4849560"/>
                <a:ext cx="649080" cy="1005120"/>
                <a:chOff x="310680" y="4849560"/>
                <a:chExt cx="649080" cy="1005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65040" y="4849560"/>
                  <a:ext cx="54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068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960120" y="4849560"/>
                <a:ext cx="649080" cy="1005120"/>
                <a:chOff x="960120" y="4849560"/>
                <a:chExt cx="649080" cy="10051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0148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601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1609920" y="4849560"/>
                <a:ext cx="649080" cy="1005120"/>
                <a:chOff x="1609920" y="4849560"/>
                <a:chExt cx="649080" cy="10051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6646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6099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259720" y="4849560"/>
                <a:ext cx="649080" cy="1005120"/>
                <a:chOff x="2259720" y="4849560"/>
                <a:chExt cx="649080" cy="10051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3144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597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909160" y="4849560"/>
                <a:ext cx="649080" cy="1005120"/>
                <a:chOff x="2909160" y="4849560"/>
                <a:chExt cx="649080" cy="1005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9638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091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558960" y="4849560"/>
                <a:ext cx="649080" cy="1005120"/>
                <a:chOff x="3558960" y="4849560"/>
                <a:chExt cx="649080" cy="1005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6136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589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208760" y="4849560"/>
                <a:ext cx="649080" cy="1005120"/>
                <a:chOff x="4208760" y="4849560"/>
                <a:chExt cx="649080" cy="1005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42634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2087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858200" y="4849560"/>
                <a:ext cx="649080" cy="1005120"/>
                <a:chOff x="4858200" y="4849560"/>
                <a:chExt cx="649080" cy="10051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9129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582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508000" y="4849560"/>
                <a:ext cx="649080" cy="1005120"/>
                <a:chOff x="5508000" y="4849560"/>
                <a:chExt cx="649080" cy="10051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5627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5080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157800" y="4849560"/>
                <a:ext cx="649080" cy="1005120"/>
                <a:chOff x="6157800" y="4849560"/>
                <a:chExt cx="649080" cy="10051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2125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578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807240" y="4849560"/>
                <a:ext cx="649080" cy="1005120"/>
                <a:chOff x="6807240" y="4849560"/>
                <a:chExt cx="649080" cy="10051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8619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8072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7457040" y="4849560"/>
                <a:ext cx="649080" cy="1005120"/>
                <a:chOff x="7457040" y="4849560"/>
                <a:chExt cx="649080" cy="10051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75117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4570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106840" y="4849560"/>
                <a:ext cx="649080" cy="1005120"/>
                <a:chOff x="8106840" y="4849560"/>
                <a:chExt cx="649080" cy="10051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1615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068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>
              <a:off x="304920" y="3200400"/>
              <a:ext cx="845784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4920" y="2971800"/>
            <a:ext cx="8457840" cy="2658960"/>
            <a:chOff x="304920" y="2971800"/>
            <a:chExt cx="8457840" cy="2658960"/>
          </a:xfrm>
        </p:grpSpPr>
        <p:grpSp>
          <p:nvGrpSpPr>
            <p:cNvPr id="466" name=""/>
            <p:cNvGrpSpPr/>
            <p:nvPr/>
          </p:nvGrpSpPr>
          <p:grpSpPr>
            <a:xfrm>
              <a:off x="310680" y="2976480"/>
              <a:ext cx="8445240" cy="2649600"/>
              <a:chOff x="310680" y="2976480"/>
              <a:chExt cx="8445240" cy="26496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310680" y="2976480"/>
                <a:ext cx="649080" cy="822240"/>
                <a:chOff x="310680" y="2976480"/>
                <a:chExt cx="649080" cy="822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65040" y="297648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1068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60120" y="2976480"/>
                <a:ext cx="649080" cy="822240"/>
                <a:chOff x="960120" y="2976480"/>
                <a:chExt cx="649080" cy="8222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0148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9601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609920" y="2976480"/>
                <a:ext cx="649080" cy="822240"/>
                <a:chOff x="1609920" y="2976480"/>
                <a:chExt cx="649080" cy="822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6646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6099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259720" y="2976480"/>
                <a:ext cx="649080" cy="822240"/>
                <a:chOff x="2259720" y="2976480"/>
                <a:chExt cx="649080" cy="82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3144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97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909160" y="2976480"/>
                <a:ext cx="649080" cy="822240"/>
                <a:chOff x="2909160" y="2976480"/>
                <a:chExt cx="649080" cy="8222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9638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9091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558960" y="2976480"/>
                <a:ext cx="649080" cy="822240"/>
                <a:chOff x="3558960" y="2976480"/>
                <a:chExt cx="649080" cy="8222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6136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5589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208760" y="2976480"/>
                <a:ext cx="649080" cy="822240"/>
                <a:chOff x="4208760" y="2976480"/>
                <a:chExt cx="649080" cy="82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2634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087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4858200" y="2976480"/>
                <a:ext cx="649080" cy="822240"/>
                <a:chOff x="4858200" y="2976480"/>
                <a:chExt cx="649080" cy="822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9129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8582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508000" y="2976480"/>
                <a:ext cx="649080" cy="822240"/>
                <a:chOff x="5508000" y="2976480"/>
                <a:chExt cx="649080" cy="822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5627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080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157800" y="2976480"/>
                <a:ext cx="649080" cy="822240"/>
                <a:chOff x="6157800" y="2976480"/>
                <a:chExt cx="649080" cy="8222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125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1578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807240" y="2976480"/>
                <a:ext cx="649080" cy="822240"/>
                <a:chOff x="6807240" y="2976480"/>
                <a:chExt cx="649080" cy="8222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8619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8072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457040" y="2976480"/>
                <a:ext cx="649080" cy="822240"/>
                <a:chOff x="7457040" y="2976480"/>
                <a:chExt cx="649080" cy="8222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5117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570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8106840" y="2976480"/>
                <a:ext cx="649080" cy="822240"/>
                <a:chOff x="8106840" y="2976480"/>
                <a:chExt cx="649080" cy="8222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1615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1068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0680" y="3798720"/>
                <a:ext cx="649080" cy="822240"/>
                <a:chOff x="310680" y="3798720"/>
                <a:chExt cx="649080" cy="8222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65040" y="379872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068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960120" y="3798720"/>
                <a:ext cx="649080" cy="822240"/>
                <a:chOff x="960120" y="3798720"/>
                <a:chExt cx="649080" cy="8222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148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9601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1609920" y="3798720"/>
                <a:ext cx="649080" cy="822240"/>
                <a:chOff x="1609920" y="3798720"/>
                <a:chExt cx="649080" cy="822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6646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99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259720" y="3798720"/>
                <a:ext cx="649080" cy="822240"/>
                <a:chOff x="2259720" y="3798720"/>
                <a:chExt cx="649080" cy="82224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3144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2597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909160" y="3798720"/>
                <a:ext cx="649080" cy="822240"/>
                <a:chOff x="2909160" y="3798720"/>
                <a:chExt cx="649080" cy="8222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9638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9091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558960" y="3798720"/>
                <a:ext cx="649080" cy="822240"/>
                <a:chOff x="3558960" y="3798720"/>
                <a:chExt cx="649080" cy="8222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6136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5589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4208760" y="3798720"/>
                <a:ext cx="649080" cy="822240"/>
                <a:chOff x="4208760" y="3798720"/>
                <a:chExt cx="649080" cy="8222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2634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87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858200" y="3798720"/>
                <a:ext cx="649080" cy="822240"/>
                <a:chOff x="4858200" y="3798720"/>
                <a:chExt cx="649080" cy="8222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9129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8582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5508000" y="3798720"/>
                <a:ext cx="649080" cy="822240"/>
                <a:chOff x="5508000" y="3798720"/>
                <a:chExt cx="649080" cy="8222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5627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5080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157800" y="3798720"/>
                <a:ext cx="649080" cy="822240"/>
                <a:chOff x="6157800" y="3798720"/>
                <a:chExt cx="649080" cy="8222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2125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1578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6807240" y="3798720"/>
                <a:ext cx="649080" cy="822240"/>
                <a:chOff x="6807240" y="3798720"/>
                <a:chExt cx="649080" cy="8222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68619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8072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457040" y="3798720"/>
                <a:ext cx="649080" cy="822240"/>
                <a:chOff x="7457040" y="3798720"/>
                <a:chExt cx="649080" cy="8222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5117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570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8106840" y="3798720"/>
                <a:ext cx="649080" cy="822240"/>
                <a:chOff x="8106840" y="3798720"/>
                <a:chExt cx="649080" cy="8222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1615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1068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10680" y="4620960"/>
                <a:ext cx="649080" cy="1005120"/>
                <a:chOff x="310680" y="4620960"/>
                <a:chExt cx="649080" cy="10051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65040" y="4620960"/>
                  <a:ext cx="54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1068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960120" y="4620960"/>
                <a:ext cx="649080" cy="1005120"/>
                <a:chOff x="960120" y="4620960"/>
                <a:chExt cx="649080" cy="10051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0148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601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1609920" y="4620960"/>
                <a:ext cx="649080" cy="1005120"/>
                <a:chOff x="1609920" y="4620960"/>
                <a:chExt cx="649080" cy="10051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6646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6099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259720" y="4620960"/>
                <a:ext cx="649080" cy="1005120"/>
                <a:chOff x="2259720" y="4620960"/>
                <a:chExt cx="649080" cy="10051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3144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2597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909160" y="4620960"/>
                <a:ext cx="649080" cy="1005120"/>
                <a:chOff x="2909160" y="4620960"/>
                <a:chExt cx="649080" cy="10051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29638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9091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558960" y="4620960"/>
                <a:ext cx="649080" cy="1005120"/>
                <a:chOff x="3558960" y="4620960"/>
                <a:chExt cx="649080" cy="10051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6136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5589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208760" y="4620960"/>
                <a:ext cx="649080" cy="1005120"/>
                <a:chOff x="4208760" y="4620960"/>
                <a:chExt cx="649080" cy="10051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2634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2087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858200" y="4620960"/>
                <a:ext cx="649080" cy="1005120"/>
                <a:chOff x="4858200" y="4620960"/>
                <a:chExt cx="649080" cy="10051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9129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582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5508000" y="4620960"/>
                <a:ext cx="649080" cy="1005120"/>
                <a:chOff x="5508000" y="4620960"/>
                <a:chExt cx="649080" cy="10051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5627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080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157800" y="4620960"/>
                <a:ext cx="649080" cy="1005120"/>
                <a:chOff x="6157800" y="4620960"/>
                <a:chExt cx="649080" cy="10051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125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1578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6807240" y="4620960"/>
                <a:ext cx="649080" cy="1005120"/>
                <a:chOff x="6807240" y="4620960"/>
                <a:chExt cx="649080" cy="10051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8619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8072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57040" y="4620960"/>
                <a:ext cx="649080" cy="1005120"/>
                <a:chOff x="7457040" y="4620960"/>
                <a:chExt cx="649080" cy="10051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5117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570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8106840" y="4620960"/>
                <a:ext cx="649080" cy="1005120"/>
                <a:chOff x="8106840" y="4620960"/>
                <a:chExt cx="649080" cy="10051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1615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1068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304920" y="2971800"/>
              <a:ext cx="845784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0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Clasificaciones según temperatu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41280"/>
            <a:ext cx="868680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gún temperaturas se diferencian tres grandes grupos climátic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1º) CLIMAS SIN INVIERNO DE LAS BAJ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LATITUDES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temperatura media del mes más frío supera los 18ºC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2º) CLIMAS SIN VERANO DE LAS ALTAS LATITUDE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temperatura media del mes más cálido no supera los 10ºC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3º) CLIMAS CON VERANO E INVIERNO DE LAS LATITUDES    MEDIA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ntre las dos Isotermas límites de los 10ºC. y los 18º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RABAJ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5280" y="1700280"/>
            <a:ext cx="8381880" cy="18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DEFINA EL TIPO DE CLIMA DE SU LOCA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USE EL SIGUIENTE CUADRO.  EXPLIQUE EL PORQUE DE SU CLASIFIC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50920" y="3716280"/>
            <a:ext cx="8457840" cy="2160720"/>
            <a:chOff x="250920" y="3716280"/>
            <a:chExt cx="8457840" cy="2160720"/>
          </a:xfrm>
        </p:grpSpPr>
        <p:grpSp>
          <p:nvGrpSpPr>
            <p:cNvPr id="589" name=""/>
            <p:cNvGrpSpPr/>
            <p:nvPr/>
          </p:nvGrpSpPr>
          <p:grpSpPr>
            <a:xfrm>
              <a:off x="256680" y="3719880"/>
              <a:ext cx="8445240" cy="2152800"/>
              <a:chOff x="256680" y="3719880"/>
              <a:chExt cx="8445240" cy="2152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256680" y="3719880"/>
                <a:ext cx="649080" cy="668160"/>
                <a:chOff x="256680" y="3719880"/>
                <a:chExt cx="649080" cy="668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11040" y="3719880"/>
                  <a:ext cx="54000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668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906120" y="3719880"/>
                <a:ext cx="649080" cy="668160"/>
                <a:chOff x="906120" y="3719880"/>
                <a:chExt cx="649080" cy="668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9608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9061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555920" y="3719880"/>
                <a:ext cx="649080" cy="668160"/>
                <a:chOff x="1555920" y="3719880"/>
                <a:chExt cx="649080" cy="668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6106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5559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205720" y="3719880"/>
                <a:ext cx="649080" cy="668160"/>
                <a:chOff x="2205720" y="3719880"/>
                <a:chExt cx="649080" cy="668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2604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2057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2855160" y="3719880"/>
                <a:ext cx="649080" cy="668160"/>
                <a:chOff x="2855160" y="3719880"/>
                <a:chExt cx="649080" cy="668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29098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8551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3504960" y="3719880"/>
                <a:ext cx="649080" cy="668160"/>
                <a:chOff x="3504960" y="3719880"/>
                <a:chExt cx="649080" cy="668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5596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5049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4154760" y="3719880"/>
                <a:ext cx="649080" cy="668160"/>
                <a:chOff x="4154760" y="3719880"/>
                <a:chExt cx="649080" cy="668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42094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1547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4804200" y="3719880"/>
                <a:ext cx="649080" cy="668160"/>
                <a:chOff x="4804200" y="3719880"/>
                <a:chExt cx="649080" cy="668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8589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42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5454000" y="3719880"/>
                <a:ext cx="649080" cy="668160"/>
                <a:chOff x="5454000" y="3719880"/>
                <a:chExt cx="649080" cy="668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5087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4540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6103800" y="3719880"/>
                <a:ext cx="649080" cy="668160"/>
                <a:chOff x="6103800" y="3719880"/>
                <a:chExt cx="649080" cy="668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61585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1038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753240" y="3719880"/>
                <a:ext cx="649080" cy="668160"/>
                <a:chOff x="6753240" y="3719880"/>
                <a:chExt cx="649080" cy="668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8079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7532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7403040" y="3719880"/>
                <a:ext cx="649080" cy="668160"/>
                <a:chOff x="7403040" y="3719880"/>
                <a:chExt cx="649080" cy="668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74577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4030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052840" y="3719880"/>
                <a:ext cx="649080" cy="668160"/>
                <a:chOff x="8052840" y="3719880"/>
                <a:chExt cx="649080" cy="668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1075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0528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256680" y="4388040"/>
                <a:ext cx="649080" cy="668160"/>
                <a:chOff x="256680" y="4388040"/>
                <a:chExt cx="649080" cy="668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11040" y="4388040"/>
                  <a:ext cx="54000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5668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906120" y="4388040"/>
                <a:ext cx="649080" cy="668160"/>
                <a:chOff x="906120" y="4388040"/>
                <a:chExt cx="649080" cy="668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9608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9061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555920" y="4388040"/>
                <a:ext cx="649080" cy="668160"/>
                <a:chOff x="1555920" y="4388040"/>
                <a:chExt cx="649080" cy="668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6106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5559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205720" y="4388040"/>
                <a:ext cx="649080" cy="668160"/>
                <a:chOff x="2205720" y="4388040"/>
                <a:chExt cx="649080" cy="668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2604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2057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2855160" y="4388040"/>
                <a:ext cx="649080" cy="668160"/>
                <a:chOff x="2855160" y="4388040"/>
                <a:chExt cx="649080" cy="668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29098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8551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504960" y="4388040"/>
                <a:ext cx="649080" cy="668160"/>
                <a:chOff x="3504960" y="4388040"/>
                <a:chExt cx="649080" cy="668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5596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5049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154760" y="4388040"/>
                <a:ext cx="649080" cy="668160"/>
                <a:chOff x="4154760" y="4388040"/>
                <a:chExt cx="649080" cy="668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2094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547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804200" y="4388040"/>
                <a:ext cx="649080" cy="668160"/>
                <a:chOff x="4804200" y="4388040"/>
                <a:chExt cx="649080" cy="668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8589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042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5454000" y="4388040"/>
                <a:ext cx="649080" cy="668160"/>
                <a:chOff x="5454000" y="4388040"/>
                <a:chExt cx="649080" cy="668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55087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4540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6103800" y="4388040"/>
                <a:ext cx="649080" cy="668160"/>
                <a:chOff x="6103800" y="4388040"/>
                <a:chExt cx="649080" cy="6681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61585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1038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6753240" y="4388040"/>
                <a:ext cx="649080" cy="668160"/>
                <a:chOff x="6753240" y="4388040"/>
                <a:chExt cx="649080" cy="6681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8079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7532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7403040" y="4388040"/>
                <a:ext cx="649080" cy="668160"/>
                <a:chOff x="7403040" y="4388040"/>
                <a:chExt cx="649080" cy="6681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74577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4030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8052840" y="4388040"/>
                <a:ext cx="649080" cy="668160"/>
                <a:chOff x="8052840" y="4388040"/>
                <a:chExt cx="649080" cy="668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81075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0528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56680" y="5056200"/>
                <a:ext cx="649080" cy="816480"/>
                <a:chOff x="256680" y="5056200"/>
                <a:chExt cx="649080" cy="8164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311040" y="5056200"/>
                  <a:ext cx="54000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5668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906120" y="5056200"/>
                <a:ext cx="649080" cy="816480"/>
                <a:chOff x="906120" y="5056200"/>
                <a:chExt cx="649080" cy="8164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9608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9061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1555920" y="5056200"/>
                <a:ext cx="649080" cy="816480"/>
                <a:chOff x="1555920" y="5056200"/>
                <a:chExt cx="649080" cy="8164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16106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559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2205720" y="5056200"/>
                <a:ext cx="649080" cy="816480"/>
                <a:chOff x="2205720" y="5056200"/>
                <a:chExt cx="649080" cy="8164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22604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2057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855160" y="5056200"/>
                <a:ext cx="649080" cy="816480"/>
                <a:chOff x="2855160" y="5056200"/>
                <a:chExt cx="649080" cy="81648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9098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551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504960" y="5056200"/>
                <a:ext cx="649080" cy="816480"/>
                <a:chOff x="3504960" y="5056200"/>
                <a:chExt cx="649080" cy="81648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5596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5049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154760" y="5056200"/>
                <a:ext cx="649080" cy="816480"/>
                <a:chOff x="4154760" y="5056200"/>
                <a:chExt cx="649080" cy="8164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2094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1547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4804200" y="5056200"/>
                <a:ext cx="649080" cy="816480"/>
                <a:chOff x="4804200" y="5056200"/>
                <a:chExt cx="649080" cy="8164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48589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8042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454000" y="5056200"/>
                <a:ext cx="649080" cy="816480"/>
                <a:chOff x="5454000" y="5056200"/>
                <a:chExt cx="649080" cy="81648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5087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4540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103800" y="5056200"/>
                <a:ext cx="649080" cy="816480"/>
                <a:chOff x="6103800" y="5056200"/>
                <a:chExt cx="649080" cy="8164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1585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1038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6753240" y="5056200"/>
                <a:ext cx="649080" cy="816480"/>
                <a:chOff x="6753240" y="5056200"/>
                <a:chExt cx="649080" cy="8164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8079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7532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403040" y="5056200"/>
                <a:ext cx="649080" cy="816480"/>
                <a:chOff x="7403040" y="5056200"/>
                <a:chExt cx="649080" cy="8164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74577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4030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8052840" y="5056200"/>
                <a:ext cx="649080" cy="816480"/>
                <a:chOff x="8052840" y="5056200"/>
                <a:chExt cx="649080" cy="81648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81075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0528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7" name=""/>
            <p:cNvSpPr/>
            <p:nvPr/>
          </p:nvSpPr>
          <p:spPr>
            <a:xfrm>
              <a:off x="250920" y="3716280"/>
              <a:ext cx="8457840" cy="2160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536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Clasificaciones según precipit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76520"/>
            <a:ext cx="89154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según precipitaciones de Bl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ingue los siguientes tipos de climas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º) CLIMAS ÁRI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0-25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2º) CLIMAS SEMIÁRI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250-350 mm. anu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3º) CLIMAS SUBH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350-100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4º) CLIMAS H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000-200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º) CLIMAS HIPERM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+ 2000 mm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sificaciones Empí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95280"/>
            <a:ext cx="853416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tras clasificaciones como la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Köpp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, combina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recipitaciones y temperatu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y caracterizan cada zona climática por la formación vegetal resul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de Köppen es de 1918 aunque posteriormente este científico alemán la siguió perfeccionando y tras su muerte otros geógrafos y climatólogos, como el estadounidense Trewartha la han adaptado y mejorado. Esto permite que en la actualidad siga siendo la clasificación climática más util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Clasificacion de </a:t>
            </a: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KÖPP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 objetivo fue diseñar fórmulas que pudieran definir fronteras climáticas de tal modo que se correspondan con aquellas zonas de vegetación que él había estado diseñando durante toda su vida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8120"/>
            <a:ext cx="853416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Cinco grandes tipos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de Köppen está basada en la subdivisión de los climas terrestres dentro de cinco grandes tipos, los cuales están representados por las letras mayúsculas A, B, C, D y E. Cada uno de estos tipos de clima, excepto el B, está definido por 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criterios de temperaturas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El tipo B esta basado en un criterio hid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90720"/>
            <a:ext cx="86104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l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po B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designa los climas en los cuales el factor determinante de la vegetación es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quedad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aridez está definida por la relación entre l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recipitacione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que penetran en el suelo donde las plantas crecen y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vaporació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que hace que se pierda esta húm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Los otros tipos están basados en un criterio ter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Como señalamos arriba,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emperatur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e los otros cuatro grandes tipos climáticos. Estos son subdivididos, con letras adicionales otra vez, usadas para designar varios subtip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492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clasificación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pp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ta hecha en base a let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666880"/>
            <a:ext cx="792468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orresponde a la Zona Cli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orresponde al régimen híd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aracterísticas tér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aracterísticas miscelá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s b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523880"/>
            <a:ext cx="3733560" cy="76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A 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ropical Lluvios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52560"/>
            <a:ext cx="84582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ás frío es superior 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18ºC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usencia de estación inver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luviosidad anual alt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(R&gt;750 mm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y excede la evaporación a lo largo del mismo perio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imas característic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:  “Selva tropical lluviosa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gt;=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m : “Bosque lluvioso ”,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w : “Sabana tropical 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r lo menos un mes con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 r &lt;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(sec) : pp mes más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1:44:01Z</dcterms:created>
  <dc:creator>JOSE ARIAS</dc:creator>
  <dc:description/>
  <dc:language>en-US</dc:language>
  <cp:lastModifiedBy>Director Silvicultura</cp:lastModifiedBy>
  <dcterms:modified xsi:type="dcterms:W3CDTF">2008-11-24T14:09:54Z</dcterms:modified>
  <cp:revision>22</cp:revision>
  <dc:subject/>
  <dc:title>CLASIFICACION CLIMATICA</dc:title>
</cp:coreProperties>
</file>