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8BE-6EFD-4E37-93BE-7A723808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841-3E3F-4AEF-B34E-9755A71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DE1-77BB-462B-A0BB-5E710DB1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0AB-096A-4CC9-A34B-8936DA50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52F-6370-4910-99C8-0E15AC2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65E-6190-48D5-AD7D-9536E692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724-B7B2-4A7F-A688-FF87D25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8C9-8B69-4934-AED6-E9A92C8F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F3F-E794-4E53-9E25-A74F294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A7C-6B6A-4CE9-A1B6-4C743A9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68E-FEEF-45B3-9370-D1AF10D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5DE-A534-4901-82B5-587F2391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ED4B-8F76-4753-B8C5-B738BC90AC5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12de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3e91f"/>
                </a:solidFill>
                <a:latin typeface="Arial Black"/>
              </a:rPr>
              <a:t>HUMEDAD              </a:t>
            </a:r>
            <a:r>
              <a:rPr b="1" lang="en-US" sz="4400" spc="-1" strike="noStrike">
                <a:solidFill>
                  <a:srgbClr val="f3e91f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3e91f"/>
                </a:solidFill>
                <a:latin typeface="Arial Black"/>
              </a:rPr>
              <a:t>ATMOSFE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4f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533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648320"/>
            <a:ext cx="8380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648320"/>
            <a:ext cx="8384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886200"/>
            <a:ext cx="838440" cy="68580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4648320"/>
            <a:ext cx="8384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3886200"/>
            <a:ext cx="838440" cy="68580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3124080"/>
            <a:ext cx="838440" cy="68580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362320"/>
            <a:ext cx="838440" cy="68580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1600200"/>
            <a:ext cx="838440" cy="685800"/>
          </a:xfrm>
          <a:prstGeom prst="rect">
            <a:avLst/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14600" y="3962160"/>
            <a:ext cx="1676520" cy="685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81480" y="1676520"/>
            <a:ext cx="1600200" cy="220968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066680"/>
            <a:ext cx="2971800" cy="762120"/>
          </a:xfrm>
          <a:prstGeom prst="leftRightArrow">
            <a:avLst>
              <a:gd name="adj1" fmla="val 50000"/>
              <a:gd name="adj2" fmla="val 776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112536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b0bbf"/>
                </a:solidFill>
                <a:latin typeface="Arial"/>
              </a:rPr>
              <a:t>F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10526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AL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121896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3962520"/>
            <a:ext cx="914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4475160"/>
            <a:ext cx="9903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4038480"/>
            <a:ext cx="9144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152388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410080"/>
            <a:ext cx="6858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5486400"/>
            <a:ext cx="9907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486400"/>
            <a:ext cx="11430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3049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bf"/>
                </a:solidFill>
                <a:latin typeface="Arial"/>
              </a:rPr>
              <a:t>EJ :    Cambio de HR con la variación de T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572000"/>
            <a:ext cx="16002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que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3049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819520"/>
            <a:ext cx="518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77120" y="30456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672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53080" y="3428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609480"/>
            <a:ext cx="5181840" cy="1765440"/>
          </a:xfrm>
          <a:custGeom>
            <a:avLst/>
            <a:gdLst/>
            <a:ahLst/>
            <a:rect l="l" t="t" r="r" b="b"/>
            <a:pathLst>
              <a:path w="3264" h="1112">
                <a:moveTo>
                  <a:pt x="0" y="184"/>
                </a:moveTo>
                <a:cubicBezTo>
                  <a:pt x="212" y="648"/>
                  <a:pt x="424" y="1112"/>
                  <a:pt x="816" y="1096"/>
                </a:cubicBezTo>
                <a:cubicBezTo>
                  <a:pt x="1208" y="1080"/>
                  <a:pt x="1944" y="176"/>
                  <a:pt x="2352" y="88"/>
                </a:cubicBezTo>
                <a:cubicBezTo>
                  <a:pt x="2760" y="0"/>
                  <a:pt x="3012" y="284"/>
                  <a:pt x="3264" y="568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685800"/>
            <a:ext cx="5181840" cy="1562040"/>
          </a:xfrm>
          <a:custGeom>
            <a:avLst/>
            <a:gdLst/>
            <a:ahLst/>
            <a:rect l="l" t="t" r="r" b="b"/>
            <a:pathLst>
              <a:path w="3264" h="984">
                <a:moveTo>
                  <a:pt x="0" y="920"/>
                </a:moveTo>
                <a:cubicBezTo>
                  <a:pt x="196" y="460"/>
                  <a:pt x="392" y="0"/>
                  <a:pt x="816" y="8"/>
                </a:cubicBezTo>
                <a:cubicBezTo>
                  <a:pt x="1240" y="16"/>
                  <a:pt x="2136" y="952"/>
                  <a:pt x="2544" y="968"/>
                </a:cubicBezTo>
                <a:cubicBezTo>
                  <a:pt x="2952" y="984"/>
                  <a:pt x="3108" y="544"/>
                  <a:pt x="3264" y="10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609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295280"/>
            <a:ext cx="17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º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2743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2743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743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2819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         12               18            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733920"/>
            <a:ext cx="5257800" cy="1536480"/>
          </a:xfrm>
          <a:custGeom>
            <a:avLst/>
            <a:gdLst/>
            <a:ahLst/>
            <a:rect l="l" t="t" r="r" b="b"/>
            <a:pathLst>
              <a:path w="3312" h="968">
                <a:moveTo>
                  <a:pt x="0" y="0"/>
                </a:moveTo>
                <a:cubicBezTo>
                  <a:pt x="516" y="476"/>
                  <a:pt x="1032" y="952"/>
                  <a:pt x="1584" y="960"/>
                </a:cubicBezTo>
                <a:cubicBezTo>
                  <a:pt x="2136" y="968"/>
                  <a:pt x="2724" y="508"/>
                  <a:pt x="3312" y="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038480"/>
            <a:ext cx="5257800" cy="1295640"/>
          </a:xfrm>
          <a:custGeom>
            <a:avLst/>
            <a:gdLst/>
            <a:ahLst/>
            <a:rect l="l" t="t" r="r" b="b"/>
            <a:pathLst>
              <a:path w="3312" h="816">
                <a:moveTo>
                  <a:pt x="0" y="816"/>
                </a:moveTo>
                <a:cubicBezTo>
                  <a:pt x="492" y="408"/>
                  <a:pt x="984" y="0"/>
                  <a:pt x="1536" y="0"/>
                </a:cubicBezTo>
                <a:cubicBezTo>
                  <a:pt x="2088" y="0"/>
                  <a:pt x="2700" y="408"/>
                  <a:pt x="3312" y="81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4952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Tº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5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7913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                                EN                             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va Diaria HR v/s T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3276720"/>
            <a:ext cx="4680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rva Anual  HR v/s T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152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3276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4f3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320" y="15228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Factores que modifican la H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98640"/>
            <a:ext cx="83822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Latitud (temperatura,contenido vapor de agu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Estación del año (temperatura del ai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Hora del día (temperatur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Cercanía al mar (continentalidad,temperatura,vap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Fuentes de agu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b0bbf"/>
              </a:buClr>
              <a:buFont typeface="Arial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04920"/>
            <a:ext cx="89154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densación y Punto de Rocí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unto de rocío , es la temperatura  a la cual debe enfriarse una masa de aire húmedo para que esta se sature a la  misma presión y contenido de agua inicial que teni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i la Tº desciende bajo</a:t>
            </a:r>
            <a:r>
              <a:rPr b="1" lang="en-US" sz="3500" spc="-1" strike="noStrike">
                <a:solidFill>
                  <a:srgbClr val="dc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l punto de rocío,</a:t>
            </a:r>
            <a:r>
              <a:rPr b="1" lang="en-US" sz="3500" spc="-1" strike="noStrike">
                <a:solidFill>
                  <a:srgbClr val="dc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omienza la condens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5341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 condensación el descenso de la Tº con la altura es d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1ºC cada 100 m de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(GRADIENTE ADIABATICO SECO )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condensación el descenso de la T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la  altura e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0,6ºC cada 100 m de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(GRADIENTE ADIABATICO HUMEDO)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Esto producto de una liberación de calor por la condens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ae6d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3808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bbf"/>
                </a:solidFill>
                <a:latin typeface="Arial"/>
              </a:rPr>
              <a:t>Ej.: Condensación y punto de rocío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47920" y="1371240"/>
            <a:ext cx="0" cy="4419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743200"/>
            <a:ext cx="5638680" cy="2133720"/>
          </a:xfrm>
          <a:custGeom>
            <a:avLst/>
            <a:gdLst/>
            <a:ahLst/>
            <a:rect l="l" t="t" r="r" b="b"/>
            <a:pathLst>
              <a:path w="3552" h="1344">
                <a:moveTo>
                  <a:pt x="0" y="1344"/>
                </a:moveTo>
                <a:cubicBezTo>
                  <a:pt x="856" y="1264"/>
                  <a:pt x="1712" y="1184"/>
                  <a:pt x="2304" y="960"/>
                </a:cubicBezTo>
                <a:cubicBezTo>
                  <a:pt x="2896" y="736"/>
                  <a:pt x="3344" y="160"/>
                  <a:pt x="3552" y="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114800"/>
            <a:ext cx="914400" cy="60948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48006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7242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1148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114800"/>
            <a:ext cx="61722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42840" y="2590920"/>
            <a:ext cx="30492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1148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114800"/>
            <a:ext cx="0" cy="22096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791320"/>
            <a:ext cx="7086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79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371600"/>
            <a:ext cx="457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311120"/>
            <a:ext cx="685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45720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048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821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   t(º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6248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Punto de rocío T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2057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ens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1f1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72200" y="838080"/>
            <a:ext cx="30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54040" y="1397160"/>
          <a:ext cx="62359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97160"/>
                    <a:ext cx="6235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632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41008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la T° DISMINUYE   ea=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la T° AUMENTA  ea es cons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860400"/>
          <a:ext cx="7162920" cy="447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860400"/>
                    <a:ext cx="716292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FISICOS DEL A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1947960"/>
            <a:ext cx="7326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TENIDO DE VAPOR DE AGU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83664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0391"/>
                </a:solidFill>
                <a:latin typeface="Arial"/>
              </a:rPr>
              <a:t>* </a:t>
            </a: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4-5%   Climas cálidos húme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*0.5-1% Climas  templ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* &lt;0.2% Climas po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2670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e vapor de agua proviene principal-mente de la evaporación de los océanos y lagos. Actúa como un regulador térmico del a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Formas de expresión de la Humed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) Presión de vapor (e)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resión parcial ejercida por el vapor de agua contenida en el a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La cantidad de vapor máxima que puede contener la atmósfera depende de su temperatura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990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915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bbf"/>
                </a:solidFill>
                <a:latin typeface="Arial"/>
              </a:rPr>
              <a:t>La </a:t>
            </a: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presión de</a:t>
            </a:r>
            <a:r>
              <a:rPr b="0" lang="en-US" sz="3600" spc="-1" strike="noStrike">
                <a:solidFill>
                  <a:srgbClr val="0b0bb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b0bbf"/>
                </a:solidFill>
                <a:latin typeface="Arial"/>
              </a:rPr>
              <a:t>vapor de saturación</a:t>
            </a:r>
            <a:r>
              <a:rPr b="0" lang="en-US" sz="3600" spc="-1" strike="noStrike">
                <a:solidFill>
                  <a:srgbClr val="0b0bbf"/>
                </a:solidFill>
                <a:latin typeface="Arial"/>
              </a:rPr>
              <a:t> es la presión ejercida por el vapor cuando el aire esta saturado de humedad. Es función de la temperatur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609588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752480" y="2590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6019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6019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6019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76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1148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352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0958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10    </a:t>
            </a:r>
            <a:r>
              <a:rPr b="0" lang="en-US" sz="2400" spc="-1" strike="noStrike">
                <a:solidFill>
                  <a:srgbClr val="0b0bb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  20   </a:t>
            </a:r>
            <a:r>
              <a:rPr b="0" lang="en-US" sz="2400" spc="-1" strike="noStrike">
                <a:solidFill>
                  <a:srgbClr val="0b0bb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 30 </a:t>
            </a:r>
            <a:r>
              <a:rPr b="0" lang="en-US" sz="2400" spc="-1" strike="noStrike">
                <a:solidFill>
                  <a:srgbClr val="0b0bbf"/>
                </a:solidFill>
                <a:latin typeface="Times New Roman"/>
              </a:rPr>
              <a:t>                      </a:t>
            </a:r>
            <a:r>
              <a:rPr b="0" lang="en-US" sz="2900" spc="-1" strike="noStrike">
                <a:solidFill>
                  <a:srgbClr val="0b0bbf"/>
                </a:solidFill>
                <a:latin typeface="Times New Roman"/>
              </a:rPr>
              <a:t>Tº(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bb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43828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36232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048120"/>
            <a:ext cx="914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bb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54864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200400"/>
            <a:ext cx="5410440" cy="2666880"/>
          </a:xfrm>
          <a:custGeom>
            <a:avLst/>
            <a:gdLst/>
            <a:ahLst/>
            <a:rect l="l" t="t" r="r" b="b"/>
            <a:pathLst>
              <a:path w="3312" h="1776">
                <a:moveTo>
                  <a:pt x="0" y="1776"/>
                </a:moveTo>
                <a:cubicBezTo>
                  <a:pt x="708" y="1608"/>
                  <a:pt x="1416" y="1440"/>
                  <a:pt x="1920" y="1200"/>
                </a:cubicBezTo>
                <a:cubicBezTo>
                  <a:pt x="2424" y="960"/>
                  <a:pt x="2792" y="536"/>
                  <a:pt x="3024" y="336"/>
                </a:cubicBezTo>
                <a:cubicBezTo>
                  <a:pt x="3256" y="136"/>
                  <a:pt x="3264" y="56"/>
                  <a:pt x="3312" y="0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360" y="333360"/>
            <a:ext cx="76197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667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b0bbf"/>
                </a:solidFill>
                <a:latin typeface="Arial"/>
              </a:rPr>
              <a:t>Expresiones de la presión de vapor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6667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6667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s =presión de vapor a sat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66672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a =presión de vapor actual o 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8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9625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Déficit de presión de vapor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DPV</a:t>
            </a: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 =  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s - </a:t>
            </a: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_tradnl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PRESION se mide en mm Hg u otra unidad de pre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30492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Humedad absoluta (H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00"/>
                </a:solidFill>
                <a:latin typeface="Arial"/>
              </a:rPr>
              <a:t>Expresa  el contenido de humedad atmosférica en gr/m</a:t>
            </a:r>
            <a:r>
              <a:rPr b="1" lang="es-ES_tradnl" sz="34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s-ES_tradnl" sz="3400" spc="-1" strike="noStrike">
                <a:solidFill>
                  <a:srgbClr val="ffff00"/>
                </a:solidFill>
                <a:latin typeface="Arial"/>
              </a:rPr>
              <a:t>. Cuando alcanza su máximo contenido a cierta Tº se le denomina:</a:t>
            </a:r>
            <a:r>
              <a:rPr b="0" lang="es-ES_tradnl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800" spc="-1" strike="noStrike">
                <a:solidFill>
                  <a:srgbClr val="ffff00"/>
                </a:solidFill>
                <a:latin typeface="Arial"/>
              </a:rPr>
              <a:t>Humedad absoluta a saturación</a:t>
            </a:r>
            <a:r>
              <a:rPr b="0" lang="es-ES_tradnl" sz="3800" spc="-1" strike="noStrike">
                <a:solidFill>
                  <a:srgbClr val="ffff00"/>
                </a:solidFill>
                <a:latin typeface="Arial"/>
              </a:rPr>
              <a:t>(Hs)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3400" spc="-1" strike="noStrike">
                <a:solidFill>
                  <a:srgbClr val="ffff00"/>
                </a:solidFill>
                <a:latin typeface="Arial"/>
              </a:rPr>
              <a:t>D. Saturación = HAs - HA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es-ES_tradnl" sz="3400" spc="-1" strike="noStrike">
                <a:solidFill>
                  <a:srgbClr val="ffff00"/>
                </a:solidFill>
                <a:latin typeface="Arial"/>
              </a:rPr>
              <a:t>HAs = 293* es/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2860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00"/>
                </a:solidFill>
                <a:latin typeface="Arial"/>
              </a:rPr>
              <a:t>Humedad Especifica (He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Representa la masa de vapor de agua por unidad de masa total de aire húmedo. La capacidad máxima del aire para contener vapor aumenta con su T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He =  622*ea/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ea = presión de vapor actual en el aire (mm H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Arial"/>
              </a:rPr>
              <a:t>Pa = presión atmosférica en mm H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b4f3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80880"/>
            <a:ext cx="8534160" cy="64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Humedad Relativa (H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xpresa el contenido relativo de humedad en el aire en función de la capacidad máxima de contención, para una determina T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b0bbf"/>
                </a:solidFill>
                <a:latin typeface="Arial"/>
              </a:rPr>
              <a:t>HR = (Hum. actual/Hum. saturación)*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b0bbf"/>
                </a:solidFill>
                <a:latin typeface="Arial"/>
              </a:rPr>
              <a:t>                       </a:t>
            </a:r>
            <a:r>
              <a:rPr b="1" lang="es-ES_tradnl" sz="3200" spc="-1" strike="noStrike">
                <a:solidFill>
                  <a:srgbClr val="0b0bbf"/>
                </a:solidFill>
                <a:latin typeface="Arial"/>
              </a:rPr>
              <a:t>HR=(ea/es)*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b0bbf"/>
                </a:solidFill>
                <a:latin typeface="Arial"/>
              </a:rPr>
              <a:t>HR= HA actual/HA saturación *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b0bbf"/>
                </a:solidFill>
                <a:latin typeface="Arial"/>
              </a:rPr>
              <a:t>HR= He actual/He saturación*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19:00:02Z</dcterms:created>
  <dc:creator>jose arias</dc:creator>
  <dc:description/>
  <dc:language>en-US</dc:language>
  <cp:lastModifiedBy>Director Silvicultura</cp:lastModifiedBy>
  <dcterms:modified xsi:type="dcterms:W3CDTF">2009-05-05T14:10:43Z</dcterms:modified>
  <cp:revision>23</cp:revision>
  <dc:subject/>
  <dc:title>HUMEDAD ATMOSFERICA </dc:title>
</cp:coreProperties>
</file>