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0.jpeg" ContentType="image/jpeg"/>
  <Override PartName="/ppt/media/image6.gif" ContentType="image/gif"/>
  <Override PartName="/ppt/media/image1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1.png" ContentType="image/png"/>
  <Override PartName="/ppt/media/image14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986-CFBC-4016-8ACF-295EF24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E79-A560-420F-9CC2-5D1D6742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92B-391D-4764-B3D5-97A73D4C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170-ED0D-4D60-B340-7FCA4D8D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F640-2224-45BB-A97A-498DFB34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9770-4577-4ABE-8554-1BD9A3C0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1D75-F595-4BDA-BC0B-1377BD6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92D-E85F-4AB1-9E14-ABD5C4C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335B-DD73-498F-971F-020AFFD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C72-9663-4A35-B2F0-EA24859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71D1-2993-4972-9218-FD0544D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EF6-8353-4708-8DA8-ADD775EA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C709-044B-4549-989C-7988529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0D5-35C4-45E6-9832-18EEE77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92AF-7AB8-4BB5-BDDF-001CAD70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6D52-F8C5-43F9-9827-8108693D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0D58-7E08-4B84-8F41-20C7BB88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2CC-E1EB-40E5-82F0-34086B1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66D-C9B7-4C58-B7A9-86D7D62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D2E-4A26-4301-A3B8-EA84295D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7BDA-C79E-49A8-8470-457BBCE4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DB3-4BCD-484E-9BD5-811A9DC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CFD-620A-4193-8C68-E224209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1CA-C950-4113-AF72-D4D37F8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BFF-49A8-4190-8A5F-431B76E678A1}" type="slidenum"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4139-33E9-4ABA-84C2-2FD47336BEFE}" type="slidenum">
              <a:rPr b="0" lang="es-E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Arial Narrow"/>
              </a:rPr>
              <a:t>Que es un computador ?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11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Un conjunto de tecnologías capaces de efectuar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uatro operacione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ceptar entradas. Información del mundo exterior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ducir salidas. Hacia el exterio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cesar información (llevan a cabo operaciones aritméticas y lógicas)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lmacenar información (en la memoria del computador y en dispositivos externos)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9640" y="5445000"/>
          <a:ext cx="7919640" cy="1052640"/>
        </p:xfrm>
        <a:graphic>
          <a:graphicData uri="http://schemas.openxmlformats.org/drawingml/2006/table">
            <a:tbl>
              <a:tblPr/>
              <a:tblGrid>
                <a:gridCol w="791964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L TRABAJAR LAS CUATRO JUNTAS FORMAN UN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ISTEMA COMPUTACIONAL, </a:t>
                      </a:r>
                      <a:r>
                        <a:rPr b="0" lang="en-US" sz="2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ON 2 COMPONENETES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333360"/>
            <a:ext cx="8353440" cy="1608480"/>
          </a:xfrm>
          <a:prstGeom prst="rect">
            <a:avLst/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La interfaz gráfica de Windows permite: organizar las carpetas, aplicaciones y documentos, ejecutar aplicaciones, trasladar y copiar información.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Los programas que se abren o ejecutan, aparecen como </a:t>
            </a:r>
            <a:r>
              <a:rPr b="0" i="1" lang="en-US" sz="1800" spc="-1" strike="noStrike">
                <a:solidFill>
                  <a:srgbClr val="eae8e2"/>
                </a:solidFill>
                <a:latin typeface="Arial"/>
              </a:rPr>
              <a:t>ventanas</a:t>
            </a: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 sobre el escritorio. Generalmente pueden cambiarse de tamaño y ordenarse de acuerdo a nuestra necesidad.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4003560"/>
            <a:ext cx="2449440" cy="244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635280" y="2781360"/>
            <a:ext cx="4824360" cy="361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71640" y="2421000"/>
            <a:ext cx="1439640" cy="1368360"/>
          </a:xfrm>
          <a:prstGeom prst="cloudCallout">
            <a:avLst>
              <a:gd name="adj1" fmla="val -7111"/>
              <a:gd name="adj2" fmla="val 79467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Ventanas por aquí ventanas por allá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4724280"/>
            <a:ext cx="1076040" cy="330480"/>
          </a:xfrm>
          <a:prstGeom prst="borderCallout1">
            <a:avLst>
              <a:gd name="adj1" fmla="val 18750"/>
              <a:gd name="adj2" fmla="val -8333"/>
              <a:gd name="adj3" fmla="val -309615"/>
              <a:gd name="adj4" fmla="val 180824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Disco C: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48520" y="6527880"/>
            <a:ext cx="1290600" cy="330120"/>
          </a:xfrm>
          <a:prstGeom prst="borderCallout1">
            <a:avLst>
              <a:gd name="adj1" fmla="val 18750"/>
              <a:gd name="adj2" fmla="val -8333"/>
              <a:gd name="adj3" fmla="val -689421"/>
              <a:gd name="adj4" fmla="val -85731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Carpetas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651640" y="2565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56000" y="2019240"/>
            <a:ext cx="1439640" cy="473040"/>
          </a:xfrm>
          <a:prstGeom prst="borderCallout1">
            <a:avLst>
              <a:gd name="adj1" fmla="val 18750"/>
              <a:gd name="adj2" fmla="val -8333"/>
              <a:gd name="adj3" fmla="val 282884"/>
              <a:gd name="adj4" fmla="val 235060"/>
            </a:avLst>
          </a:prstGeom>
          <a:solidFill>
            <a:srgbClr val="a7c1cb">
              <a:alpha val="3000"/>
            </a:srgbClr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Documentos Word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3149640" cy="4843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5280" y="333360"/>
            <a:ext cx="3168360" cy="1943280"/>
          </a:xfrm>
          <a:prstGeom prst="cloudCallout">
            <a:avLst>
              <a:gd name="adj1" fmla="val 96291"/>
              <a:gd name="adj2" fmla="val 45504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492280"/>
            <a:ext cx="5435280" cy="3143160"/>
          </a:xfrm>
          <a:prstGeom prst="rect">
            <a:avLst/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eae8e2"/>
                </a:solidFill>
                <a:latin typeface="Arial"/>
              </a:rPr>
              <a:t>Desde el Escritorio se abrió </a:t>
            </a:r>
            <a:r>
              <a:rPr b="1" lang="es-ES" sz="2000" spc="-1" strike="noStrike">
                <a:solidFill>
                  <a:srgbClr val="eae8e2"/>
                </a:solidFill>
                <a:latin typeface="Arial"/>
              </a:rPr>
              <a:t>Mi PC</a:t>
            </a:r>
            <a:r>
              <a:rPr b="0" lang="es-ES" sz="2000" spc="-1" strike="noStrike">
                <a:solidFill>
                  <a:srgbClr val="eae8e2"/>
                </a:solidFill>
                <a:latin typeface="Arial"/>
              </a:rPr>
              <a:t> haciéndole doble clic. Esto abre la primera ventana. En ella se ve que contiene la Unidad A:, la carpeta Panel de Control etc..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buClr>
                <a:srgbClr val="ea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eae8e2"/>
                </a:solidFill>
                <a:latin typeface="Arial"/>
              </a:rPr>
              <a:t>Luego se abrió la </a:t>
            </a:r>
            <a:r>
              <a:rPr b="1" lang="es-ES" sz="2000" spc="-1" strike="noStrike">
                <a:solidFill>
                  <a:srgbClr val="eae8e2"/>
                </a:solidFill>
                <a:latin typeface="Arial"/>
              </a:rPr>
              <a:t>unidad C:</a:t>
            </a:r>
            <a:r>
              <a:rPr b="0" lang="es-ES" sz="2000" spc="-1" strike="noStrike">
                <a:solidFill>
                  <a:srgbClr val="eae8e2"/>
                </a:solidFill>
                <a:latin typeface="Arial"/>
              </a:rPr>
              <a:t> En esta se ven carpetas y archivos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buClr>
                <a:srgbClr val="ea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eae8e2"/>
                </a:solidFill>
                <a:latin typeface="Arial"/>
              </a:rPr>
              <a:t>Y luego se pueden abrir carpetas o archivos de </a:t>
            </a:r>
            <a:r>
              <a:rPr b="1" lang="es-ES" sz="2000" spc="-1" strike="noStrike">
                <a:solidFill>
                  <a:srgbClr val="eae8e2"/>
                </a:solidFill>
                <a:latin typeface="Arial"/>
              </a:rPr>
              <a:t> Office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773600" cy="3666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189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bc03"/>
                </a:solidFill>
                <a:latin typeface="Arial"/>
              </a:rPr>
              <a:t>ELEMENTOS DE UNA VENTANA 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762120"/>
            <a:ext cx="790560" cy="43164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2652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Icono de control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907920"/>
            <a:ext cx="792000" cy="433440"/>
          </a:xfrm>
          <a:prstGeom prst="borderCallout1">
            <a:avLst>
              <a:gd name="adj1" fmla="val 18750"/>
              <a:gd name="adj2" fmla="val -8333"/>
              <a:gd name="adj3" fmla="val 216115"/>
              <a:gd name="adj4" fmla="val -81763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Barra de título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0200" y="914400"/>
            <a:ext cx="1005120" cy="257040"/>
          </a:xfrm>
          <a:prstGeom prst="borderCallout1">
            <a:avLst>
              <a:gd name="adj1" fmla="val 18750"/>
              <a:gd name="adj2" fmla="val -8333"/>
              <a:gd name="adj3" fmla="val 361726"/>
              <a:gd name="adj4" fmla="val 120222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Minimizar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685800"/>
            <a:ext cx="932040" cy="28908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20953"/>
              <a:gd name="adj5" fmla="val 372527"/>
              <a:gd name="adj6" fmla="val -33902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Maximizar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1447920"/>
            <a:ext cx="728640" cy="215640"/>
          </a:xfrm>
          <a:prstGeom prst="borderCallout1">
            <a:avLst>
              <a:gd name="adj1" fmla="val -2259"/>
              <a:gd name="adj2" fmla="val 40659"/>
              <a:gd name="adj3" fmla="val -2259"/>
              <a:gd name="adj4" fmla="val 11435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Cerrar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6320" y="2235240"/>
            <a:ext cx="787320" cy="473040"/>
          </a:xfrm>
          <a:prstGeom prst="borderCallout1">
            <a:avLst>
              <a:gd name="adj1" fmla="val 18750"/>
              <a:gd name="adj2" fmla="val -8333"/>
              <a:gd name="adj3" fmla="val -52013"/>
              <a:gd name="adj4" fmla="val -229236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Barra de Menú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00680" y="3170160"/>
            <a:ext cx="1130040" cy="474840"/>
          </a:xfrm>
          <a:prstGeom prst="borderCallout1">
            <a:avLst>
              <a:gd name="adj1" fmla="val 18750"/>
              <a:gd name="adj2" fmla="val -8333"/>
              <a:gd name="adj3" fmla="val -36453"/>
              <a:gd name="adj4" fmla="val -6740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Barra de desplazamiento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467240"/>
            <a:ext cx="1436400" cy="474480"/>
          </a:xfrm>
          <a:prstGeom prst="borderCallout1">
            <a:avLst>
              <a:gd name="adj1" fmla="val 18750"/>
              <a:gd name="adj2" fmla="val -8333"/>
              <a:gd name="adj3" fmla="val -51837"/>
              <a:gd name="adj4" fmla="val 150388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Flecha de desplazamiento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685800"/>
            <a:ext cx="3745080" cy="5561280"/>
          </a:xfrm>
          <a:prstGeom prst="rect">
            <a:avLst/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Icono de control</a:t>
            </a:r>
            <a:r>
              <a:rPr b="1" i="1" lang="en-US" sz="1400" spc="-1" strike="noStrike">
                <a:solidFill>
                  <a:srgbClr val="eae8e2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Abre menú relacionado con la ventana al hacer un clic.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arra de título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Muestra el título de la ventana.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otón minimizar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Inhibe la ventana y la pone con una referencia en la barra de tareas. 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otón maximizar/restaurar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Maximiza (agranda) una ventana para que cubra todo el escritorio.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otón cerrar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Cierra la ventana.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arra de menús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Menú de acceso a las instrucciones del Software. Al hacer un clic sobre una de las palabras de la barra de menús, se despliega el menú correspondiente. Luego se puede señalar la acción deseada y ejecutarla haciendo clic. 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Barra de desplazamiento: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 Aparece cuando el contenido de la ventana es mayor que ella.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66"/>
                </a:solidFill>
                <a:latin typeface="Arial"/>
              </a:rPr>
              <a:t>Flecha de desplazamiento: </a:t>
            </a:r>
            <a:r>
              <a:rPr b="0" lang="en-US" sz="1400" spc="-1" strike="noStrike">
                <a:solidFill>
                  <a:srgbClr val="eae8e2"/>
                </a:solidFill>
                <a:latin typeface="Arial"/>
              </a:rPr>
              <a:t>Permite mover el contenido de la ventana par poder verlo.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26920" y="5516640"/>
            <a:ext cx="1317960" cy="1317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92360" y="5445000"/>
            <a:ext cx="1800000" cy="432000"/>
          </a:xfrm>
          <a:prstGeom prst="wedgeEllipseCallout">
            <a:avLst>
              <a:gd name="adj1" fmla="val -52824"/>
              <a:gd name="adj2" fmla="val 75000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8e2"/>
                </a:solidFill>
                <a:latin typeface="Arial"/>
              </a:rPr>
              <a:t>¡La ventanita!</a:t>
            </a:r>
            <a:endParaRPr b="0" lang="en-US" sz="12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dbc03"/>
                </a:solidFill>
                <a:latin typeface="Arial"/>
              </a:rPr>
              <a:t>Los archivos pueden tener diferentes extensiones,  por ejemplo.....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5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exe (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Programas autoejecutables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com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Programa</a:t>
            </a: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autoejecutables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bak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Copia de seguridad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Times New Roman"/>
              </a:rPr>
              <a:t>.bmp </a:t>
            </a:r>
            <a:r>
              <a:rPr b="0" lang="es-ES_tradnl" sz="2000" spc="-1" strike="noStrike">
                <a:solidFill>
                  <a:srgbClr val="eae8e2"/>
                </a:solidFill>
                <a:latin typeface="Times New Roman"/>
              </a:rPr>
              <a:t>(Archivo de imagen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Times New Roman"/>
              </a:rPr>
              <a:t>.jpg </a:t>
            </a:r>
            <a:r>
              <a:rPr b="0" lang="es-ES_tradnl" sz="2000" spc="-1" strike="noStrike">
                <a:solidFill>
                  <a:srgbClr val="eae8e2"/>
                </a:solidFill>
                <a:latin typeface="Times New Roman"/>
              </a:rPr>
              <a:t>(Archivo imagen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6160" y="198108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ppt 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Archivos  Power  Point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doc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Archivo de texto, con formato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txt 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Archivo de texto, sin formato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pdf 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Archivos en Acrobat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38d77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8e2"/>
                </a:solidFill>
                <a:latin typeface="Arial Narrow"/>
              </a:rPr>
              <a:t>.xls </a:t>
            </a:r>
            <a:r>
              <a:rPr b="0" lang="es-ES_tradnl" sz="2000" spc="-1" strike="noStrike">
                <a:solidFill>
                  <a:srgbClr val="eae8e2"/>
                </a:solidFill>
                <a:latin typeface="Arial Narrow"/>
              </a:rPr>
              <a:t>(Archivo en Excel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dbc03"/>
                </a:solidFill>
                <a:latin typeface="Impact"/>
              </a:rPr>
              <a:t>Utilitarios  de Window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032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Pain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Calculadora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Bloc de nota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Explorador de Window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Winzip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Winra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Antiviru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 Narrow"/>
              </a:rPr>
              <a:t>Etc. etc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dbc03"/>
                </a:solidFill>
                <a:latin typeface="Impact"/>
              </a:rPr>
              <a:t>El uso del Winzip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407196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79" name="cap24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000080" cy="120024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514600" y="2743200"/>
            <a:ext cx="1371240" cy="1444320"/>
            <a:chOff x="2514600" y="2743200"/>
            <a:chExt cx="1371240" cy="1444320"/>
          </a:xfrm>
        </p:grpSpPr>
        <p:grpSp>
          <p:nvGrpSpPr>
            <p:cNvPr id="181" name=""/>
            <p:cNvGrpSpPr/>
            <p:nvPr/>
          </p:nvGrpSpPr>
          <p:grpSpPr>
            <a:xfrm>
              <a:off x="2544480" y="3537720"/>
              <a:ext cx="1341360" cy="649800"/>
              <a:chOff x="2544480" y="3537720"/>
              <a:chExt cx="1341360" cy="649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604600" y="3893400"/>
                <a:ext cx="1227960" cy="294120"/>
                <a:chOff x="2604600" y="3893400"/>
                <a:chExt cx="1227960" cy="29412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2604600" y="3893400"/>
                  <a:ext cx="1227960" cy="294120"/>
                  <a:chOff x="2604600" y="3893400"/>
                  <a:chExt cx="1227960" cy="29412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2604600" y="406008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65720" y="3932640"/>
                    <a:ext cx="3668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2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2604600" y="389340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0" y="106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788640" y="3957120"/>
                    <a:ext cx="13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07120" y="407412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700000" y="3984480"/>
                  <a:ext cx="828360" cy="186120"/>
                  <a:chOff x="2700000" y="3984480"/>
                  <a:chExt cx="828360" cy="186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2700000" y="4069800"/>
                    <a:ext cx="6159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2700000" y="398448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7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2580840" y="3843720"/>
                <a:ext cx="1228320" cy="294120"/>
                <a:chOff x="2580840" y="3843720"/>
                <a:chExt cx="1228320" cy="2941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2580840" y="3843720"/>
                  <a:ext cx="1228320" cy="294120"/>
                  <a:chOff x="2580840" y="3843720"/>
                  <a:chExt cx="1228320" cy="2941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2580840" y="401040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9">
                        <a:moveTo>
                          <a:pt x="0" y="0"/>
                        </a:moveTo>
                        <a:lnTo>
                          <a:pt x="2057" y="254"/>
                        </a:lnTo>
                        <a:lnTo>
                          <a:pt x="2057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441960" y="388224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5" y="53"/>
                        </a:lnTo>
                        <a:lnTo>
                          <a:pt x="875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580840" y="3843720"/>
                    <a:ext cx="12283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2" h="707">
                        <a:moveTo>
                          <a:pt x="0" y="454"/>
                        </a:moveTo>
                        <a:lnTo>
                          <a:pt x="2054" y="707"/>
                        </a:lnTo>
                        <a:lnTo>
                          <a:pt x="2932" y="105"/>
                        </a:lnTo>
                        <a:lnTo>
                          <a:pt x="1212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764880" y="390744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2" y="0"/>
                        </a:lnTo>
                        <a:lnTo>
                          <a:pt x="32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583360" y="4023720"/>
                    <a:ext cx="85860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2675160" y="3934800"/>
                  <a:ext cx="829800" cy="186120"/>
                  <a:chOff x="2675160" y="3934800"/>
                  <a:chExt cx="829800" cy="1861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675160" y="401904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675160" y="3934800"/>
                    <a:ext cx="8298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9">
                        <a:moveTo>
                          <a:pt x="1473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9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2657520" y="3812040"/>
                <a:ext cx="1228320" cy="293760"/>
                <a:chOff x="2657520" y="3812040"/>
                <a:chExt cx="1228320" cy="29376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2657520" y="3812040"/>
                  <a:ext cx="1228320" cy="293760"/>
                  <a:chOff x="2657520" y="3812040"/>
                  <a:chExt cx="1228320" cy="2937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2657520" y="397872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518640" y="3850200"/>
                    <a:ext cx="3668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6" y="53"/>
                        </a:lnTo>
                        <a:lnTo>
                          <a:pt x="876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657520" y="3812040"/>
                    <a:ext cx="122832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3" y="707"/>
                        </a:lnTo>
                        <a:lnTo>
                          <a:pt x="2931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841560" y="387540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658600" y="399168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2752920" y="3902760"/>
                  <a:ext cx="828360" cy="186120"/>
                  <a:chOff x="2752920" y="3902760"/>
                  <a:chExt cx="828360" cy="1861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752920" y="3987000"/>
                    <a:ext cx="6159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7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752920" y="3902760"/>
                    <a:ext cx="8283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7">
                        <a:moveTo>
                          <a:pt x="1471" y="407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7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2653920" y="3772440"/>
                <a:ext cx="1227960" cy="294120"/>
                <a:chOff x="2653920" y="3772440"/>
                <a:chExt cx="1227960" cy="29412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2653920" y="3772440"/>
                  <a:ext cx="1227960" cy="294120"/>
                  <a:chOff x="2653920" y="3772440"/>
                  <a:chExt cx="1227960" cy="294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653920" y="393912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9">
                        <a:moveTo>
                          <a:pt x="0" y="0"/>
                        </a:moveTo>
                        <a:lnTo>
                          <a:pt x="2057" y="253"/>
                        </a:lnTo>
                        <a:lnTo>
                          <a:pt x="2057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515040" y="3811680"/>
                    <a:ext cx="3668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4" y="51"/>
                        </a:lnTo>
                        <a:lnTo>
                          <a:pt x="874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653920" y="377244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3"/>
                        </a:moveTo>
                        <a:lnTo>
                          <a:pt x="2053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837960" y="383616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1" y="0"/>
                        </a:lnTo>
                        <a:lnTo>
                          <a:pt x="31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2655000" y="395208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2748240" y="3863520"/>
                  <a:ext cx="829440" cy="185760"/>
                  <a:chOff x="2748240" y="3863520"/>
                  <a:chExt cx="829440" cy="1857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2748240" y="3948840"/>
                    <a:ext cx="6170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7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748240" y="3863520"/>
                    <a:ext cx="8294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10">
                        <a:moveTo>
                          <a:pt x="1471" y="410"/>
                        </a:moveTo>
                        <a:lnTo>
                          <a:pt x="0" y="234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10"/>
                        </a:lnTo>
                        <a:close/>
                      </a:path>
                    </a:pathLst>
                  </a:custGeom>
                  <a:solidFill>
                    <a:srgbClr val="00606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2625120" y="3723120"/>
                <a:ext cx="1227960" cy="294120"/>
                <a:chOff x="2625120" y="3723120"/>
                <a:chExt cx="1227960" cy="29412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2625120" y="3723120"/>
                  <a:ext cx="1227960" cy="294120"/>
                  <a:chOff x="2625120" y="3723120"/>
                  <a:chExt cx="1227960" cy="294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2625120" y="3889800"/>
                    <a:ext cx="8607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485880" y="376164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700">
                        <a:moveTo>
                          <a:pt x="0" y="603"/>
                        </a:moveTo>
                        <a:lnTo>
                          <a:pt x="0" y="700"/>
                        </a:lnTo>
                        <a:lnTo>
                          <a:pt x="876" y="53"/>
                        </a:lnTo>
                        <a:lnTo>
                          <a:pt x="876" y="0"/>
                        </a:lnTo>
                        <a:lnTo>
                          <a:pt x="0" y="60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625120" y="372312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1" y="104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809160" y="378684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627640" y="3903120"/>
                    <a:ext cx="85824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2720520" y="3813120"/>
                  <a:ext cx="828360" cy="187200"/>
                  <a:chOff x="2720520" y="3813120"/>
                  <a:chExt cx="828360" cy="1872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2720520" y="3898440"/>
                    <a:ext cx="6159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7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720520" y="3813120"/>
                    <a:ext cx="8283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10">
                        <a:moveTo>
                          <a:pt x="1471" y="410"/>
                        </a:moveTo>
                        <a:lnTo>
                          <a:pt x="0" y="234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1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2577240" y="3677040"/>
                <a:ext cx="1227960" cy="294120"/>
                <a:chOff x="2577240" y="3677040"/>
                <a:chExt cx="1227960" cy="294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2577240" y="3677040"/>
                  <a:ext cx="1227960" cy="294120"/>
                  <a:chOff x="2577240" y="3677040"/>
                  <a:chExt cx="1227960" cy="2941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2577240" y="384372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8">
                        <a:moveTo>
                          <a:pt x="0" y="0"/>
                        </a:moveTo>
                        <a:lnTo>
                          <a:pt x="2056" y="252"/>
                        </a:lnTo>
                        <a:lnTo>
                          <a:pt x="2056" y="348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438360" y="371520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0"/>
                        </a:moveTo>
                        <a:lnTo>
                          <a:pt x="0" y="698"/>
                        </a:lnTo>
                        <a:lnTo>
                          <a:pt x="875" y="51"/>
                        </a:lnTo>
                        <a:lnTo>
                          <a:pt x="875" y="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2577240" y="3677040"/>
                    <a:ext cx="1227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6">
                        <a:moveTo>
                          <a:pt x="0" y="455"/>
                        </a:moveTo>
                        <a:lnTo>
                          <a:pt x="2053" y="706"/>
                        </a:lnTo>
                        <a:lnTo>
                          <a:pt x="2931" y="106"/>
                        </a:lnTo>
                        <a:lnTo>
                          <a:pt x="1212" y="0"/>
                        </a:lnTo>
                        <a:lnTo>
                          <a:pt x="0" y="45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761280" y="374076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0"/>
                        </a:lnTo>
                        <a:lnTo>
                          <a:pt x="30" y="0"/>
                        </a:lnTo>
                        <a:lnTo>
                          <a:pt x="30" y="33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578320" y="385668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2671560" y="3768120"/>
                  <a:ext cx="829440" cy="186120"/>
                  <a:chOff x="2671560" y="3768120"/>
                  <a:chExt cx="829440" cy="1861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671560" y="385236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7">
                        <a:moveTo>
                          <a:pt x="3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7"/>
                        </a:lnTo>
                        <a:lnTo>
                          <a:pt x="3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671560" y="3768120"/>
                    <a:ext cx="8294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7">
                        <a:moveTo>
                          <a:pt x="1473" y="407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2646360" y="3669120"/>
                <a:ext cx="1226880" cy="294120"/>
                <a:chOff x="2646360" y="3669120"/>
                <a:chExt cx="1226880" cy="29412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2646360" y="3669120"/>
                  <a:ext cx="1226880" cy="294120"/>
                  <a:chOff x="2646360" y="3669120"/>
                  <a:chExt cx="1226880" cy="29412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2646360" y="3835800"/>
                    <a:ext cx="8607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507120" y="3707640"/>
                    <a:ext cx="36576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5" y="52"/>
                        </a:lnTo>
                        <a:lnTo>
                          <a:pt x="875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646360" y="3669120"/>
                    <a:ext cx="1226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0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830400" y="373284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647440" y="385020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2740320" y="3760200"/>
                  <a:ext cx="829800" cy="186120"/>
                  <a:chOff x="2740320" y="3760200"/>
                  <a:chExt cx="829800" cy="1861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2740320" y="3845520"/>
                    <a:ext cx="617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7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7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00e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740320" y="3760200"/>
                    <a:ext cx="8298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9">
                        <a:moveTo>
                          <a:pt x="1473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5"/>
                        </a:lnTo>
                        <a:lnTo>
                          <a:pt x="1473" y="409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2544480" y="3619800"/>
                <a:ext cx="1228320" cy="294120"/>
                <a:chOff x="2544480" y="3619800"/>
                <a:chExt cx="1228320" cy="29412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2544480" y="3619800"/>
                  <a:ext cx="1228320" cy="294120"/>
                  <a:chOff x="2544480" y="3619800"/>
                  <a:chExt cx="1228320" cy="2941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2544480" y="378648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05600" y="365796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6" y="51"/>
                        </a:lnTo>
                        <a:lnTo>
                          <a:pt x="876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44480" y="3619800"/>
                    <a:ext cx="12283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3" y="707"/>
                        </a:lnTo>
                        <a:lnTo>
                          <a:pt x="2931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728520" y="3683520"/>
                    <a:ext cx="126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547000" y="3799440"/>
                    <a:ext cx="85860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2638800" y="3710880"/>
                  <a:ext cx="829800" cy="186120"/>
                  <a:chOff x="2638800" y="3710880"/>
                  <a:chExt cx="829800" cy="1861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638800" y="379512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277">
                        <a:moveTo>
                          <a:pt x="3" y="83"/>
                        </a:moveTo>
                        <a:lnTo>
                          <a:pt x="0" y="0"/>
                        </a:lnTo>
                        <a:lnTo>
                          <a:pt x="1472" y="180"/>
                        </a:lnTo>
                        <a:lnTo>
                          <a:pt x="1472" y="277"/>
                        </a:lnTo>
                        <a:lnTo>
                          <a:pt x="3" y="83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638800" y="3710880"/>
                    <a:ext cx="8298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79" h="407">
                        <a:moveTo>
                          <a:pt x="1472" y="407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9" y="136"/>
                        </a:lnTo>
                        <a:lnTo>
                          <a:pt x="1472" y="407"/>
                        </a:lnTo>
                        <a:close/>
                      </a:path>
                    </a:pathLst>
                  </a:custGeom>
                  <a:solidFill>
                    <a:srgbClr val="800080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2610000" y="3580200"/>
                <a:ext cx="1226880" cy="294120"/>
                <a:chOff x="2610000" y="3580200"/>
                <a:chExt cx="1226880" cy="2941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2610000" y="3580200"/>
                  <a:ext cx="1226880" cy="294120"/>
                  <a:chOff x="2610000" y="3580200"/>
                  <a:chExt cx="1226880" cy="294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610000" y="3746880"/>
                    <a:ext cx="86076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70760" y="3618360"/>
                    <a:ext cx="36576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700">
                        <a:moveTo>
                          <a:pt x="0" y="603"/>
                        </a:moveTo>
                        <a:lnTo>
                          <a:pt x="0" y="700"/>
                        </a:lnTo>
                        <a:lnTo>
                          <a:pt x="875" y="53"/>
                        </a:lnTo>
                        <a:lnTo>
                          <a:pt x="875" y="0"/>
                        </a:lnTo>
                        <a:lnTo>
                          <a:pt x="0" y="60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610000" y="3580200"/>
                    <a:ext cx="1226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3"/>
                        </a:moveTo>
                        <a:lnTo>
                          <a:pt x="2052" y="707"/>
                        </a:lnTo>
                        <a:lnTo>
                          <a:pt x="2930" y="104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794040" y="364392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611080" y="376128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2704320" y="3671280"/>
                  <a:ext cx="829440" cy="186120"/>
                  <a:chOff x="2704320" y="3671280"/>
                  <a:chExt cx="829440" cy="1861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2704320" y="3756600"/>
                    <a:ext cx="617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7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704320" y="3671280"/>
                    <a:ext cx="8294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10">
                        <a:moveTo>
                          <a:pt x="1471" y="410"/>
                        </a:moveTo>
                        <a:lnTo>
                          <a:pt x="0" y="234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1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2584800" y="3537720"/>
                <a:ext cx="1227960" cy="294120"/>
                <a:chOff x="2584800" y="3537720"/>
                <a:chExt cx="1227960" cy="29412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2584800" y="3537720"/>
                  <a:ext cx="1227960" cy="294120"/>
                  <a:chOff x="2584800" y="3537720"/>
                  <a:chExt cx="1227960" cy="2941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2584800" y="3704400"/>
                    <a:ext cx="862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8">
                        <a:moveTo>
                          <a:pt x="0" y="0"/>
                        </a:moveTo>
                        <a:lnTo>
                          <a:pt x="2057" y="252"/>
                        </a:lnTo>
                        <a:lnTo>
                          <a:pt x="2057" y="348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47000" y="3575880"/>
                    <a:ext cx="3654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9">
                        <a:moveTo>
                          <a:pt x="0" y="601"/>
                        </a:moveTo>
                        <a:lnTo>
                          <a:pt x="0" y="699"/>
                        </a:lnTo>
                        <a:lnTo>
                          <a:pt x="874" y="52"/>
                        </a:lnTo>
                        <a:lnTo>
                          <a:pt x="874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584800" y="353772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6">
                        <a:moveTo>
                          <a:pt x="0" y="453"/>
                        </a:moveTo>
                        <a:lnTo>
                          <a:pt x="2052" y="706"/>
                        </a:lnTo>
                        <a:lnTo>
                          <a:pt x="2931" y="105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68840" y="360144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2" y="0"/>
                        </a:lnTo>
                        <a:lnTo>
                          <a:pt x="32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586960" y="371880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2680200" y="3628800"/>
                  <a:ext cx="828360" cy="186120"/>
                  <a:chOff x="2680200" y="3628800"/>
                  <a:chExt cx="828360" cy="1861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2680200" y="3714120"/>
                    <a:ext cx="617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6">
                        <a:moveTo>
                          <a:pt x="1" y="81"/>
                        </a:moveTo>
                        <a:lnTo>
                          <a:pt x="0" y="0"/>
                        </a:lnTo>
                        <a:lnTo>
                          <a:pt x="1473" y="179"/>
                        </a:lnTo>
                        <a:lnTo>
                          <a:pt x="1473" y="276"/>
                        </a:lnTo>
                        <a:lnTo>
                          <a:pt x="1" y="8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680200" y="362880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3" y="408"/>
                        </a:moveTo>
                        <a:lnTo>
                          <a:pt x="0" y="234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3" y="408"/>
                        </a:lnTo>
                        <a:close/>
                      </a:path>
                    </a:pathLst>
                  </a:custGeom>
                  <a:solidFill>
                    <a:srgbClr val="80800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2539440" y="3124080"/>
              <a:ext cx="1341000" cy="649080"/>
              <a:chOff x="2539440" y="3124080"/>
              <a:chExt cx="1341000" cy="64908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2599560" y="3479400"/>
                <a:ext cx="1227960" cy="293760"/>
                <a:chOff x="2599560" y="3479400"/>
                <a:chExt cx="1227960" cy="29376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2599560" y="3479400"/>
                  <a:ext cx="1227960" cy="293760"/>
                  <a:chOff x="2599560" y="3479400"/>
                  <a:chExt cx="1227960" cy="2937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2599560" y="3646080"/>
                    <a:ext cx="8607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8">
                        <a:moveTo>
                          <a:pt x="0" y="0"/>
                        </a:moveTo>
                        <a:lnTo>
                          <a:pt x="2055" y="252"/>
                        </a:lnTo>
                        <a:lnTo>
                          <a:pt x="2055" y="348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460320" y="3518640"/>
                    <a:ext cx="3668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0"/>
                        </a:moveTo>
                        <a:lnTo>
                          <a:pt x="0" y="698"/>
                        </a:lnTo>
                        <a:lnTo>
                          <a:pt x="875" y="51"/>
                        </a:lnTo>
                        <a:lnTo>
                          <a:pt x="875" y="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2599560" y="347940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6">
                        <a:moveTo>
                          <a:pt x="0" y="453"/>
                        </a:moveTo>
                        <a:lnTo>
                          <a:pt x="2052" y="706"/>
                        </a:lnTo>
                        <a:lnTo>
                          <a:pt x="2930" y="106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783240" y="3543120"/>
                    <a:ext cx="12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1" y="0"/>
                        </a:lnTo>
                        <a:lnTo>
                          <a:pt x="31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600640" y="365940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694960" y="3570480"/>
                  <a:ext cx="828360" cy="186120"/>
                  <a:chOff x="2694960" y="3570480"/>
                  <a:chExt cx="828360" cy="1861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694960" y="3655800"/>
                    <a:ext cx="6156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6">
                        <a:moveTo>
                          <a:pt x="1" y="81"/>
                        </a:moveTo>
                        <a:lnTo>
                          <a:pt x="0" y="0"/>
                        </a:lnTo>
                        <a:lnTo>
                          <a:pt x="1471" y="179"/>
                        </a:lnTo>
                        <a:lnTo>
                          <a:pt x="1471" y="276"/>
                        </a:lnTo>
                        <a:lnTo>
                          <a:pt x="1" y="8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694960" y="357048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7">
                        <a:moveTo>
                          <a:pt x="1471" y="407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2574360" y="3430080"/>
                <a:ext cx="1229400" cy="294120"/>
                <a:chOff x="2574360" y="3430080"/>
                <a:chExt cx="1229400" cy="29412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2574360" y="3430080"/>
                  <a:ext cx="1229400" cy="294120"/>
                  <a:chOff x="2574360" y="3430080"/>
                  <a:chExt cx="1229400" cy="2941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2574360" y="3596760"/>
                    <a:ext cx="862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9">
                        <a:moveTo>
                          <a:pt x="0" y="0"/>
                        </a:moveTo>
                        <a:lnTo>
                          <a:pt x="2057" y="253"/>
                        </a:lnTo>
                        <a:lnTo>
                          <a:pt x="2057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36560" y="346824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1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574360" y="3430080"/>
                    <a:ext cx="122940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2" h="707">
                        <a:moveTo>
                          <a:pt x="0" y="453"/>
                        </a:moveTo>
                        <a:lnTo>
                          <a:pt x="2054" y="707"/>
                        </a:lnTo>
                        <a:lnTo>
                          <a:pt x="2932" y="106"/>
                        </a:lnTo>
                        <a:lnTo>
                          <a:pt x="1213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759840" y="349380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1" y="0"/>
                        </a:lnTo>
                        <a:lnTo>
                          <a:pt x="31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576880" y="361116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2669760" y="3520080"/>
                  <a:ext cx="829800" cy="187200"/>
                  <a:chOff x="2669760" y="3520080"/>
                  <a:chExt cx="829800" cy="18720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2669760" y="3606480"/>
                    <a:ext cx="617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6">
                        <a:moveTo>
                          <a:pt x="2" y="82"/>
                        </a:moveTo>
                        <a:lnTo>
                          <a:pt x="0" y="0"/>
                        </a:lnTo>
                        <a:lnTo>
                          <a:pt x="1473" y="179"/>
                        </a:lnTo>
                        <a:lnTo>
                          <a:pt x="1473" y="276"/>
                        </a:lnTo>
                        <a:lnTo>
                          <a:pt x="2" y="82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669760" y="3520080"/>
                    <a:ext cx="82980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10">
                        <a:moveTo>
                          <a:pt x="1473" y="410"/>
                        </a:moveTo>
                        <a:lnTo>
                          <a:pt x="0" y="235"/>
                        </a:lnTo>
                        <a:lnTo>
                          <a:pt x="637" y="0"/>
                        </a:lnTo>
                        <a:lnTo>
                          <a:pt x="1980" y="138"/>
                        </a:lnTo>
                        <a:lnTo>
                          <a:pt x="1473" y="410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2652480" y="3398040"/>
                <a:ext cx="1227960" cy="294120"/>
                <a:chOff x="2652480" y="3398040"/>
                <a:chExt cx="1227960" cy="29412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2652480" y="3398040"/>
                  <a:ext cx="1227960" cy="294120"/>
                  <a:chOff x="2652480" y="3398040"/>
                  <a:chExt cx="1227960" cy="294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652480" y="3564720"/>
                    <a:ext cx="86076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9">
                        <a:moveTo>
                          <a:pt x="0" y="0"/>
                        </a:moveTo>
                        <a:lnTo>
                          <a:pt x="2056" y="253"/>
                        </a:lnTo>
                        <a:lnTo>
                          <a:pt x="2056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513240" y="343620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700">
                        <a:moveTo>
                          <a:pt x="0" y="602"/>
                        </a:moveTo>
                        <a:lnTo>
                          <a:pt x="0" y="700"/>
                        </a:lnTo>
                        <a:lnTo>
                          <a:pt x="875" y="53"/>
                        </a:lnTo>
                        <a:lnTo>
                          <a:pt x="875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652480" y="3398040"/>
                    <a:ext cx="1227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6">
                        <a:moveTo>
                          <a:pt x="0" y="453"/>
                        </a:moveTo>
                        <a:lnTo>
                          <a:pt x="2053" y="706"/>
                        </a:lnTo>
                        <a:lnTo>
                          <a:pt x="2931" y="104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836520" y="346176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653560" y="357768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746440" y="3488040"/>
                  <a:ext cx="829800" cy="187200"/>
                  <a:chOff x="2746440" y="3488040"/>
                  <a:chExt cx="829800" cy="187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746440" y="3573360"/>
                    <a:ext cx="617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1"/>
                        </a:lnTo>
                        <a:lnTo>
                          <a:pt x="1471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746440" y="3488040"/>
                    <a:ext cx="82980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2647440" y="3358440"/>
                <a:ext cx="1227960" cy="294120"/>
                <a:chOff x="2647440" y="3358440"/>
                <a:chExt cx="1227960" cy="294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647440" y="3358440"/>
                  <a:ext cx="1227960" cy="294120"/>
                  <a:chOff x="2647440" y="3358440"/>
                  <a:chExt cx="1227960" cy="294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647440" y="3525120"/>
                    <a:ext cx="8622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9">
                        <a:moveTo>
                          <a:pt x="0" y="0"/>
                        </a:moveTo>
                        <a:lnTo>
                          <a:pt x="2056" y="253"/>
                        </a:lnTo>
                        <a:lnTo>
                          <a:pt x="2056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509640" y="3396960"/>
                    <a:ext cx="3654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2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647440" y="335844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3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832560" y="3422160"/>
                    <a:ext cx="12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649960" y="353952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742840" y="3449520"/>
                  <a:ext cx="828360" cy="186120"/>
                  <a:chOff x="2742840" y="3449520"/>
                  <a:chExt cx="828360" cy="18612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2742840" y="3534840"/>
                    <a:ext cx="6159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2" y="82"/>
                        </a:moveTo>
                        <a:lnTo>
                          <a:pt x="0" y="0"/>
                        </a:lnTo>
                        <a:lnTo>
                          <a:pt x="1471" y="179"/>
                        </a:lnTo>
                        <a:lnTo>
                          <a:pt x="1471" y="277"/>
                        </a:lnTo>
                        <a:lnTo>
                          <a:pt x="2" y="82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742840" y="344952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4"/>
                        </a:lnTo>
                        <a:lnTo>
                          <a:pt x="637" y="0"/>
                        </a:lnTo>
                        <a:lnTo>
                          <a:pt x="1978" y="137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00606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"/>
              <p:cNvGrpSpPr/>
              <p:nvPr/>
            </p:nvGrpSpPr>
            <p:grpSpPr>
              <a:xfrm>
                <a:off x="2619720" y="3309480"/>
                <a:ext cx="1227960" cy="293760"/>
                <a:chOff x="2619720" y="3309480"/>
                <a:chExt cx="1227960" cy="2937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2619720" y="3309480"/>
                  <a:ext cx="1227960" cy="293760"/>
                  <a:chOff x="2619720" y="3309480"/>
                  <a:chExt cx="1227960" cy="2937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2619720" y="3475080"/>
                    <a:ext cx="86112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80840" y="334764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6" y="52"/>
                        </a:lnTo>
                        <a:lnTo>
                          <a:pt x="876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619720" y="3309480"/>
                    <a:ext cx="1227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3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803760" y="337176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622240" y="348912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2715120" y="3399120"/>
                  <a:ext cx="828360" cy="187560"/>
                  <a:chOff x="2715120" y="3399120"/>
                  <a:chExt cx="828360" cy="18756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2715120" y="3484440"/>
                    <a:ext cx="6159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715120" y="3399120"/>
                    <a:ext cx="8283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3" name=""/>
              <p:cNvGrpSpPr/>
              <p:nvPr/>
            </p:nvGrpSpPr>
            <p:grpSpPr>
              <a:xfrm>
                <a:off x="2571840" y="3263400"/>
                <a:ext cx="1226880" cy="292680"/>
                <a:chOff x="2571840" y="3263400"/>
                <a:chExt cx="1226880" cy="29268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2571840" y="3263400"/>
                  <a:ext cx="1226880" cy="292680"/>
                  <a:chOff x="2571840" y="3263400"/>
                  <a:chExt cx="1226880" cy="2926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2571840" y="342900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8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432960" y="3301560"/>
                    <a:ext cx="36540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1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571840" y="3263400"/>
                    <a:ext cx="122688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6">
                        <a:moveTo>
                          <a:pt x="0" y="454"/>
                        </a:moveTo>
                        <a:lnTo>
                          <a:pt x="2052" y="706"/>
                        </a:lnTo>
                        <a:lnTo>
                          <a:pt x="2930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755880" y="3326760"/>
                    <a:ext cx="126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572920" y="344304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2666160" y="3353040"/>
                  <a:ext cx="829800" cy="187200"/>
                  <a:chOff x="2666160" y="3353040"/>
                  <a:chExt cx="829800" cy="18720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2666160" y="343836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3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8"/>
                        </a:lnTo>
                        <a:lnTo>
                          <a:pt x="3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666160" y="3353040"/>
                    <a:ext cx="8298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8">
                        <a:moveTo>
                          <a:pt x="1473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8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" name=""/>
              <p:cNvGrpSpPr/>
              <p:nvPr/>
            </p:nvGrpSpPr>
            <p:grpSpPr>
              <a:xfrm>
                <a:off x="2639880" y="3255480"/>
                <a:ext cx="1227960" cy="294120"/>
                <a:chOff x="2639880" y="3255480"/>
                <a:chExt cx="1227960" cy="294120"/>
              </a:xfrm>
            </p:grpSpPr>
            <p:grpSp>
              <p:nvGrpSpPr>
                <p:cNvPr id="344" name=""/>
                <p:cNvGrpSpPr/>
                <p:nvPr/>
              </p:nvGrpSpPr>
              <p:grpSpPr>
                <a:xfrm>
                  <a:off x="2639880" y="3255480"/>
                  <a:ext cx="1227960" cy="294120"/>
                  <a:chOff x="2639880" y="3255480"/>
                  <a:chExt cx="1227960" cy="2941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639880" y="3422160"/>
                    <a:ext cx="86076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500640" y="329364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2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639880" y="325548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0" y="106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823920" y="331920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1" y="0"/>
                        </a:lnTo>
                        <a:lnTo>
                          <a:pt x="31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642040" y="343512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733840" y="3346560"/>
                  <a:ext cx="829800" cy="186120"/>
                  <a:chOff x="2733840" y="3346560"/>
                  <a:chExt cx="829800" cy="1861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2733840" y="3430800"/>
                    <a:ext cx="617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00e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733840" y="3346560"/>
                    <a:ext cx="8298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9">
                        <a:moveTo>
                          <a:pt x="1473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9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3" name=""/>
              <p:cNvGrpSpPr/>
              <p:nvPr/>
            </p:nvGrpSpPr>
            <p:grpSpPr>
              <a:xfrm>
                <a:off x="2539440" y="3206160"/>
                <a:ext cx="1227960" cy="294120"/>
                <a:chOff x="2539440" y="3206160"/>
                <a:chExt cx="1227960" cy="29412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2539440" y="3206160"/>
                  <a:ext cx="1227960" cy="294120"/>
                  <a:chOff x="2539440" y="3206160"/>
                  <a:chExt cx="1227960" cy="2941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2539440" y="3371760"/>
                    <a:ext cx="86076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50">
                        <a:moveTo>
                          <a:pt x="0" y="0"/>
                        </a:moveTo>
                        <a:lnTo>
                          <a:pt x="2056" y="254"/>
                        </a:lnTo>
                        <a:lnTo>
                          <a:pt x="2056" y="350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400200" y="324468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700">
                        <a:moveTo>
                          <a:pt x="0" y="602"/>
                        </a:moveTo>
                        <a:lnTo>
                          <a:pt x="0" y="700"/>
                        </a:lnTo>
                        <a:lnTo>
                          <a:pt x="875" y="53"/>
                        </a:lnTo>
                        <a:lnTo>
                          <a:pt x="875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539440" y="3206160"/>
                    <a:ext cx="122796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6">
                        <a:moveTo>
                          <a:pt x="0" y="453"/>
                        </a:moveTo>
                        <a:lnTo>
                          <a:pt x="2053" y="706"/>
                        </a:lnTo>
                        <a:lnTo>
                          <a:pt x="2931" y="104"/>
                        </a:lnTo>
                        <a:lnTo>
                          <a:pt x="1212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723480" y="326988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540520" y="338616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2633760" y="3296160"/>
                  <a:ext cx="829440" cy="187200"/>
                  <a:chOff x="2633760" y="3296160"/>
                  <a:chExt cx="829440" cy="18720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633760" y="338148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633760" y="3296160"/>
                    <a:ext cx="82944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9">
                        <a:moveTo>
                          <a:pt x="1473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9"/>
                        </a:lnTo>
                        <a:close/>
                      </a:path>
                    </a:pathLst>
                  </a:custGeom>
                  <a:solidFill>
                    <a:srgbClr val="800080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" name=""/>
              <p:cNvGrpSpPr/>
              <p:nvPr/>
            </p:nvGrpSpPr>
            <p:grpSpPr>
              <a:xfrm>
                <a:off x="2603520" y="3166560"/>
                <a:ext cx="1227960" cy="293760"/>
                <a:chOff x="2603520" y="3166560"/>
                <a:chExt cx="1227960" cy="29376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2603520" y="3166560"/>
                  <a:ext cx="1227960" cy="293760"/>
                  <a:chOff x="2603520" y="3166560"/>
                  <a:chExt cx="1227960" cy="29376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2603520" y="3333240"/>
                    <a:ext cx="8607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464280" y="3204720"/>
                    <a:ext cx="3668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5" y="52"/>
                        </a:lnTo>
                        <a:lnTo>
                          <a:pt x="875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603520" y="3166560"/>
                    <a:ext cx="122796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0" y="106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87560" y="32299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0" y="0"/>
                        </a:lnTo>
                        <a:lnTo>
                          <a:pt x="30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606040" y="334728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698920" y="3257280"/>
                  <a:ext cx="828360" cy="186120"/>
                  <a:chOff x="2698920" y="3257280"/>
                  <a:chExt cx="828360" cy="1861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698920" y="3341520"/>
                    <a:ext cx="6159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7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7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698920" y="3257280"/>
                    <a:ext cx="8283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7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3" name=""/>
              <p:cNvGrpSpPr/>
              <p:nvPr/>
            </p:nvGrpSpPr>
            <p:grpSpPr>
              <a:xfrm>
                <a:off x="2579400" y="3124080"/>
                <a:ext cx="1227960" cy="293760"/>
                <a:chOff x="2579400" y="3124080"/>
                <a:chExt cx="1227960" cy="29376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2579400" y="3124080"/>
                  <a:ext cx="1227960" cy="293760"/>
                  <a:chOff x="2579400" y="3124080"/>
                  <a:chExt cx="1227960" cy="2937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2579400" y="329076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8">
                        <a:moveTo>
                          <a:pt x="0" y="0"/>
                        </a:moveTo>
                        <a:lnTo>
                          <a:pt x="2057" y="254"/>
                        </a:lnTo>
                        <a:lnTo>
                          <a:pt x="2057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440520" y="3162240"/>
                    <a:ext cx="3668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4" y="51"/>
                        </a:lnTo>
                        <a:lnTo>
                          <a:pt x="874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579400" y="3124080"/>
                    <a:ext cx="122796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5"/>
                        </a:moveTo>
                        <a:lnTo>
                          <a:pt x="2052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763440" y="318744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581920" y="330480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673720" y="3214800"/>
                  <a:ext cx="829440" cy="185760"/>
                  <a:chOff x="2673720" y="3214800"/>
                  <a:chExt cx="829440" cy="1857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673720" y="3300120"/>
                    <a:ext cx="6170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673720" y="3214800"/>
                    <a:ext cx="82944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3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3" y="408"/>
                        </a:lnTo>
                        <a:close/>
                      </a:path>
                    </a:pathLst>
                  </a:custGeom>
                  <a:solidFill>
                    <a:srgbClr val="80800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3" name=""/>
            <p:cNvGrpSpPr/>
            <p:nvPr/>
          </p:nvGrpSpPr>
          <p:grpSpPr>
            <a:xfrm>
              <a:off x="2514600" y="2743200"/>
              <a:ext cx="1341000" cy="650160"/>
              <a:chOff x="2514600" y="2743200"/>
              <a:chExt cx="1341000" cy="6501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574720" y="3099960"/>
                <a:ext cx="1229400" cy="293400"/>
                <a:chOff x="2574720" y="3099960"/>
                <a:chExt cx="1229400" cy="2934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574720" y="3099960"/>
                  <a:ext cx="1229400" cy="293400"/>
                  <a:chOff x="2574720" y="3099960"/>
                  <a:chExt cx="1229400" cy="2934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574720" y="3265200"/>
                    <a:ext cx="86220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9">
                        <a:moveTo>
                          <a:pt x="0" y="0"/>
                        </a:moveTo>
                        <a:lnTo>
                          <a:pt x="2057" y="253"/>
                        </a:lnTo>
                        <a:lnTo>
                          <a:pt x="2057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36920" y="3137040"/>
                    <a:ext cx="36684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700">
                        <a:moveTo>
                          <a:pt x="0" y="602"/>
                        </a:moveTo>
                        <a:lnTo>
                          <a:pt x="0" y="700"/>
                        </a:lnTo>
                        <a:lnTo>
                          <a:pt x="875" y="53"/>
                        </a:lnTo>
                        <a:lnTo>
                          <a:pt x="875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574720" y="3099960"/>
                    <a:ext cx="122940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2" h="706">
                        <a:moveTo>
                          <a:pt x="0" y="453"/>
                        </a:moveTo>
                        <a:lnTo>
                          <a:pt x="2054" y="706"/>
                        </a:lnTo>
                        <a:lnTo>
                          <a:pt x="2932" y="104"/>
                        </a:lnTo>
                        <a:lnTo>
                          <a:pt x="1213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760200" y="316224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1" y="0"/>
                        </a:lnTo>
                        <a:lnTo>
                          <a:pt x="31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577240" y="3279600"/>
                    <a:ext cx="85968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2670120" y="3189600"/>
                  <a:ext cx="829800" cy="186120"/>
                  <a:chOff x="2670120" y="3189600"/>
                  <a:chExt cx="829800" cy="1861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2670120" y="3274920"/>
                    <a:ext cx="617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3" y="181"/>
                        </a:lnTo>
                        <a:lnTo>
                          <a:pt x="1473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670120" y="3189600"/>
                    <a:ext cx="8298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80" h="409">
                        <a:moveTo>
                          <a:pt x="1473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80" y="136"/>
                        </a:lnTo>
                        <a:lnTo>
                          <a:pt x="1473" y="409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2550960" y="3049560"/>
                <a:ext cx="1227960" cy="294120"/>
                <a:chOff x="2550960" y="3049560"/>
                <a:chExt cx="1227960" cy="2941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550960" y="3049560"/>
                  <a:ext cx="1227960" cy="294120"/>
                  <a:chOff x="2550960" y="3049560"/>
                  <a:chExt cx="1227960" cy="2941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550960" y="3216240"/>
                    <a:ext cx="86076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11720" y="308772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700">
                        <a:moveTo>
                          <a:pt x="0" y="603"/>
                        </a:moveTo>
                        <a:lnTo>
                          <a:pt x="0" y="700"/>
                        </a:lnTo>
                        <a:lnTo>
                          <a:pt x="876" y="53"/>
                        </a:lnTo>
                        <a:lnTo>
                          <a:pt x="876" y="0"/>
                        </a:lnTo>
                        <a:lnTo>
                          <a:pt x="0" y="60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550960" y="304956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3"/>
                        </a:moveTo>
                        <a:lnTo>
                          <a:pt x="2052" y="707"/>
                        </a:lnTo>
                        <a:lnTo>
                          <a:pt x="2931" y="104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734640" y="3113280"/>
                    <a:ext cx="12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553120" y="323028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2646360" y="3140640"/>
                  <a:ext cx="828360" cy="186120"/>
                  <a:chOff x="2646360" y="3140640"/>
                  <a:chExt cx="828360" cy="18612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>
                    <a:off x="2646360" y="3224880"/>
                    <a:ext cx="615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1" y="181"/>
                        </a:lnTo>
                        <a:lnTo>
                          <a:pt x="1471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8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646360" y="314064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9">
                        <a:moveTo>
                          <a:pt x="1471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9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252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2627640" y="3017520"/>
                <a:ext cx="1227960" cy="294120"/>
                <a:chOff x="2627640" y="3017520"/>
                <a:chExt cx="1227960" cy="2941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2627640" y="3017520"/>
                  <a:ext cx="1227960" cy="294120"/>
                  <a:chOff x="2627640" y="3017520"/>
                  <a:chExt cx="1227960" cy="2941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2627640" y="3184200"/>
                    <a:ext cx="86220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8">
                        <a:moveTo>
                          <a:pt x="0" y="0"/>
                        </a:moveTo>
                        <a:lnTo>
                          <a:pt x="2056" y="254"/>
                        </a:lnTo>
                        <a:lnTo>
                          <a:pt x="2056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89840" y="3055680"/>
                    <a:ext cx="3654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4" y="51"/>
                        </a:lnTo>
                        <a:lnTo>
                          <a:pt x="874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627640" y="3017520"/>
                    <a:ext cx="1227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5"/>
                        </a:moveTo>
                        <a:lnTo>
                          <a:pt x="2052" y="707"/>
                        </a:lnTo>
                        <a:lnTo>
                          <a:pt x="2930" y="106"/>
                        </a:lnTo>
                        <a:lnTo>
                          <a:pt x="1211" y="0"/>
                        </a:lnTo>
                        <a:lnTo>
                          <a:pt x="0" y="45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811320" y="3081240"/>
                    <a:ext cx="13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0" y="58"/>
                        </a:moveTo>
                        <a:lnTo>
                          <a:pt x="0" y="21"/>
                        </a:lnTo>
                        <a:lnTo>
                          <a:pt x="32" y="0"/>
                        </a:lnTo>
                        <a:lnTo>
                          <a:pt x="32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629800" y="319716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2723040" y="3108600"/>
                  <a:ext cx="828360" cy="186480"/>
                  <a:chOff x="2723040" y="3108600"/>
                  <a:chExt cx="828360" cy="1864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2723040" y="3192840"/>
                    <a:ext cx="6170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2" y="180"/>
                        </a:lnTo>
                        <a:lnTo>
                          <a:pt x="1472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723040" y="310860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2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2" y="408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2520">
                    <a:solidFill>
                      <a:srgbClr val="0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2623680" y="2977920"/>
                <a:ext cx="1228320" cy="294120"/>
                <a:chOff x="2623680" y="2977920"/>
                <a:chExt cx="1228320" cy="2941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2623680" y="2977920"/>
                  <a:ext cx="1228320" cy="294120"/>
                  <a:chOff x="2623680" y="2977920"/>
                  <a:chExt cx="1228320" cy="2941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2623680" y="314460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9">
                        <a:moveTo>
                          <a:pt x="0" y="0"/>
                        </a:moveTo>
                        <a:lnTo>
                          <a:pt x="2056" y="253"/>
                        </a:lnTo>
                        <a:lnTo>
                          <a:pt x="2056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4800" y="301608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6" y="53"/>
                        </a:lnTo>
                        <a:lnTo>
                          <a:pt x="876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623680" y="2977920"/>
                    <a:ext cx="12283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2" h="707">
                        <a:moveTo>
                          <a:pt x="0" y="454"/>
                        </a:moveTo>
                        <a:lnTo>
                          <a:pt x="2054" y="707"/>
                        </a:lnTo>
                        <a:lnTo>
                          <a:pt x="2932" y="105"/>
                        </a:lnTo>
                        <a:lnTo>
                          <a:pt x="1212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807720" y="3041640"/>
                    <a:ext cx="13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2" y="0"/>
                        </a:lnTo>
                        <a:lnTo>
                          <a:pt x="32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626200" y="3159000"/>
                    <a:ext cx="85860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719080" y="3069000"/>
                  <a:ext cx="828360" cy="186120"/>
                  <a:chOff x="2719080" y="3069000"/>
                  <a:chExt cx="828360" cy="1861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2719080" y="3154320"/>
                    <a:ext cx="6159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277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2" y="180"/>
                        </a:lnTo>
                        <a:lnTo>
                          <a:pt x="1472" y="277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719080" y="306900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9" h="409">
                        <a:moveTo>
                          <a:pt x="1472" y="409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9" y="136"/>
                        </a:lnTo>
                        <a:lnTo>
                          <a:pt x="1472" y="409"/>
                        </a:lnTo>
                        <a:close/>
                      </a:path>
                    </a:pathLst>
                  </a:custGeom>
                  <a:solidFill>
                    <a:srgbClr val="006060"/>
                  </a:solidFill>
                  <a:ln w="2520">
                    <a:solidFill>
                      <a:srgbClr val="002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"/>
              <p:cNvGrpSpPr/>
              <p:nvPr/>
            </p:nvGrpSpPr>
            <p:grpSpPr>
              <a:xfrm>
                <a:off x="2595960" y="2928600"/>
                <a:ext cx="1226880" cy="294120"/>
                <a:chOff x="2595960" y="2928600"/>
                <a:chExt cx="1226880" cy="29412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2595960" y="2928600"/>
                  <a:ext cx="1226880" cy="294120"/>
                  <a:chOff x="2595960" y="2928600"/>
                  <a:chExt cx="1226880" cy="2941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595960" y="3095280"/>
                    <a:ext cx="86112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6" h="348">
                        <a:moveTo>
                          <a:pt x="0" y="0"/>
                        </a:moveTo>
                        <a:lnTo>
                          <a:pt x="2056" y="253"/>
                        </a:lnTo>
                        <a:lnTo>
                          <a:pt x="2056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457080" y="2966760"/>
                    <a:ext cx="3654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8">
                        <a:moveTo>
                          <a:pt x="0" y="602"/>
                        </a:moveTo>
                        <a:lnTo>
                          <a:pt x="0" y="698"/>
                        </a:lnTo>
                        <a:lnTo>
                          <a:pt x="874" y="51"/>
                        </a:lnTo>
                        <a:lnTo>
                          <a:pt x="874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595960" y="2928600"/>
                    <a:ext cx="122688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0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0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780000" y="299196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597040" y="310824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2690280" y="3019680"/>
                  <a:ext cx="829440" cy="186120"/>
                  <a:chOff x="2690280" y="3019680"/>
                  <a:chExt cx="829440" cy="1861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2690280" y="3103920"/>
                    <a:ext cx="6170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2" y="180"/>
                        </a:lnTo>
                        <a:lnTo>
                          <a:pt x="1472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690280" y="3019680"/>
                    <a:ext cx="82944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2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2" y="408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2547000" y="2882520"/>
                <a:ext cx="1228320" cy="293760"/>
                <a:chOff x="2547000" y="2882520"/>
                <a:chExt cx="1228320" cy="29376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2547000" y="2882520"/>
                  <a:ext cx="1228320" cy="293760"/>
                  <a:chOff x="2547000" y="2882520"/>
                  <a:chExt cx="1228320" cy="2937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2547000" y="3049200"/>
                    <a:ext cx="8622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8">
                        <a:moveTo>
                          <a:pt x="0" y="0"/>
                        </a:moveTo>
                        <a:lnTo>
                          <a:pt x="2057" y="252"/>
                        </a:lnTo>
                        <a:lnTo>
                          <a:pt x="2057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409200" y="2920680"/>
                    <a:ext cx="36576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4" y="51"/>
                        </a:lnTo>
                        <a:lnTo>
                          <a:pt x="874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547000" y="2882520"/>
                    <a:ext cx="122832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3"/>
                        </a:moveTo>
                        <a:lnTo>
                          <a:pt x="2052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731040" y="2944800"/>
                    <a:ext cx="13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2" y="0"/>
                        </a:lnTo>
                        <a:lnTo>
                          <a:pt x="32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548080" y="3062160"/>
                    <a:ext cx="860760" cy="9504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642400" y="2973240"/>
                  <a:ext cx="828360" cy="185040"/>
                  <a:chOff x="2642400" y="2973240"/>
                  <a:chExt cx="828360" cy="18504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642400" y="3057480"/>
                    <a:ext cx="6159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6">
                        <a:moveTo>
                          <a:pt x="1" y="82"/>
                        </a:moveTo>
                        <a:lnTo>
                          <a:pt x="0" y="0"/>
                        </a:lnTo>
                        <a:lnTo>
                          <a:pt x="1471" y="179"/>
                        </a:lnTo>
                        <a:lnTo>
                          <a:pt x="1471" y="276"/>
                        </a:lnTo>
                        <a:lnTo>
                          <a:pt x="1" y="8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642400" y="2973240"/>
                    <a:ext cx="8283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1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8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2616120" y="2874960"/>
                <a:ext cx="1227960" cy="293760"/>
                <a:chOff x="2616120" y="2874960"/>
                <a:chExt cx="1227960" cy="29376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2616120" y="2874960"/>
                  <a:ext cx="1227960" cy="293760"/>
                  <a:chOff x="2616120" y="2874960"/>
                  <a:chExt cx="1227960" cy="29376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2616120" y="3041640"/>
                    <a:ext cx="8607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476880" y="2913120"/>
                    <a:ext cx="3668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6" y="51"/>
                        </a:lnTo>
                        <a:lnTo>
                          <a:pt x="876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16120" y="2874960"/>
                    <a:ext cx="122796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3" y="707"/>
                        </a:lnTo>
                        <a:lnTo>
                          <a:pt x="2931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800160" y="293832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617200" y="305568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2710440" y="2965680"/>
                  <a:ext cx="829440" cy="185760"/>
                  <a:chOff x="2710440" y="2965680"/>
                  <a:chExt cx="829440" cy="1857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2710440" y="3051000"/>
                    <a:ext cx="6170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8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0000e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10440" y="2965680"/>
                    <a:ext cx="82944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1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8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2520">
                    <a:solidFill>
                      <a:srgbClr val="0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2514600" y="2825280"/>
                <a:ext cx="1227960" cy="294120"/>
                <a:chOff x="2514600" y="2825280"/>
                <a:chExt cx="1227960" cy="29412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2514600" y="2825280"/>
                  <a:ext cx="1227960" cy="294120"/>
                  <a:chOff x="2514600" y="2825280"/>
                  <a:chExt cx="1227960" cy="2941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514600" y="2991960"/>
                    <a:ext cx="86076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8">
                        <a:moveTo>
                          <a:pt x="0" y="0"/>
                        </a:moveTo>
                        <a:lnTo>
                          <a:pt x="2055" y="254"/>
                        </a:lnTo>
                        <a:lnTo>
                          <a:pt x="2055" y="348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375360" y="286380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6" y="51"/>
                        </a:lnTo>
                        <a:lnTo>
                          <a:pt x="876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514600" y="2825280"/>
                    <a:ext cx="1227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5"/>
                        </a:moveTo>
                        <a:lnTo>
                          <a:pt x="2052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698640" y="2889000"/>
                    <a:ext cx="136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0" y="58"/>
                        </a:moveTo>
                        <a:lnTo>
                          <a:pt x="0" y="20"/>
                        </a:lnTo>
                        <a:lnTo>
                          <a:pt x="32" y="0"/>
                        </a:lnTo>
                        <a:lnTo>
                          <a:pt x="32" y="34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516760" y="300492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2610000" y="2916360"/>
                  <a:ext cx="828360" cy="186120"/>
                  <a:chOff x="2610000" y="2916360"/>
                  <a:chExt cx="828360" cy="1861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2610000" y="3000600"/>
                    <a:ext cx="6159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71" h="278">
                        <a:moveTo>
                          <a:pt x="1" y="83"/>
                        </a:moveTo>
                        <a:lnTo>
                          <a:pt x="0" y="0"/>
                        </a:lnTo>
                        <a:lnTo>
                          <a:pt x="1471" y="180"/>
                        </a:lnTo>
                        <a:lnTo>
                          <a:pt x="1471" y="278"/>
                        </a:lnTo>
                        <a:lnTo>
                          <a:pt x="1" y="83"/>
                        </a:lnTo>
                        <a:close/>
                      </a:path>
                    </a:pathLst>
                  </a:custGeom>
                  <a:solidFill>
                    <a:srgbClr val="ff00ff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610000" y="2916360"/>
                    <a:ext cx="828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8">
                        <a:moveTo>
                          <a:pt x="1471" y="408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1" y="408"/>
                        </a:lnTo>
                        <a:close/>
                      </a:path>
                    </a:pathLst>
                  </a:custGeom>
                  <a:solidFill>
                    <a:srgbClr val="800080"/>
                  </a:solidFill>
                  <a:ln w="2520">
                    <a:solidFill>
                      <a:srgbClr val="2000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2579760" y="2785680"/>
                <a:ext cx="1227960" cy="294120"/>
                <a:chOff x="2579760" y="2785680"/>
                <a:chExt cx="1227960" cy="29412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2579760" y="2785680"/>
                  <a:ext cx="1227960" cy="294120"/>
                  <a:chOff x="2579760" y="2785680"/>
                  <a:chExt cx="1227960" cy="2941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2579760" y="295236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7" h="349">
                        <a:moveTo>
                          <a:pt x="0" y="0"/>
                        </a:moveTo>
                        <a:lnTo>
                          <a:pt x="2057" y="253"/>
                        </a:lnTo>
                        <a:lnTo>
                          <a:pt x="2057" y="349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440880" y="2824200"/>
                    <a:ext cx="3668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4" h="699">
                        <a:moveTo>
                          <a:pt x="0" y="602"/>
                        </a:moveTo>
                        <a:lnTo>
                          <a:pt x="0" y="699"/>
                        </a:lnTo>
                        <a:lnTo>
                          <a:pt x="874" y="53"/>
                        </a:lnTo>
                        <a:lnTo>
                          <a:pt x="874" y="0"/>
                        </a:lnTo>
                        <a:lnTo>
                          <a:pt x="0" y="602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579760" y="278568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4"/>
                        </a:moveTo>
                        <a:lnTo>
                          <a:pt x="2052" y="707"/>
                        </a:lnTo>
                        <a:lnTo>
                          <a:pt x="2931" y="105"/>
                        </a:lnTo>
                        <a:lnTo>
                          <a:pt x="1211" y="0"/>
                        </a:lnTo>
                        <a:lnTo>
                          <a:pt x="0" y="45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63800" y="284940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9">
                        <a:moveTo>
                          <a:pt x="0" y="59"/>
                        </a:moveTo>
                        <a:lnTo>
                          <a:pt x="0" y="22"/>
                        </a:lnTo>
                        <a:lnTo>
                          <a:pt x="31" y="0"/>
                        </a:lnTo>
                        <a:lnTo>
                          <a:pt x="31" y="35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582280" y="2966760"/>
                    <a:ext cx="85824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2674080" y="2876760"/>
                  <a:ext cx="829440" cy="186120"/>
                  <a:chOff x="2674080" y="2876760"/>
                  <a:chExt cx="829440" cy="1861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2674080" y="2962080"/>
                    <a:ext cx="617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3" h="277">
                        <a:moveTo>
                          <a:pt x="2" y="83"/>
                        </a:moveTo>
                        <a:lnTo>
                          <a:pt x="0" y="0"/>
                        </a:lnTo>
                        <a:lnTo>
                          <a:pt x="1473" y="180"/>
                        </a:lnTo>
                        <a:lnTo>
                          <a:pt x="1473" y="277"/>
                        </a:lnTo>
                        <a:lnTo>
                          <a:pt x="2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674080" y="2876760"/>
                    <a:ext cx="8294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8" h="407">
                        <a:moveTo>
                          <a:pt x="1473" y="407"/>
                        </a:moveTo>
                        <a:lnTo>
                          <a:pt x="0" y="233"/>
                        </a:lnTo>
                        <a:lnTo>
                          <a:pt x="637" y="0"/>
                        </a:lnTo>
                        <a:lnTo>
                          <a:pt x="1978" y="136"/>
                        </a:lnTo>
                        <a:lnTo>
                          <a:pt x="1473" y="40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252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2555640" y="2743200"/>
                <a:ext cx="1227960" cy="293760"/>
                <a:chOff x="2555640" y="2743200"/>
                <a:chExt cx="1227960" cy="29376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2555640" y="2743200"/>
                  <a:ext cx="1227960" cy="293760"/>
                  <a:chOff x="2555640" y="2743200"/>
                  <a:chExt cx="1227960" cy="29376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2555640" y="2909880"/>
                    <a:ext cx="8611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5" h="349">
                        <a:moveTo>
                          <a:pt x="0" y="0"/>
                        </a:moveTo>
                        <a:lnTo>
                          <a:pt x="2055" y="253"/>
                        </a:lnTo>
                        <a:lnTo>
                          <a:pt x="2055" y="349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416760" y="2782440"/>
                    <a:ext cx="366840" cy="254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6" h="698">
                        <a:moveTo>
                          <a:pt x="0" y="601"/>
                        </a:moveTo>
                        <a:lnTo>
                          <a:pt x="0" y="698"/>
                        </a:lnTo>
                        <a:lnTo>
                          <a:pt x="876" y="51"/>
                        </a:lnTo>
                        <a:lnTo>
                          <a:pt x="876" y="0"/>
                        </a:lnTo>
                        <a:lnTo>
                          <a:pt x="0" y="6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555640" y="2743200"/>
                    <a:ext cx="122796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1" h="707">
                        <a:moveTo>
                          <a:pt x="0" y="453"/>
                        </a:moveTo>
                        <a:lnTo>
                          <a:pt x="2052" y="707"/>
                        </a:lnTo>
                        <a:lnTo>
                          <a:pt x="2931" y="106"/>
                        </a:lnTo>
                        <a:lnTo>
                          <a:pt x="1211" y="0"/>
                        </a:lnTo>
                        <a:lnTo>
                          <a:pt x="0" y="453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252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739680" y="2806920"/>
                    <a:ext cx="122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0" y="59"/>
                        </a:moveTo>
                        <a:lnTo>
                          <a:pt x="0" y="21"/>
                        </a:lnTo>
                        <a:lnTo>
                          <a:pt x="30" y="0"/>
                        </a:lnTo>
                        <a:lnTo>
                          <a:pt x="30" y="34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556720" y="2924280"/>
                    <a:ext cx="859680" cy="95400"/>
                  </a:xfrm>
                  <a:prstGeom prst="line">
                    <a:avLst/>
                  </a:prstGeom>
                  <a:ln w="25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2649960" y="2834280"/>
                  <a:ext cx="829440" cy="186120"/>
                  <a:chOff x="2649960" y="2834280"/>
                  <a:chExt cx="829440" cy="18612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2649960" y="2919600"/>
                    <a:ext cx="617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2" h="276">
                        <a:moveTo>
                          <a:pt x="2" y="82"/>
                        </a:moveTo>
                        <a:lnTo>
                          <a:pt x="0" y="0"/>
                        </a:lnTo>
                        <a:lnTo>
                          <a:pt x="1472" y="179"/>
                        </a:lnTo>
                        <a:lnTo>
                          <a:pt x="1472" y="276"/>
                        </a:lnTo>
                        <a:lnTo>
                          <a:pt x="2" y="8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649960" y="2834280"/>
                    <a:ext cx="82944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9" h="410">
                        <a:moveTo>
                          <a:pt x="1472" y="410"/>
                        </a:moveTo>
                        <a:lnTo>
                          <a:pt x="0" y="235"/>
                        </a:lnTo>
                        <a:lnTo>
                          <a:pt x="637" y="0"/>
                        </a:lnTo>
                        <a:lnTo>
                          <a:pt x="1979" y="138"/>
                        </a:lnTo>
                        <a:lnTo>
                          <a:pt x="1472" y="410"/>
                        </a:lnTo>
                        <a:close/>
                      </a:path>
                    </a:pathLst>
                  </a:custGeom>
                  <a:solidFill>
                    <a:srgbClr val="ffff40"/>
                  </a:solidFill>
                  <a:ln w="2520">
                    <a:solidFill>
                      <a:srgbClr val="2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8e2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84" name=""/>
          <p:cNvSpPr/>
          <p:nvPr/>
        </p:nvSpPr>
        <p:spPr>
          <a:xfrm>
            <a:off x="1523880" y="2133720"/>
            <a:ext cx="1189080" cy="547560"/>
          </a:xfrm>
          <a:custGeom>
            <a:avLst/>
            <a:gdLst>
              <a:gd name="textAreaLeft" fmla="*/ 208080 w 1189080"/>
              <a:gd name="textAreaRight" fmla="*/ 862200 w 1189080"/>
              <a:gd name="textAreaTop" fmla="*/ 73080 h 547560"/>
              <a:gd name="textAreaBottom" fmla="*/ 474480 h 54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4267080"/>
            <a:ext cx="3733920" cy="2286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dbc03"/>
                </a:solidFill>
                <a:latin typeface="Arial"/>
              </a:rPr>
              <a:t>ATENCION: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dbc03"/>
                </a:solidFill>
                <a:latin typeface="Arial"/>
              </a:rPr>
              <a:t>Estas herramientas son especialmente útiles cuando no se dispone de comunicación por red entre las dos computadoras entre las cuales se desea compartir archivos…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1676520"/>
            <a:ext cx="388620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U</a:t>
            </a: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n </a:t>
            </a:r>
            <a:r>
              <a:rPr b="0" i="1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compresor de archivos</a:t>
            </a: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es el que permite darle </a:t>
            </a: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“un apretón” </a:t>
            </a:r>
            <a:r>
              <a:rPr b="0" lang="es-ES_tradnl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al archivo permitiendo </a:t>
            </a: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economizar espacio al máximo.  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Pues bien, esto es precisamente lo que nos permite hacer el programa </a:t>
            </a:r>
            <a:r>
              <a:rPr b="1" i="1" lang="es-ES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Winzip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L USO DEL WINRAR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c0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8e2"/>
                </a:solidFill>
                <a:latin typeface="Arial Narrow"/>
              </a:rPr>
              <a:t>RAR es un compresor de archivos técnicamente superior. Proporciona mejor compresión que la gran mayoría de sus competidores. 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c0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s-ES" sz="2800" spc="-1" strike="noStrike">
                <a:solidFill>
                  <a:srgbClr val="eae8e2"/>
                </a:solidFill>
                <a:latin typeface="Arial Narrow"/>
              </a:rPr>
              <a:t>RAR esta disponible para la mayoría de sistemas operativos: Windows (3.xx,/95/98/Me/NT/2000/XP), OS/2, Macintosh, BeOS, Linux, Solaris, BSD Unix, HP_UX, ..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8e2"/>
                </a:solidFill>
                <a:latin typeface="Arial Narrow"/>
              </a:rPr>
              <a:t>http://winrar.com.es/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Impact"/>
              </a:rPr>
              <a:t>ANTIVIRUS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Los antivirus son programas cuya función es detectar y eliminar virus informáticos y otros programas maliciosos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rograma informático capaz de actuar contra un virus o avisar de su existencia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on todos aquellos programas que permiten analizar memoria y unidades de disco en busca de virus. Una vez que el antivirus ha detectado alguno de ellos, informa al usuario procediendo inmediatamente y de forma automática desinfecta los archivos, directorios, o discos que hayan sido víctimas del virus. ( subir )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plicación informática encargada de detectar y eliminar virus.</a:t>
            </a:r>
            <a:br>
              <a:rPr sz="2800"/>
            </a:b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3b33d"/>
                </a:solidFill>
                <a:latin typeface="Impact"/>
              </a:rPr>
              <a:t>EL SOFTWARE Y EL HARDWAR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8e2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b33d"/>
                </a:solidFill>
                <a:latin typeface="Arial Narrow"/>
              </a:rPr>
              <a:t>Hardware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es el substrato físico en el cual existe el software. El hardware abarca todas las piezas físicas de un ordenador (CPU, placa base, etc.)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8e2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b33d"/>
                </a:solidFill>
                <a:latin typeface="Arial Narrow"/>
              </a:rPr>
              <a:t>Software</a:t>
            </a: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 refiere a los programas y datos almacenados en un ordenador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Los </a:t>
            </a:r>
            <a:r>
              <a:rPr b="1" lang="en-US" sz="2400" spc="-1" strike="noStrike">
                <a:solidFill>
                  <a:srgbClr val="eae8e2"/>
                </a:solidFill>
                <a:latin typeface="Arial Narrow"/>
              </a:rPr>
              <a:t>programas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dan instrucciones para realizar tareas   al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hardware o sirven de conexión con otro software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Los </a:t>
            </a:r>
            <a:r>
              <a:rPr b="1" lang="en-US" sz="2400" spc="-1" strike="noStrike">
                <a:solidFill>
                  <a:srgbClr val="eae8e2"/>
                </a:solidFill>
                <a:latin typeface="Arial Narrow"/>
              </a:rPr>
              <a:t>datos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solamente existen para su uso eventual por un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         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programa.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1520" y="189000"/>
            <a:ext cx="1992600" cy="201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549360"/>
            <a:ext cx="5904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8e2"/>
                </a:solidFill>
                <a:latin typeface="Arial"/>
              </a:rPr>
              <a:t>SISTEMA OPERATIVO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Sistema Operativo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eae8e2"/>
                </a:solidFill>
                <a:latin typeface="Arial"/>
              </a:rPr>
              <a:t>SO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) es la parte principal del Software, ya que controla el computador, traduciendo nuestras órdenes (que ingresamos por medio del teclado, mouse etc...) a un lenguaje que el Hardware pueda entender.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32000" y="4437000"/>
            <a:ext cx="252108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11640" y="3645000"/>
            <a:ext cx="1944720" cy="792000"/>
          </a:xfrm>
          <a:prstGeom prst="wedgeRoundRectCallout">
            <a:avLst>
              <a:gd name="adj1" fmla="val -60365"/>
              <a:gd name="adj2" fmla="val 79458"/>
              <a:gd name="adj3" fmla="val 16667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¡ Si no me haces caso verás lo que te pasa !</a:t>
            </a:r>
            <a:endParaRPr b="0" lang="en-US" sz="16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stema Operativo …………………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   </a:t>
            </a: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La mayoría de los computadores mantienen el sistema operativo en el disco duro, de esa forma al encenderse el computador se carga automáticamente a la memoria RAM y activa otros programas que también forman parte del sistema operativo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370240" cy="304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05520" y="2209680"/>
            <a:ext cx="3024000" cy="2159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Creo que voy a estudiar el sistema operativo Windows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bc03"/>
                </a:solidFill>
                <a:latin typeface="Arial Black"/>
              </a:rPr>
              <a:t>El Sistema Operativo Windows</a:t>
            </a:r>
            <a:endParaRPr b="0" lang="en-US" sz="4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2459160" cy="245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91120" y="838080"/>
            <a:ext cx="452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dbc03"/>
                </a:solidFill>
                <a:uFillTx/>
                <a:latin typeface="Arial"/>
              </a:rPr>
              <a:t>Windows</a:t>
            </a:r>
            <a:r>
              <a:rPr b="0" i="1" lang="es-ES" sz="24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eae8e2"/>
                </a:solidFill>
                <a:latin typeface="Arial"/>
              </a:rPr>
              <a:t>es un Sistema Operativo basado en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“Interfaz Gráfica”</a:t>
            </a:r>
            <a:r>
              <a:rPr b="0" lang="es-ES" sz="2400" spc="-1" strike="noStrike">
                <a:solidFill>
                  <a:srgbClr val="eae8e2"/>
                </a:solidFill>
                <a:latin typeface="Arial"/>
              </a:rPr>
              <a:t> que permite una fácil comunicación con el Computador a través de </a:t>
            </a:r>
            <a:r>
              <a:rPr b="0" i="1" lang="es-ES" sz="2400" spc="-1" strike="noStrike">
                <a:solidFill>
                  <a:srgbClr val="eae8e2"/>
                </a:solidFill>
                <a:latin typeface="Arial"/>
              </a:rPr>
              <a:t>ventanas</a:t>
            </a:r>
            <a:r>
              <a:rPr b="0" lang="es-ES" sz="2400" spc="-1" strike="noStrike">
                <a:solidFill>
                  <a:srgbClr val="eae8e2"/>
                </a:solidFill>
                <a:latin typeface="Arial"/>
              </a:rPr>
              <a:t> e </a:t>
            </a:r>
            <a:r>
              <a:rPr b="0" i="1" lang="es-ES" sz="2400" spc="-1" strike="noStrike">
                <a:solidFill>
                  <a:srgbClr val="eae8e2"/>
                </a:solidFill>
                <a:latin typeface="Arial"/>
              </a:rPr>
              <a:t>iconos.  Su principal función es administrar los archivos en el Pc y los recursos que éste tiene.</a:t>
            </a:r>
            <a:r>
              <a:rPr b="0" lang="es-ES" sz="2400" spc="-1" strike="noStrike">
                <a:solidFill>
                  <a:srgbClr val="eae8e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2819160" cy="960480"/>
          </a:xfrm>
          <a:prstGeom prst="cloudCallout">
            <a:avLst>
              <a:gd name="adj1" fmla="val -14694"/>
              <a:gd name="adj2" fmla="val 140083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"/>
              </a:rPr>
              <a:t>¡que fácil!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35720" y="4149720"/>
            <a:ext cx="2708280" cy="2708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80880" y="380880"/>
            <a:ext cx="8425080" cy="916920"/>
          </a:xfrm>
          <a:prstGeom prst="rect">
            <a:avLst/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El </a:t>
            </a:r>
            <a:r>
              <a:rPr b="0" i="1" lang="en-US" sz="1800" spc="-1" strike="noStrike">
                <a:solidFill>
                  <a:srgbClr val="eae8e2"/>
                </a:solidFill>
                <a:latin typeface="Arial"/>
              </a:rPr>
              <a:t>Escritorio</a:t>
            </a: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 de Windows es el fondo de nuestra pantalla. Aparecen en él las </a:t>
            </a:r>
            <a:r>
              <a:rPr b="1" lang="en-US" sz="1800" spc="-1" strike="noStrike">
                <a:solidFill>
                  <a:srgbClr val="eae8e2"/>
                </a:solidFill>
                <a:latin typeface="Arial"/>
              </a:rPr>
              <a:t>ventanas</a:t>
            </a: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 y los </a:t>
            </a:r>
            <a:r>
              <a:rPr b="1" lang="en-US" sz="1800" spc="-1" strike="noStrike">
                <a:solidFill>
                  <a:srgbClr val="eae8e2"/>
                </a:solidFill>
                <a:latin typeface="Arial"/>
              </a:rPr>
              <a:t>iconos</a:t>
            </a: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 que representan los elementos a los que tenemos acceso.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676520"/>
            <a:ext cx="4752720" cy="3816360"/>
          </a:xfrm>
          <a:prstGeom prst="cloudCallout">
            <a:avLst>
              <a:gd name="adj1" fmla="val 97495"/>
              <a:gd name="adj2" fmla="val 12273"/>
            </a:avLst>
          </a:prstGeom>
          <a:solidFill>
            <a:srgbClr val="eae8e2">
              <a:alpha val="15000"/>
            </a:srgbClr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8e2"/>
                </a:solidFill>
                <a:latin typeface="Arial"/>
              </a:rPr>
              <a:t>Me imagino algo así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27600" y="2209680"/>
            <a:ext cx="1511280" cy="355680"/>
          </a:xfrm>
          <a:prstGeom prst="borderCallout1">
            <a:avLst>
              <a:gd name="adj1" fmla="val 18750"/>
              <a:gd name="adj2" fmla="val -8333"/>
              <a:gd name="adj3" fmla="val 242856"/>
              <a:gd name="adj4" fmla="val -73949"/>
            </a:avLst>
          </a:prstGeom>
          <a:solidFill>
            <a:srgbClr val="5f5f5f">
              <a:alpha val="9000"/>
            </a:srgbClr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torio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3960" y="5734080"/>
            <a:ext cx="1471680" cy="330120"/>
          </a:xfrm>
          <a:prstGeom prst="borderCallout1">
            <a:avLst>
              <a:gd name="adj1" fmla="val 18750"/>
              <a:gd name="adj2" fmla="val -8333"/>
              <a:gd name="adj3" fmla="val -340384"/>
              <a:gd name="adj4" fmla="val -5287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205000"/>
            <a:ext cx="647640" cy="2160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819520"/>
            <a:ext cx="2662200" cy="614160"/>
          </a:xfrm>
          <a:prstGeom prst="borderCallout1">
            <a:avLst>
              <a:gd name="adj1" fmla="val 18750"/>
              <a:gd name="adj2" fmla="val -8333"/>
              <a:gd name="adj3" fmla="val 140569"/>
              <a:gd name="adj4" fmla="val -69231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ana de una aplicación o programa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562720"/>
            <a:ext cx="1612800" cy="785520"/>
          </a:xfrm>
          <a:prstGeom prst="borderCallout1">
            <a:avLst>
              <a:gd name="adj1" fmla="val 18750"/>
              <a:gd name="adj2" fmla="val -8333"/>
              <a:gd name="adj3" fmla="val -93333"/>
              <a:gd name="adj4" fmla="val -35726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a de tareas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914400" cy="330120"/>
          </a:xfrm>
          <a:prstGeom prst="borderCallout1">
            <a:avLst>
              <a:gd name="adj1" fmla="val 18750"/>
              <a:gd name="adj2" fmla="val -8333"/>
              <a:gd name="adj3" fmla="val 37018"/>
              <a:gd name="adj4" fmla="val 109550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onos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581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4148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98620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003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581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7003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581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7003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81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7003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81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70036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8e2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114300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62320" y="1295280"/>
            <a:ext cx="6248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Representa la computadora personal. Permite acceder a carpetas o a discos con documentos e información del usuario.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2320" y="2438280"/>
            <a:ext cx="6553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Representa el maletín personal. En él se guardan los documentos que se necesita llevar de la oficina a casa o a otro lugar para seguir trabajando en ellos.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38280" y="350532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Este es un ejemplo de los muchos otros elementos que el usuario puede tener sobre su escritorio, cuando decide </a:t>
            </a:r>
            <a:r>
              <a:rPr b="0" i="1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personalizarlo</a:t>
            </a:r>
            <a:r>
              <a:rPr b="0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, es decir, adaptarlo a sus necesidades e intereses. El elemento que aquí se muestra corresponde a un programa de compresión de archivos.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38280" y="5254560"/>
            <a:ext cx="586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8e2"/>
                </a:solidFill>
                <a:latin typeface="Arial"/>
                <a:ea typeface="Times New Roman"/>
              </a:rPr>
              <a:t>Representa la papelera de la oficina. Tal como se muestra aquí está vacía. Cuando se han depositado archivos o carpetas en su interior, aparece llena de papeles.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bc03"/>
                </a:solidFill>
                <a:latin typeface="Arial"/>
                <a:ea typeface="Times New Roman"/>
              </a:rPr>
              <a:t>Los íconos que representan los objetos del </a:t>
            </a:r>
            <a:r>
              <a:rPr b="0" i="1" lang="es-ES_tradnl" sz="2400" spc="-1" strike="noStrike">
                <a:solidFill>
                  <a:srgbClr val="fdbc03"/>
                </a:solidFill>
                <a:latin typeface="Arial"/>
                <a:ea typeface="Times New Roman"/>
              </a:rPr>
              <a:t>escritorio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2455920" cy="2666880"/>
          </a:xfrm>
          <a:prstGeom prst="cloudCallout">
            <a:avLst>
              <a:gd name="adj1" fmla="val 32611"/>
              <a:gd name="adj2" fmla="val 95416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598760" cy="201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2438280"/>
            <a:ext cx="2590920" cy="2590920"/>
          </a:xfrm>
          <a:prstGeom prst="cloudCallout">
            <a:avLst>
              <a:gd name="adj1" fmla="val -43870"/>
              <a:gd name="adj2" fmla="val 84805"/>
            </a:avLst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8e2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n Windows se trabaja con </a:t>
            </a:r>
            <a:r>
              <a:rPr b="1" lang="es-ES" sz="1800" spc="-1" strike="noStrike">
                <a:solidFill>
                  <a:srgbClr val="eae8e2"/>
                </a:solidFill>
                <a:latin typeface="Arial"/>
              </a:rPr>
              <a:t>escritorio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, </a:t>
            </a:r>
            <a:r>
              <a:rPr b="1" lang="es-ES" sz="1800" spc="-1" strike="noStrike">
                <a:solidFill>
                  <a:srgbClr val="eae8e2"/>
                </a:solidFill>
                <a:latin typeface="Arial"/>
              </a:rPr>
              <a:t>carpetas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eae8e2"/>
                </a:solidFill>
                <a:latin typeface="Arial"/>
              </a:rPr>
              <a:t>archivos</a:t>
            </a:r>
            <a:r>
              <a:rPr b="0" lang="es-ES" sz="1800" spc="-1" strike="noStrike">
                <a:solidFill>
                  <a:srgbClr val="eae8e2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762120"/>
            <a:ext cx="3249720" cy="4680360"/>
          </a:xfrm>
          <a:prstGeom prst="rect">
            <a:avLst/>
          </a:prstGeom>
          <a:noFill/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En Windows se trabaja “sobre” el </a:t>
            </a:r>
            <a:r>
              <a:rPr b="0" i="1" lang="en-US" sz="2000" spc="-1" strike="noStrike">
                <a:solidFill>
                  <a:srgbClr val="eae8e2"/>
                </a:solidFill>
                <a:latin typeface="Arial"/>
              </a:rPr>
              <a:t>escritorio</a:t>
            </a: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Las </a:t>
            </a:r>
            <a:r>
              <a:rPr b="1" i="1" lang="en-US" sz="2000" spc="-1" strike="noStrike" u="sng">
                <a:solidFill>
                  <a:srgbClr val="eae8e2"/>
                </a:solidFill>
                <a:uFillTx/>
                <a:latin typeface="Arial"/>
              </a:rPr>
              <a:t>carpetas</a:t>
            </a: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 no son información en sí mismas, sino que son “recipientes” que sirven para organizar el contenido de nuestro computador. 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Los </a:t>
            </a:r>
            <a:r>
              <a:rPr b="1" i="1" lang="en-US" sz="2000" spc="-1" strike="noStrike" u="sng">
                <a:solidFill>
                  <a:srgbClr val="eae8e2"/>
                </a:solidFill>
                <a:uFillTx/>
                <a:latin typeface="Arial"/>
              </a:rPr>
              <a:t>archivos</a:t>
            </a: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 son datos que pueden ser </a:t>
            </a:r>
            <a:r>
              <a:rPr b="0" i="1" lang="en-US" sz="2000" spc="-1" strike="noStrike">
                <a:solidFill>
                  <a:srgbClr val="eae8e2"/>
                </a:solidFill>
                <a:latin typeface="Arial"/>
              </a:rPr>
              <a:t>programas</a:t>
            </a: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 (aplicaciones) o </a:t>
            </a:r>
            <a:r>
              <a:rPr b="0" i="1" lang="en-US" sz="2000" spc="-1" strike="noStrike">
                <a:solidFill>
                  <a:srgbClr val="eae8e2"/>
                </a:solidFill>
                <a:latin typeface="Arial"/>
              </a:rPr>
              <a:t>documentos</a:t>
            </a:r>
            <a:r>
              <a:rPr b="0" lang="en-US" sz="2000" spc="-1" strike="noStrike">
                <a:solidFill>
                  <a:srgbClr val="eae8e2"/>
                </a:solidFill>
                <a:latin typeface="Arial"/>
              </a:rPr>
              <a:t> (información) que utilizan y/o generan éstos.</a:t>
            </a:r>
            <a:endParaRPr b="0" lang="en-US" sz="2000" spc="-1" strike="noStrike">
              <a:solidFill>
                <a:srgbClr val="eae8e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5:32:31Z</dcterms:created>
  <dc:creator>J Barrios M</dc:creator>
  <dc:description/>
  <dc:language>en-US</dc:language>
  <cp:lastModifiedBy>Forestal</cp:lastModifiedBy>
  <dcterms:modified xsi:type="dcterms:W3CDTF">2009-03-20T21:23:44Z</dcterms:modified>
  <cp:revision>56</cp:revision>
  <dc:subject/>
  <dc:title>Diapositiva 1</dc:title>
</cp:coreProperties>
</file>