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94E-B0A2-414A-96BD-FACC354B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4DE-097A-4C1C-B775-E4789854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A11-9555-4352-9F1C-0C77DAD2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E28-242B-4CF5-96F2-2DD8295B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D92E-7D4F-4C2A-B04C-476E1C10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6AA9-5D8B-4030-A699-BA435BAC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E194-0945-4B94-BB00-F49A5495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6414-3B8F-40A2-B047-77F9701B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ECDF-CC9E-4477-A688-23896F30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AA1D-A923-41B3-9E3C-F044ED34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4D3D-35CB-426D-BA1B-B8D1BC98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B6F-7790-41AC-BA53-C54A0AD5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E6E3-11DB-4493-B139-A6B63109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0B6C-4818-4523-9F72-5AD2808F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4D61-DE6A-4E6A-9017-FD3CF6A9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8104-108F-4446-8C9E-4709443D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49EF-0A19-4F20-8F98-BA4F770D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BDC-38D3-4E83-ABE6-E1C5504B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525-1769-4CF6-8315-A729885E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FF4-6A3B-47FF-A87F-71305BAF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FA6-BDF6-4D91-A24B-5E1B21A2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BED-A63A-4DE8-A758-97075AF9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0D8-BE4C-412C-B629-DFCEDAF4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994-EA9F-4361-BF25-D0895935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851E-9E14-445D-A467-F34B59A459CC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0816-5B5D-4848-9095-39BCACCA095D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PODA DE ÁRBOLES URBANOS 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 Concepto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ván Grez 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tonio Vita 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a de forma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 realiza mediante una combinación de poda de raleo de ramas y poda de rebaje de las remanent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4800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a de mantenimien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antener en el tiempo la forma obtenida a través de la poda de form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Se realizan cada dos a cuatro año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oda Eucalyptus camaldulen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8720" y="1557360"/>
            <a:ext cx="3632040" cy="504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81600" y="1557360"/>
            <a:ext cx="3630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as excepciona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Corresponden a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podas severas que tienen por objetivo reducir el volumen de la copa de los árbo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Tienen carácter excepcion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Árboles que presentan una parte completa sec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vejecid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uy débi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stropead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ensidad de la po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 expresa en el % de la biomasa aérea extraí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liminación de biomasa foliar vigorosa ocasiona pérdida en crecimiento general del ejempl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 obstante, brotes remanentes se desarrollan con mayor vig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quilibrar ambos efect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é es la po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rta selectiva de parte de un árbol con un propósito definid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a de árboles urban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ratamiento más comú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da natural en formaciones boscos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da natural en árboles urbanos: poco efectiva por menor densid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bjetivo poda árboles urban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jorar estructura del ejempl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crementar vig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gurid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jorar estructura del ejemp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nes estéticos: silueta con hojas/caduc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mentar transparencia de la cop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jorar las características naturales de los árbo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stimular la producción flor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btener formas y siluetas artificiales, destinadas a complementar formaciones urban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quilibrar estructura aérea/radicular: equilibrar demanda del sistema aéreo a la oferta de las raíc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crementar vig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elgazamiento de la copa para mejorar la ventilación, iluminación y reducir problemas de enfermedad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oción de ramas que se rozan o se entrecruza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traer ramas rotas o dañada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over ramas enfermas o infestadas de insect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mover ramas que podrían ca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rimir las que obstruyen la visibilidad en calles o entradas de vehículos, semáforos, señaliza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cuperar árboles que han sido dañados por vient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liminar hojas secas y racimos frutales en palmer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rimir ramas que interfieren con líneas de servicio públ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ducir copas con altura suficiente para el paso de peatones y/o vehícul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pos de po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da de form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da de mantenimien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das excepciona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a de forma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bjetivo general: que el ejemplar adquiera una forma y densidad de copa adecuad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 propósito es conducir el árbol para tener una estructura de ramas principales fuertes y bien distribuid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 realiza durante los primeros añ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9:06:49Z</dcterms:created>
  <dc:creator>Universidad de Chile</dc:creator>
  <dc:description/>
  <dc:language>en-US</dc:language>
  <cp:lastModifiedBy>Universidad de Chile</cp:lastModifiedBy>
  <dcterms:modified xsi:type="dcterms:W3CDTF">2009-05-27T20:36:05Z</dcterms:modified>
  <cp:revision>14</cp:revision>
  <dc:subject/>
  <dc:title>Conceptos y técnicas de poda de árboles urbanos </dc:title>
</cp:coreProperties>
</file>