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FF7-4A2A-495A-AF37-DC17889E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6D6-6ADA-4673-9E4F-34644B1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125-01BD-4D30-AD2F-73BF4CA6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F4A-A00F-4ED9-9445-CF9B3506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60A-1DEE-4909-8CA6-2EF4B2A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0F9-3B09-47CD-A67D-57BAED6D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CFC-2BD8-4953-ACD2-6E61F282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27E-4F23-4D9A-A03B-118F0AD5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C5D-5EA8-4ABC-9E25-0A1D3500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043-4A05-4DD4-98B0-E3F664A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38A-99F5-4188-9FAD-0D8A39F5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793-5987-4385-ABB9-B182275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FF1E-0B98-4A0A-B726-FA515B963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s silviculturale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 analizados se pueden aplicar por primera vez para cambiar la condición de bosque nativo sin manejo a bosque nativo manejado, de composición y estructura acorde con los objetivos de manej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bo de la primera rotación bajo manejo, adquieren el carácter de perma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n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am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primera rotación para efectuar cambios profundos en la estructura y/o composición del bosque, cuando ésta(s) no cumple(n) con los objetivos d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ratamientos Transito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qu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9:50:19Z</dcterms:created>
  <dc:creator>Administrador</dc:creator>
  <dc:description/>
  <dc:language>en-US</dc:language>
  <cp:lastModifiedBy>Administrador</cp:lastModifiedBy>
  <dcterms:modified xsi:type="dcterms:W3CDTF">2007-08-27T19:56:12Z</dcterms:modified>
  <cp:revision>2</cp:revision>
  <dc:subject/>
  <dc:title>Tratamientos Transitorios</dc:title>
</cp:coreProperties>
</file>