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22F4-6749-4243-8FD4-F9C51F0A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1BC-F937-4E57-9F37-084A1E3B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A791-A447-469D-9A6A-A9CC5DE1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65F5-34E9-4A98-929B-742F9A40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CE62-A9A0-499B-942C-DBCDD4E0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2F17-7027-4225-8700-A401F552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871E-EFB2-4B46-9BF2-B039CD75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5BDB-8110-4FF7-8FB9-AEC80C7E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181D-742A-4631-9434-1D32113A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63D3-BF86-40BF-BFD5-82B45E4A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E2BF-CD63-48E3-BDE5-6A36034E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5ABC-C6BC-42F6-87AE-0952CCBC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AF95-6190-4056-B20F-C36057D96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ratamientos Transito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ratamientos Transito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s silviculturales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 analizados se pueden aplicar por primera vez para cambiar la condición de bosque nativo sin manejo a bosque nativo manejado, de composición y estructura acorde con los objetivos de manej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abo de la primera rotación bajo manejo, adquieren el carácter de perman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ratamientos Transito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plican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lusivament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primera rotación para efectuar cambios profundos en la estructura y/o composición del bosque, cuando ésta(s) no cumple(n) con los objetivos del mane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ratamientos Transito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rique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9:50:19Z</dcterms:created>
  <dc:creator>Administrador</dc:creator>
  <dc:description/>
  <dc:language>en-US</dc:language>
  <cp:lastModifiedBy>Administrador</cp:lastModifiedBy>
  <dcterms:modified xsi:type="dcterms:W3CDTF">2007-08-27T19:56:12Z</dcterms:modified>
  <cp:revision>2</cp:revision>
  <dc:subject/>
  <dc:title>Tratamientos Transitorios</dc:title>
</cp:coreProperties>
</file>