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D96-D1BB-4864-9DA2-C44A33BE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BFA-5F2D-4A43-8E94-FDB5B4EC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542-9997-41E2-8BA9-64032CEA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D55-95AB-484D-BDB3-66F6C178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BF5-4714-4935-8743-2A6CA8D9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6CF-44B7-4883-906D-D938DAC4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4C8-0D50-45B1-8731-04CC00E5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AB1-5868-4514-B1E4-74C9DF94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467-67ED-4A97-9445-A5313711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607-C4C0-4F4D-BF93-D41CAE8A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E0D-701C-44C3-99A3-B0D99D4D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4C4-C1C4-43E7-A773-3118EA02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60FD-47B0-4116-BB69-DE2ED1E80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ratamientos Transito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ratamientos Transito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s silviculturales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 analizados se pueden aplicar por primera vez para cambiar la condición de bosque nativo sin manejo a bosque nativo manejado, de composición y estructura acorde con los objetivos de manej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abo de la primera rotación bajo manejo, adquieren el carácter de perman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ratamientos Transito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n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sivame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primera rotación para efectuar cambios profundos en la estructura y/o composición del bosque, cuando ésta(s) no cumple(n) con los objetivos del mane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ratamientos Transito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riqu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9:50:19Z</dcterms:created>
  <dc:creator>Administrador</dc:creator>
  <dc:description/>
  <dc:language>en-US</dc:language>
  <cp:lastModifiedBy>Administrador</cp:lastModifiedBy>
  <dcterms:modified xsi:type="dcterms:W3CDTF">2007-08-27T19:56:12Z</dcterms:modified>
  <cp:revision>2</cp:revision>
  <dc:subject/>
  <dc:title>Tratamientos Transitorios</dc:title>
</cp:coreProperties>
</file>